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1238-9355-47E1-959A-86B6A96AA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90FA-2DDB-46C6-AF00-028BB8AEB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3C5B-EAF2-4FED-917C-1BA219127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C99C-4F26-4DBE-9CC4-F436A5A1A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FCEB-71C3-434F-BE4C-790C1C271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3581-3E3B-4E31-852B-761675479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5734-10ED-4644-8702-C37A40D96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2055-C259-4852-B3FB-FCCFD3897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5B62-493B-4254-905A-DAA38CCF2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0684-B930-42A1-9397-FA7F896CF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04DF-3524-453D-81CC-4CF0A65FA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75BF-31C4-4699-94D6-69601DB69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2DD4-D2AD-4133-9892-AD136BB20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75DF-580E-4A97-8E4E-344359096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DCA2-3A87-4DB3-8950-57E31E712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690C-D62B-4826-8285-DDDCFD25C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F0B9-ABFE-4F9C-9E2D-6586A58F5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30F2-7598-4F8A-AC6A-6999B1060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B453-46F7-4CE8-8E8F-031513A6B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2569-AD17-488E-997B-50E527E76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BDAF-3C70-4533-B030-210D298C0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6962-2BAE-43B0-A3C4-0813BD3A4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69A1-F5B0-40CF-8236-084443CA5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333440" y="761760"/>
            <a:ext cx="6477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IVER FLOWS BETWEEN NEW YORK AND NEW JERS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00600"/>
            <a:ext cx="7162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PE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66720" y="762120"/>
            <a:ext cx="7810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FESSION WAS JOSEPH, FATHER OF JES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402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AMES)  G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PLAYED THE TITLE CHARACTER IN "THE ROCKFORD FIL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266760" y="480060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GEORGE)  LOP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LATINO COMEDIAN WHO STARRED IN A SELF-TITLED SITCOM FROM 2002 TO 200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0060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MICHAEL)  CONNE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00280" y="75240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CRIME AUTHOR WHO WROTE THE HIERONYMOUS BOSCH NOVE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81160" y="480060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CALVIN)  COOLI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U.S. PRESIDENT BETWEEN HARDING AND  HOO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REPRESENTED BY #888888 IN HTM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OSEPH)  MCCART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04880" y="762120"/>
            <a:ext cx="7734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SENATOR WHO LED THE CHARGE AGAINST COMMUNIST SUBVERS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FESSION WAS JOSEPH, FATHER OF JES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006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W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O NAMES OF COLLEGES IN APPLETON WI, BRONXVILLE NY, CANTON NY, AND KINGSTON ONTARIO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D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04840" y="762120"/>
            <a:ext cx="693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IVER FLOWS BETWEEN NEW YORK AND NEW JERS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066680" y="4267080"/>
            <a:ext cx="7010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ST  NAMES  OF  PEOPLE  NAMED  JENNI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PLAYED THE TITLE CHARACTER IN "THE ROCKFORD FIL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LATINO COMEDIAN WHO STARRED IN A SELF-TITLED SITCOM FROM 2002 TO 200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CRIME AUTHOR WHO WROTE THE HIERONYMOUS BOSCH NOVE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U.S. PRESIDENT BETWEEN HARDING AND  HOO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REPRESENTED BY #888888 IN HTM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SENATOR WHO LED THE CHARGE AGAINST COMMUNIST SUBVERS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14440" y="762120"/>
            <a:ext cx="8115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O NAMES OF COLLEGES IN APPLETON WI, BRONXVILLE NY, CANTON NY, AND KINGSTON ONTARIO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9T13:34:25Z</dcterms:created>
  <dc:creator>Jennifer Budzinski</dc:creator>
  <dc:description/>
  <dc:language>en-US</dc:language>
  <cp:lastModifiedBy>Erich Friedman</cp:lastModifiedBy>
  <dcterms:modified xsi:type="dcterms:W3CDTF">2020-08-27T12:30:27Z</dcterms:modified>
  <cp:revision>410</cp:revision>
  <dc:subject/>
  <dc:title>Slide 1</dc:title>
</cp:coreProperties>
</file>