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AC3A-7227-4C7C-A87F-D466988B9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E727-DC13-474C-B143-73B528C38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2C67-48F7-4833-A451-F24CE16DD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174E-B478-45B6-A121-F159B07F3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3DF3-B9ED-4964-B669-215778BE7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4E8E-2F54-47DC-A097-08CA2CC19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18E7-73D3-4587-8D49-811E2154B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A4FC-7952-4D1C-ADDF-0BAF73DFE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BE74-6E03-4CF3-8251-01D4958D3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79DA-66FF-4F1D-9B0F-1DDF206AD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121E-D368-4D54-B915-4A77D50AC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CE29-AC49-4656-8830-95EDE1BB3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F6F6-C868-405D-BC3D-E047DF5A4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E10A-6AB2-4E16-B578-4A3FD7C4C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50C4-8D11-40E4-AFE5-44D74A848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2380-880A-47B6-81D8-D112DDABB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1A38-7654-4B7F-AF5C-7DD786CBF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02FD-F039-44D0-9C62-BC079862E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D767-66CC-4721-A396-12224B39E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5C0C-6180-479C-A231-44A1C2499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6AD2-7601-4659-AC77-E7486A79F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CA28-FDE6-4BAE-BE5F-518A2E517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0DDF-048E-4563-AECE-7A4ED1468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VER FLOWS BETWEEN NEW YORK AND NEW JERS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P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 WAS JOSEPH, FATHER OF JES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40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MES)  G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TITLE CHARACTER IN "THE ROCKFORD FIL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GEORGE)  LOP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LATINO COMEDIAN WHO STARRED IN A SELF-TITLED SITCOM FROM 2002 TO 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ICHAEL)  CONNE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5240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CRIME AUTHOR WHO WROTE THE HIERONYMOUS BOSCH NO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006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ALVIN)  COOL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U.S. PRESIDENT BETWEEN HARDING AND  HO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REPRESENTED BY #888888 IN HTM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SEPH)  MCCA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04880" y="762120"/>
            <a:ext cx="7734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ENATOR WHO LED THE CHARGE AGAINST COMMUNIST SUBVERS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 WAS JOSEPH, FATHER OF JES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W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NAMES OF COLLEGES IN APPLETON WI, BRONXVILLE NY, CANTON NY, AND KINGSTON ONTARIO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D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VER FLOWS BETWEEN NEW YORK AND NEW JERS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66680" y="4267080"/>
            <a:ext cx="701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PEOPLE  NAMED  JENN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TITLE CHARACTER IN "THE ROCKFORD FI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LATINO COMEDIAN WHO STARRED IN A SELF-TITLED SITCOM FROM 2002 TO 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CRIME AUTHOR WHO WROTE THE HIERONYMOUS BOSCH NOV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U.S. PRESIDENT BETWEEN HARDING AND  HO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REPRESENTED BY #888888 IN HTM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ENATOR WHO LED THE CHARGE AGAINST COMMUNIST SUBVER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NAMES OF COLLEGES IN APPLETON WI, BRONXVILLE NY, CANTON NY, AND KINGSTON ONTARIO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13:34:25Z</dcterms:created>
  <dc:creator>Jennifer Budzinski</dc:creator>
  <dc:description/>
  <dc:language>en-US</dc:language>
  <cp:lastModifiedBy>Erich Friedman</cp:lastModifiedBy>
  <dcterms:modified xsi:type="dcterms:W3CDTF">2020-08-27T12:30:27Z</dcterms:modified>
  <cp:revision>410</cp:revision>
  <dc:subject/>
  <dc:title>Slide 1</dc:title>
</cp:coreProperties>
</file>