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E888-C3CA-4CDA-BB07-453A45964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99E3-13D1-427E-8BFD-24DD8A5EA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FA11-7843-4BDD-BFD6-2A14AC8CE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C962-48F2-4836-8246-2DEFD21C9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380E-F40C-487D-ACD9-9C298BB68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E6AF-0010-4413-B7E5-814B51D5E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771E8-6901-4100-BDE6-FCD4EB3D3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ABBA-3F4C-4BC7-AF8F-E5AC65E4D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E0F5-D4D3-46D5-9A93-71B4FF222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3478-50F7-4C48-87DE-DFB18643A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E4E9-3454-464C-890D-1DE9CF3D9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ACDA-1FFE-4046-B7B7-E051B47BB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E06C-7765-4569-8690-232DEF52F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67B6-D0A4-46C4-AE8E-4D796EF9F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46CA-C66F-4626-862F-55C7BB989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7305-6BD6-4BFD-8288-A5D705F77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4BFE-2C30-4CC4-A09E-1AC907BEE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B625-A6DF-4F29-91B6-A35639B0F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90F4-80AF-42A2-8939-EEB5CC674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F04E-2F39-44D3-B77F-594D8C562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97E5-C02E-4074-B6E5-B642B9C12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2C97-C5F1-47A2-9D8F-5DCA64CCD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8E1D-2913-48B8-BF45-895875394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FLOWS BETWEEN NEW YORK AND NEW JERS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0060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P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 WAS JOSEPH, FATHER OF JES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40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G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TITLE CHARACTER IN "THE ROCKFORD FIL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26676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EORGE) 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LATINO COMEDIAN WHO STARRED IN A SELF-TITLED SITCOM FROM 2002 TO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ICHAEL)  CONN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5240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CRIME AUTHOR WHO WROTE THE HIERONYMOUS BOSCH NO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81160" y="480060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ALVIN)  COOL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PRESIDENT BETWEEN HARDING AND  HO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REPRESENTED BY #888888 IN HTM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OSEPH)  MCCART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04880" y="762120"/>
            <a:ext cx="7734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ENATOR WHO LED THE CHARGE AGAINST COMMUNIST SUBVERS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 WAS JOSEPH, FATHER OF JES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060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W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NAMES OF COLLEGES IN APPLETON WI, BRONXVILLE NY, CANTON NY, AND KINGSTON ONTARIO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FLOWS BETWEEN NEW YORK AND NEW JERS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66680" y="4267080"/>
            <a:ext cx="7010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PEOPLE  NAMED  JENNIF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THE TITLE CHARACTER IN "THE ROCKFORD FIL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LATINO COMEDIAN WHO STARRED IN A SELF-TITLED SITCOM FROM 2002 TO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CRIME AUTHOR WHO WROTE THE HIERONYMOUS BOSCH NOV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U.S. PRESIDENT BETWEEN HARDING AND  HO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REPRESENTED BY #888888 IN HTM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ENATOR WHO LED THE CHARGE AGAINST COMMUNIST SUBVER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DO NAMES OF COLLEGES IN APPLETON WI, BRONXVILLE NY, CANTON NY, AND KINGSTON ONTARIO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3:34:25Z</dcterms:created>
  <dc:creator>Jennifer Budzinski</dc:creator>
  <dc:description/>
  <dc:language>en-US</dc:language>
  <cp:lastModifiedBy>Erich Friedman</cp:lastModifiedBy>
  <dcterms:modified xsi:type="dcterms:W3CDTF">2020-08-27T12:30:27Z</dcterms:modified>
  <cp:revision>410</cp:revision>
  <dc:subject/>
  <dc:title>Slide 1</dc:title>
</cp:coreProperties>
</file>