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B19C-F5DB-4E9E-88A3-7B5C77035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1144-64EA-48CF-A886-23FBCA920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5259-9788-4E97-81AA-8B9213CDB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2331-9BA1-4205-AA0E-DBFE515DE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DA18-E059-4FAC-83B3-6D8A2E837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0982-AEC1-445A-8A07-5391245B4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7856-D8B7-4A8A-81B9-74670648D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4A6F-A6A2-4179-B197-77B4660EA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E88B-83A3-42F8-85F7-536FC97DB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95B7-20A1-4440-891C-129BB3F20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E694-59F7-4C9C-95C7-462314A98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B9DF-AD33-4FA3-A53D-93E6C4CF9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DDFA-C33A-46D1-A0DD-4233511F5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1AAB-D8EF-4953-AE55-17D47C349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3304-5307-4817-9FA2-10020BC29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8FFF-F3C4-4EC0-B46E-86C0ED017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09D3-7FEE-4F74-A4E9-7925C6614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8A3D-C67A-4E31-9607-C86F43E1C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9CE3-0650-4124-8CEA-85023EDEF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37C9-34AC-4046-BA03-42DCAB738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FD87-9657-47D9-BED7-9B1FEFA9D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E604-B710-4AD9-920C-954A16667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4883-3F9F-4CA3-A309-EF6C2E2A4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SIE GOLFER WHO WON 20 PGA TOURNAMENTS AND 2 MAJORS IS KNOWN AS "THE GREAT WHITE SH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E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TAPESTRY" TOPPED THE CHARTS FOR 15 WEEKS IN 197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  AND  D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RF CITY", "DEAD MAN'S CURVE", AND "LITTLE OLD LADY FROM PASADE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IA 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KIMBERLY ON "MELROSE PLACE" AND BREE ON "DESPERATE HOUSEWI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NDI  LAU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IRLS JUST WANT TO HAVE F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SCHOOL'S OUT" AND "I'M EIGHTEEN" IS KNOWN AS THE GODFATHER OF SHOCK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8240"/>
            <a:ext cx="784872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2006 FILM ABOUT THE ASSASSINATION OF JFK'S BROTHE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IN 6 CHILDREN'S BOOKS      BY BEATRICE PO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TAPESTRY" TOPPED THE CHARTS  FOR 15 WEEKS IN 197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T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BOXER TO BE HEAVYWEIGHT CHAMP, BEFORE HE SERVED 3 YEARS FOR R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  NO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SIE GOLFER WHO WON 20 PGA TOURNAMENTS AND 2 MAJORS IS KNOWN AS "THE GREAT WHITE SH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14400" y="3809880"/>
            <a:ext cx="7315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WERE  THE  MAJOR  CHARACTERS  ON  "THE  BRADY  BUNCH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RF CITY", "DEAD MAN'S CURVE", AND "LITTLE OLD LADY FROM PASADE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KIMBERLY ON "MELROSE PLACE" AND BREE ON "DESPERATE HOUSEWI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IRLS JUST WANT TO HAVE F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SCHOOL'S OUT" AND "I'M EIGHTEEN" IS KNOWN AS THE GODFATHER OF SHOCK R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2006 FILM ABOUT THE ASSASSINATION OF JFK'S BROTHE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IN 6 CHILDREN'S BOOKS      BY BEATRICE PO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BOXER TO BE HEAVYWEIGHT CHAMP, BEFORE HE SERVED 3 YEARS FOR R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17:17:59Z</dcterms:created>
  <dc:creator>Jennifer Budzinski</dc:creator>
  <dc:description/>
  <dc:language>en-US</dc:language>
  <cp:lastModifiedBy>Erich Friedman</cp:lastModifiedBy>
  <dcterms:modified xsi:type="dcterms:W3CDTF">2020-08-23T20:20:55Z</dcterms:modified>
  <cp:revision>378</cp:revision>
  <dc:subject/>
  <dc:title>Slide 1</dc:title>
</cp:coreProperties>
</file>