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F3C6-B3B8-4129-A75B-4B1A64E15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C1E-BD7E-40F6-94E6-CD509D7F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E758-A40B-4048-8ABB-712E17CAF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A6D9-95E8-4DEE-850E-D0BA300FA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FCDF-7164-4AD6-A55B-DC6FCED86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B6A6-A3F3-497F-A127-0759CE88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7C67-CDA9-4A35-8389-8B9887BE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6B8F-7E15-4840-8FA7-C9420CCDF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B431-0503-4D48-A937-97AEC3A7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E9FB-21E3-4851-AC65-8AE6AA7FC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158A-DA80-49FD-9221-D98A08AB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D47-6D87-445F-9297-4429B1B6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392B-EBFA-4856-8129-AF750A5CE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6D2-01F2-4AFF-A9A6-C8A125C3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B3F8-8C8A-449A-945A-4A7D5ADF5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084-4216-481A-93D0-C9C04C5D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39C3-4824-4FC1-A9AF-A5AA4A0F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098-3356-498C-AE28-841F1F476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10D-9AE2-4B4F-9A41-D554A8C88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C8F9-0780-44BF-B1D2-811072A37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8BB2-33D7-4CED-B1AC-46A48AB5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11A2-19E7-4473-9960-36F74258D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B10D-3E4F-4B7D-BD70-14D36262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SIE GOLFER WHO WON 20 PGA TOURNAMENTS AND 2 MAJORS IS KNOWN AS "THE GREAT WHITE SH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APESTRY" TOPPED THE CHARTS FOR 15 WEEKS IN 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  AND  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RF CITY", "DEAD MAN'S CURVE", AND "LITTLE OLD LADY FROM PASADE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IA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IMBERLY ON "MELROSE PLACE" AND BREE ON "DESPERATE HOUSEWI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DI  LA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IRLS JUST WANT TO HAVE F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SCHOOL'S OUT" AND "I'M EIGHTEEN" IS KNOWN AS THE GODFATHER OF SHOCK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8240"/>
            <a:ext cx="784872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06 FILM ABOUT THE ASSASSINATION OF JFK'S BROTHE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6 CHILDREN'S BOOKS      BY BEATRICE PO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APESTRY" TOPPED THE CHARTS  FOR 15 WEEKS IN 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BOXER TO BE HEAVYWEIGHT CHAMP, BEFORE HE SERVED 3 YEARS FOR R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NO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SIE GOLFER WHO WON 20 PGA TOURNAMENTS AND 2 MAJORS IS KNOWN AS "THE GREAT WHITE SH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38098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WERE  THE  MAJOR  CHARACTERS  ON  "THE  BRADY  BUNC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RF CITY", "DEAD MAN'S CURVE", AND "LITTLE OLD LADY FROM PASADE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IMBERLY ON "MELROSE PLACE" AND BREE ON "DESPERATE HOUSEWI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IRLS JUST WANT TO HAVE F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SCHOOL'S OUT" AND "I'M EIGHTEEN" IS KNOWN AS THE GODFATHER OF SHOCK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06 FILM ABOUT THE ASSASSINATION OF JFK'S BROTHE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6 CHILDREN'S BOOKS      BY BEATRICE PO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BOXER TO BE HEAVYWEIGHT CHAMP, BEFORE HE SERVED 3 YEARS FOR R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7:17:59Z</dcterms:created>
  <dc:creator>Jennifer Budzinski</dc:creator>
  <dc:description/>
  <dc:language>en-US</dc:language>
  <cp:lastModifiedBy>Erich Friedman</cp:lastModifiedBy>
  <dcterms:modified xsi:type="dcterms:W3CDTF">2020-08-23T20:20:55Z</dcterms:modified>
  <cp:revision>378</cp:revision>
  <dc:subject/>
  <dc:title>Slide 1</dc:title>
</cp:coreProperties>
</file>