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5E0D-26DA-4852-96BA-79FFCE2F0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4C11-07FA-42C1-8E55-804DCAFA7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C289-B00F-4D4E-947C-8D58A71BF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08FC-0CBE-4DB4-970C-B45AFD917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730B-B7B1-4BE8-8A65-93F6A9479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6085-3C20-464A-81AD-F2F1727FA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6F85-722A-4059-B217-B1F796C88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BB81-11BC-42C6-9AFF-E6F1A6CB8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DFCD-52DA-4206-BBD1-720DF7711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17DF-BB72-4D87-A254-6953E38D2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767C-646B-48D7-A1C8-D0946053A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80FC-944E-420C-ADD0-B9CF40A83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C53B-0E9A-4BAE-91BB-1A5EE05CF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9DDD-EEF3-485C-84EB-BFB392B35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EB27-58D9-4CD6-8F91-4E10AA79D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DCFC-0155-47C1-B06D-2F89E4D42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F95B-532D-4244-8095-B52E30440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C7BF-6883-4B59-B0E5-B36DEC38E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FACC-CFD0-4B6A-9622-8F8D1EB72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B1B2-AE41-4D77-AE95-096C129B9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B848-BD1A-4623-A152-3D1D1D4E9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D824-675A-43F2-98CC-FEE4996D8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F7BE-B15F-4878-B1B8-7E5AF9904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SSIE GOLFER WHO WON 20 PGA TOURNAMENTS AND 2 MAJORS IS KNOWN AS "THE GREAT WHITE SHAR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OLE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 "TAPESTRY" TOPPED THE CHARTS FOR 15 WEEKS IN 197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  AND  D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URF CITY", "DEAD MAN'S CURVE", AND "LITTLE OLD LADY FROM PASADE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IA 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KIMBERLY ON "MELROSE PLACE" AND BREE ON "DESPERATE HOUSEWIV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YNDI  LAU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IRLS JUST WANT TO HAVE F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CE  COO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SCHOOL'S OUT" AND "I'M EIGHTEEN" IS KNOWN AS THE GODFATHER OF SHOCK R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8240"/>
            <a:ext cx="7848720" cy="29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2006 FILM ABOUT THE ASSASSINATION OF JFK'S BROTHER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RAB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AIN CHARACTER IN 6 CHILDREN'S BOOKS      BY BEATRICE PO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 "TAPESTRY" TOPPED THE CHARTS  FOR 15 WEEKS IN 197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E  TY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BOXER TO BE HEAVYWEIGHT CHAMP, BEFORE HE SERVED 3 YEARS FOR RA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  NO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SSIE GOLFER WHO WON 20 PGA TOURNAMENTS AND 2 MAJORS IS KNOWN AS "THE GREAT WHITE SHA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14400" y="3809880"/>
            <a:ext cx="7315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FIRST  NAMES  WERE  THE  MAJOR  CHARACTERS  ON  "THE  BRADY  BUNCH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URF CITY", "DEAD MAN'S CURVE", AND "LITTLE OLD LADY FROM PASADEN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KIMBERLY ON "MELROSE PLACE" AND BREE ON "DESPERATE HOUSEWIV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IRLS JUST WANT TO HAVE F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SCHOOL'S OUT" AND "I'M EIGHTEEN" IS KNOWN AS THE GODFATHER OF SHOCK RO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2006 FILM ABOUT THE ASSASSINATION OF JFK'S BROTHER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AIN CHARACTER IN 6 CHILDREN'S BOOKS      BY BEATRICE POT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BOXER TO BE HEAVYWEIGHT CHAMP, BEFORE HE SERVED 3 YEARS FOR RA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17:17:59Z</dcterms:created>
  <dc:creator>Jennifer Budzinski</dc:creator>
  <dc:description/>
  <dc:language>en-US</dc:language>
  <cp:lastModifiedBy>Erich Friedman</cp:lastModifiedBy>
  <dcterms:modified xsi:type="dcterms:W3CDTF">2020-08-23T20:20:55Z</dcterms:modified>
  <cp:revision>378</cp:revision>
  <dc:subject/>
  <dc:title>Slide 1</dc:title>
</cp:coreProperties>
</file>