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045C-3177-4301-A65C-A92BA60C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B886-06E1-496A-9217-EE98FECD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992A-8D1D-4DDE-9DB1-705C603F4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8A5C-85FF-4234-A985-1407EEBF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3AF4-F302-4C32-9EB1-282C42F1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D606-57C3-47BD-AA68-ADC0A0E6F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D219-B4C4-4B59-A70D-F8F00F271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A4BE-40A5-424C-ADF5-E575F79B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F999-7445-4DFD-918F-A048CF32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D317-6520-4F31-A375-3BDB1CE4F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9186-7423-46DA-9C86-4E55519F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FD66-D8A3-4AA4-96CA-83A55758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DFC6-3185-4718-9D7E-25DA3B46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792-D315-420C-A0E9-6F345D065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5D5-EE80-437D-AF4B-80C274140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DED2-574B-4A74-8C32-28DD80BC3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8AEA-36C7-4B9C-AF72-62BFCD2B9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EDDC-6381-43A8-941E-D8211117A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529C-388E-439D-9227-C1684551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6F46-2A16-42CC-A9F5-8763B230E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1A0-027C-48E6-8B22-2870243E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C85-9373-41E5-9AC4-1CA9B124A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5C92-15E2-4CFA-A88B-48E42A2A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OK FILL IN THE BLANK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PI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YANN MARTEL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CHAMPION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KURT VONNEGU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QUIET ____ THE WESTERN FRON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RICH MARIA REMARQU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280" y="762120"/>
            <a:ext cx="8839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TERSHIP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CHARD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____ A MOCKINGBIR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ARPER LE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R AND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EO TOLSTO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77960"/>
            <a:ext cx="769608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TALE OF ____ CITI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ARLES DICKEN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BBIT,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UPDIK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CHAMPION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KURT VONNEGU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0060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-19080" y="76212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EMEMBRANCE OF THINGS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CEL PROUST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OF PI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YANN MARTEL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267080"/>
            <a:ext cx="6553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BY  THE  WORD  "TIM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QUIET ____ THE WESTERN FRON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RICH MARIA REMARQU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762120"/>
            <a:ext cx="8839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TERSHIP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RICHARD ADAM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____ A MOCKINGBIRD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HARPER LE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R AND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EO TOLSTO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TALE OF ____ CITIES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ARLES DICKEN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BBIT,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UPDIK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EMEMBRANCE OF THINGS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CEL PROUST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3:49:08Z</dcterms:created>
  <dc:creator>Jennifer Budzinski</dc:creator>
  <dc:description/>
  <dc:language>en-US</dc:language>
  <cp:lastModifiedBy>Erich Friedman</cp:lastModifiedBy>
  <dcterms:modified xsi:type="dcterms:W3CDTF">2020-08-27T12:32:37Z</dcterms:modified>
  <cp:revision>407</cp:revision>
  <dc:subject/>
  <dc:title>Slide 1</dc:title>
</cp:coreProperties>
</file>