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D4C-9609-4ED1-8688-04BA885C4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D42-874B-420B-9248-4FE0F2F5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D8E8-0AEE-4F7F-86C8-90315FEE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C23-E60A-45B1-AF0A-5C6717DE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0B9-5F59-4B16-9433-B70AC7E3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640-BF08-44BC-B896-C5A1E630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D917-23E9-49DF-AD77-F3079AF2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6EB8-A4E1-44BD-8207-1C4EE07B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A3A7-0CCF-48B9-9F9E-3C13E6B8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C41-1AB3-47BA-88B3-A4D04208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88D-FDE2-4A2C-ACB5-1A01D8AE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F00C-44F0-4829-9E41-D8D069AB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E95-B8DE-4695-B2E3-BFAACE91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4214-6A80-4BF3-B0E9-F1A22DBD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F2B-BD60-4F47-9B45-8F9847B9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4B3B-D2BC-4B2C-9E29-BE3A0280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52B4-A289-4A83-A5DF-53BDB711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081-EF73-4A2F-9F39-FF4884E0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77D-00A7-4938-AD3A-F5DC6D60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3D9-5233-432B-A5BA-C5929B41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93A1-5620-4FD9-92BD-09FC98D2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7A6E-CB59-4021-880D-E169A355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F24-6D1B-4BA8-B0D7-1875B068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77960"/>
            <a:ext cx="76960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-190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267080"/>
            <a:ext cx="655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TIM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3:49:08Z</dcterms:created>
  <dc:creator>Jennifer Budzinski</dc:creator>
  <dc:description/>
  <dc:language>en-US</dc:language>
  <cp:lastModifiedBy>Erich Friedman</cp:lastModifiedBy>
  <dcterms:modified xsi:type="dcterms:W3CDTF">2020-08-27T12:32:37Z</dcterms:modified>
  <cp:revision>407</cp:revision>
  <dc:subject/>
  <dc:title>Slide 1</dc:title>
</cp:coreProperties>
</file>