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EE9-C49F-4769-90D3-DB6CA835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81B1-9A66-4774-9365-FBA77B34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28A0-629A-4FA2-8FF1-01761656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367-BE0A-4986-A174-12BCC8E0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FA38-2355-4D8C-9403-BE5488BE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694F-C092-4406-A9D6-B0C8986B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2BE-9329-4C4B-9BFA-4497F829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7959-C82C-44FD-98FC-6FFCDA45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82C-0E1C-47E5-83FE-0C856206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8F0-2C9A-4C67-9C5E-F509DD54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11A0-FEEE-4A38-80F8-74900894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ECB-DE70-4447-A9B7-D2593683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AC4-7D0F-4000-AFD8-622BD97B1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2FB-C441-4508-B9BC-5F4BAA48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5957-F367-4212-A69F-78050A6C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451B-821D-4732-9BEB-89F338B7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A98-A97F-49BA-9FDE-DBA557B5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582C-58A7-45FB-BA39-CCE9E3547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A005-220D-479D-BCC7-FA523614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E3A7-D634-4E94-90CF-3AE7973A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6121-03F3-4984-B1F6-1454D6E8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592-DEBF-45EA-8651-8EDEFAF5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093C-15C3-4022-9486-0635A965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PI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YANN MARTE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CHAMPION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KURT VONNEGU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QUIET ____ THE WESTERN FRON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RICH MARIA REMARQU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TERSHIP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CHARD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____ A MOCKINGBIR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ARPER LE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R AND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EO TOLSTO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77960"/>
            <a:ext cx="76960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TALE OF ____ CITI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ARLES DICKE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BBIT,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UPDIK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CHAMPION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KURT VONNEGU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006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-1908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EMEMBRANCE OF THINGS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CEL PROUS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PI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YANN MARTE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267080"/>
            <a:ext cx="6553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TIM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QUIET ____ THE WESTERN FRON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RICH MARIA REMARQU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TERSHIP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CHARD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____ A MOCKINGBIRD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ARPER LE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R AND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EO TOLSTO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TALE OF ____ CITIE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ARLES DICKEN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BBIT,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UPDIK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EMEMBRANCE OF THINGS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CEL PROUS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3:49:08Z</dcterms:created>
  <dc:creator>Jennifer Budzinski</dc:creator>
  <dc:description/>
  <dc:language>en-US</dc:language>
  <cp:lastModifiedBy>Erich Friedman</cp:lastModifiedBy>
  <dcterms:modified xsi:type="dcterms:W3CDTF">2020-08-27T12:32:37Z</dcterms:modified>
  <cp:revision>407</cp:revision>
  <dc:subject/>
  <dc:title>Slide 1</dc:title>
</cp:coreProperties>
</file>