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723-9610-4B25-8B2F-4B27DFDBA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5CAD-2872-4C95-B4A5-6F13ABC3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B3F-4987-4D46-A3C0-6632C7E8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048A-675E-4709-A81B-EE19A826E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99AD-B2C2-427A-B3F9-150E14209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9B38-155C-48CA-A4EC-54D50584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E39A-C4FB-47C6-B255-048FD252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1C76-A3C0-41AF-BB48-50C25B165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69B-4840-440F-8009-AE24A5B4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A2E2-92B3-46E6-9608-85810889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9080-91AB-43A0-B52C-F0A49DFE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347A-A073-41C9-8C83-9615144AF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A6A4-F64C-4BFA-B6A7-597FCAB3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C756-80D6-496B-8A81-4B3FF58FA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62F2-CD71-45D8-9E51-D0C54F1D1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114-34B4-4C7C-B8D1-B15435BAB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F7F9-11CB-4562-B567-041D69816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136-A940-4B30-805C-5E87E82B9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7CE-98C8-43D6-AA85-C7620494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DC47-27AE-4F70-B15D-5186556C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33EF-ED18-4EA8-8ADC-097841411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A8FD-840A-4605-B0F6-20384E12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F2CD-54BF-4BD9-8C91-ED1C45FD7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T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S  BEFORE  S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G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Y–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LL ME" AND "HEART OF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OTAGONIST OF EMILY BRONTË'S NOVEL "WUTHERING HE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OMIC  STR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, MOST POPULAR IN THE 1930'S, IS SIMILAR TO A WALTZ, BUT IN 4-4 TIME INSTEAD OF 3-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E QUOTE FROM JESUS'S SERMON ON THE MOUNT: "DO NOT GIVE WHAT IS HOLY TO THE DOGS, NOR CAST YOUR ___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BOB MARLEY'S SON, WHO IS ALSO A REGGAE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ONLY SITTING HOUSE MEMBER TO BE ELECTED PRESIDENT OF THE U.S.,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SKETBALL PLAY DOES ONE PLAYER THROW THE BALL JUST ABOVE THE BASKET TO ANOTHER PLAYER WHO SC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ADULT FOOD ALLERGY, AFTER SHELLF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FAST-FOOD CHICKEN RESTAURANT, AFTER KF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4:47:46Z</dcterms:created>
  <dc:creator>Jennifer Budzinski</dc:creator>
  <dc:description/>
  <dc:language>en-US</dc:language>
  <cp:lastModifiedBy>Erich Friedman</cp:lastModifiedBy>
  <dcterms:modified xsi:type="dcterms:W3CDTF">2020-08-27T12:34:27Z</dcterms:modified>
  <cp:revision>404</cp:revision>
  <dc:subject/>
  <dc:title>Slide 1</dc:title>
</cp:coreProperties>
</file>