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064A-BFFC-43CF-8F5D-9B334CC6B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FBB4-7B7D-490F-90B6-A87CAB3E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2A87-D8AD-43EA-9561-50A3A9983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4686-36CD-426A-8B41-A7C53E8C0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C096-2E9D-4681-B595-1507FA87D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DE23-E3E6-42DF-AA5E-EEF4F9D3D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7C0A-A137-4B06-8CDC-8EE1EDC2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43FF-9340-4FBE-BBA9-60DB99CE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DAE5-C6C7-4264-80AA-0E1DC328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D75A-9FDA-4B82-B884-A6219FE28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F41D-ADED-4C24-AE63-519A437A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896F-581F-4BAA-96B2-AC6784489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AAE7-ADB6-4D6A-B859-3A8F60FF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13BE-DE2F-4D39-8EF1-243DD92D7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2591-0604-4CA0-BF26-9D8F056D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B28A-0B81-46F2-905C-27E1E681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17B8-D41E-4E86-8146-07AAC7F2A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880-11BB-448A-823B-1E6CAF46D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7AA5-94FE-4C01-95F9-EE69B8BF8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6A5F-9983-44D4-B1CF-D8EF30245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18F8-8E4E-46DF-8380-52E0ED79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CD5E-28FC-4F4F-9363-D602F3B5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E291-92E9-4B7D-8CB8-9F21B72B5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EMILY BRONTË'S NOVEL "WUTHERING HE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N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LL ME" AND "HEART OF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T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, MOST POPULAR IN THE 1930'S, IS SIMILAR TO A WALTZ, BUT IN 4-4 TIME INSTEAD OF 3-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S  BEFORE  S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QUOTE FROM JESUS'S SERMON ON THE MOUNT: "DO NOT GIVE WHAT IS HOLY TO THE DOGS, NOR CAST YOUR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G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B MARLEY'S SON, WHO IS ALSO A REGGAE MUS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SITTING HOUSE MEMBER TO BE ELECTED PRESIDENT OF THE U.S., IN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Y–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SKETBALL PLAY DOES ONE PLAYER THROW THE BALL JUST ABOVE THE BASKET TO ANOTHER PLAYER WHO SC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ADULT FOOD ALLERGY, AFTER SHELL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LL ME" AND "HEART OF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FAST-FOOD CHICKEN RESTAURANT, AFTE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CL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EMILY BRONTË'S NOVEL "WUTHERING HE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MIC  STR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, MOST POPULAR IN THE 1930'S, IS SIMILAR TO A WALTZ, BUT IN 4-4 TIME INSTEAD OF 3-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QUOTE FROM JESUS'S SERMON ON THE MOUNT: "DO NOT GIVE WHAT IS HOLY TO THE DOGS, NOR CAST YOUR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B MARLEY'S SON, WHO IS ALSO A REGGAE MUS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SITTING HOUSE MEMBER TO BE ELECTED PRESIDENT OF THE U.S., IN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SKETBALL PLAY DOES ONE PLAYER THROW THE BALL JUST ABOVE THE BASKET TO ANOTHER PLAYER WHO SCO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ADULT FOOD ALLERGY, AFTER SHELL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FAST-FOOD CHICKEN RESTAURANT, AFTER KF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4:47:46Z</dcterms:created>
  <dc:creator>Jennifer Budzinski</dc:creator>
  <dc:description/>
  <dc:language>en-US</dc:language>
  <cp:lastModifiedBy>Erich Friedman</cp:lastModifiedBy>
  <dcterms:modified xsi:type="dcterms:W3CDTF">2020-08-27T12:34:27Z</dcterms:modified>
  <cp:revision>404</cp:revision>
  <dc:subject/>
  <dc:title>Slide 1</dc:title>
</cp:coreProperties>
</file>