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CAFE-731D-43A0-B30E-330B26835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2C92-B68E-4E31-8A0C-F19BEA926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40BD-F5FF-466E-96D2-845F82EE1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7C21-A589-4241-AD7B-D220E3A03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7389-1667-44AE-BB84-2507338B1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633C-DAB5-419C-A43C-D3D6A4739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A514-59A8-45C6-82A7-8F5B47AA5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ED5E-2367-43C5-B122-723D44F98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8A2F-68E5-49FA-9A51-40535481A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FF48-A93C-43E7-860E-D16DDC668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DDF0-554C-42AD-928C-F49046F9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50B7-55AF-4462-8C5B-76677A2EB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B917-33CF-4BD1-BDA4-68692E734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B1FC-802F-45A6-B453-B8A85EFB8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0BB0-E208-4C4D-AF75-38630AFC5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C688-5F8F-4FA5-98C1-98717750B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30F8-DFAD-42C5-97D9-11E116BDF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42FD-65D9-4CE2-A8B2-706767B4B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70CA-4850-4421-8306-B59CC2EE1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F051-C959-4A9A-BFAE-60F815347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7FDC-AF4D-4FB4-ACB7-97977C15F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E6CD-A177-4D0E-94F1-E6E3E6739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3714-4D1C-408A-85E9-F1A3F8DF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EMILY BRONTË'S NOVEL "WUTHERING HE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N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LL ME" AND "HEART OF G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T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, MOST POPULAR IN THE 1930'S, IS SIMILAR TO A WALTZ, BUT IN 4-4 TIME INSTEAD OF 3-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S  BEFORE  S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QUOTE FROM JESUS'S SERMON ON THE MOUNT: "DO NOT GIVE WHAT IS HOLY TO THE DOGS, NOR CAST YOUR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G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B MARLEY'S SON, WHO IS ALSO A REGGAE MUSIC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SITTING HOUSE MEMBER TO BE ELECTED PRESIDENT OF THE U.S., IN 18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Y–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SKETBALL PLAY DOES ONE PLAYER THROW THE BALL JUST ABOVE THE BASKET TO ANOTHER PLAYER WHO SC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ADULT FOOD ALLERGY, AFTER SHELL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LL ME" AND "HEART OF GL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FAST-FOOD CHICKEN RESTAURANT, AFTER KF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CL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EMILY BRONTË'S NOVEL "WUTHERING HE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OMIC  STR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, MOST POPULAR IN THE 1930'S, IS SIMILAR TO A WALTZ, BUT IN 4-4 TIME INSTEAD OF 3-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QUOTE FROM JESUS'S SERMON ON THE MOUNT: "DO NOT GIVE WHAT IS HOLY TO THE DOGS, NOR CAST YOUR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B MARLEY'S SON, WHO IS ALSO A REGGAE MUSIC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SITTING HOUSE MEMBER TO BE ELECTED PRESIDENT OF THE U.S., IN 18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SKETBALL PLAY DOES ONE PLAYER THROW THE BALL JUST ABOVE THE BASKET TO ANOTHER PLAYER WHO SCO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ADULT FOOD ALLERGY, AFTER SHELLF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FAST-FOOD CHICKEN RESTAURANT, AFTER KF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4:47:46Z</dcterms:created>
  <dc:creator>Jennifer Budzinski</dc:creator>
  <dc:description/>
  <dc:language>en-US</dc:language>
  <cp:lastModifiedBy>Erich Friedman</cp:lastModifiedBy>
  <dcterms:modified xsi:type="dcterms:W3CDTF">2020-08-27T12:34:27Z</dcterms:modified>
  <cp:revision>404</cp:revision>
  <dc:subject/>
  <dc:title>Slide 1</dc:title>
</cp:coreProperties>
</file>