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44EB0-EB31-45C0-B102-1B8B6838C4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E812E-64EF-4018-9633-B8DA4F7566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2390B-A4AF-4DC0-997E-212ABE5EA7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F9E9F-18D1-4FEE-A61B-B4CB8EAE61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33B36-6CCD-4897-85E8-0B2C98C300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C4CBC-0C75-46B3-BADC-C48B6213B4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02224-1C7C-4781-B5CC-970F16EC49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A41A2-78E4-4C17-AAE2-C0B440A216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19B66-B069-47F6-9DFA-CDE1CF915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D79AD-DD3D-4690-9EA5-C2008E2FC3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4B838-F9AE-4DCB-983E-8E7230CC94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BC32C-7912-4600-B18A-D437E8F694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07857-6A87-40CB-8C63-6D0DDEAD4C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B7FEE-B831-4704-9CEF-31CCDBDC42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10F03-A83F-4D2F-885E-6E5F757890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7435C-AAA7-4475-87A9-D38AC1E19F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22EA4-9C2E-4076-BBF2-B6E4A30EF0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361A8-98EF-4058-9C21-7B7B2B9255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A5A77-2254-487D-AA38-AC8618C15B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7B115-2783-4F22-BF37-2CC51E7300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91F81-7421-4572-A2F4-C561D9268A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CDFA1-8F19-49B0-B0E2-8467FC86D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A4D01-36DD-4B96-87BF-16C5FD6FD3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28520" y="15238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ACTRESS WHO STARRED WITH HUMPHREY BOGART IN "THE BIG SLEEP", "DARK PASSAGE", AND "KEY LARGO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SS  (GELLE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257480" y="762120"/>
            <a:ext cx="6629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"FRIENDS" CHARACTER PLAYED BY DAVID SCHWIMM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VE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IN LOGIC MEANS "THE STATEMENT WITH THE HYPOTHESIS AND CONCLUSION SWITCHE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I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76240" y="762120"/>
            <a:ext cx="73915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GREEK GODDESS OF VICTO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33520" y="76212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 5-LETTER WORD FOR THE LOWEST CLASS OF TRAVEL ON AIRLINES, SOMETIMES CALLED "ECONOM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THE)  GUESS  (WH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7168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MIDDLE WORD IN THE NAME OF CANADA'S MOST POPULAR ROCK GROUP IN THE 60'S AND 70'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LV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23960" y="762120"/>
            <a:ext cx="7696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NAME OF COOLIDGE, THE 3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RESIDENT OF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76920"/>
            <a:ext cx="5943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JOE)  KLE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28560" y="762120"/>
            <a:ext cx="78868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POLITICAL COLUMNIST FOR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TIM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AGAZINE WHO WROTE "PRIMARY COLOR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"FRIENDS" CHARACTER PLAYED BY DAVID SCHWIMM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295280" y="4876920"/>
            <a:ext cx="6553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LPH  (NADE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04920" y="762120"/>
            <a:ext cx="85341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U.S. PRESIDENTIAL CANDIDATE WHO GOT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LACE IN 2000, 2004, AND 200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UREN  (BACAL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380880" y="762120"/>
            <a:ext cx="8382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ACTRESS WHO STARRED WITH HUMPHREY BOGART IN "THE BIG SLEEP", "DARK PASSAGE", AND "KEY LARG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647640" y="4343400"/>
            <a:ext cx="7848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CLOTHING  MANUFACTUR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2396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IN LOGIC MEANS "THE STATEMENT WITH THE HYPOTHESIS AND CONCLUSION SWITCHE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38080" y="762120"/>
            <a:ext cx="74678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GREEK GODDESS OF VICTO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 5-LETTER WORD FOR THE LOWEST CLASS OF TRAVEL ON AIRLINES, SOMETIMES CALLED "ECONOM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52600" y="762120"/>
            <a:ext cx="8038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MIDDLE WORD IN THE NAME OF CANADA'S MOST POPULAR ROCK GROUP IN THE 60'S AND 70'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NAME OF COOLIDGE, THE 3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RESIDENT OF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28560" y="762120"/>
            <a:ext cx="7886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POLITICAL COLUMNIST FOR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TIM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AGAZINE WHO WROTE "PRIMARY COLOR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U.S. PRESIDENTIAL CANDIDATE WHO GOT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LACE IN 2000, 2004, AND 200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03T18:05:22Z</dcterms:created>
  <dc:creator>Jennifer Budzinski</dc:creator>
  <dc:description/>
  <dc:language>en-US</dc:language>
  <cp:lastModifiedBy>Erich Friedman</cp:lastModifiedBy>
  <dcterms:modified xsi:type="dcterms:W3CDTF">2020-08-27T12:35:48Z</dcterms:modified>
  <cp:revision>416</cp:revision>
  <dc:subject/>
  <dc:title>Slide 1</dc:title>
</cp:coreProperties>
</file>