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1F11-CC7D-48F0-A0DE-2D12D8A8B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F9E4-1CF1-4569-945B-C765C2F3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9E41-D9C4-4210-B682-427BD6085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3395-C398-4641-AF0F-07BE39DE2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66B9-4316-418A-8B27-CE212AAD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8A66-5278-4850-92F0-36D99F936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B8A4-D5C4-48C9-BED7-B4AA49108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A73F-81F9-427C-BDF7-135C15A90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E0B6-0D2D-48C9-8DEE-910297004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1358-5953-4A11-9D28-F96B765BD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514D-4630-4726-836A-A3BA8967B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1D53-A5C5-4C8B-9576-49377111F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F781-DB64-4F88-9A6F-9D23E9C19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2C5D-6477-423D-8C56-946711BA4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5E11-7506-404E-9224-46049DCC9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5C27-083D-4142-838C-4932D8B60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8DF4-F4E8-4147-94E9-8138A9C3F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5DF4-9FCB-46EC-89EB-C75032995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51D1-3753-4F47-A8ED-A25FB9FE0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1EC0-EFD6-4D4B-9936-82392110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86ED-B78A-41A7-9385-443A991AF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0B70-22EF-4250-9398-33F2E205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CA53-497B-4AF7-8C2E-9A9FB1EC1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STARRED WITH HUMPHREY BOGART IN "THE BIG SLEEP", "DARK PASSAGE", AND "KEY L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  (GEL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LAYED BY DAVID SCHWI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LOGIC MEANS "THE STATEMENT WITH THE HYPOTHESIS AND CONCLUSION SWITCH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REEK GODDESS OF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LOWEST CLASS OF TRAVEL ON AIRLINES, SOMETIMES CALLED "ECONOM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GUESS  (WH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IDDLE WORD IN THE NAME OF CANADA'S MOST POPULAR ROCK GROUP IN THE 60'S AND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COOLIDGE,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E)  KL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OLITICAL COLUMNIST FO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WHO WROTE "PRIMARY COL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"FRIENDS" CHARACTER PLAYED BY DAVID SCHWI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(NAD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U.S. PRESIDENTIAL CANDIDATE WHO GOT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IN 2000, 2004, AND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EN  (BACA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STARRED WITH HUMPHREY BOGART IN "THE BIG SLEEP", "DARK PASSAGE", AND "KEY L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34340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LOTHING  MANUFACTUR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LOGIC MEANS "THE STATEMENT WITH THE HYPOTHESIS AND CONCLUSION SWITCH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REEK GODDESS OF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5-LETTER WORD FOR THE LOWEST CLASS OF TRAVEL ON AIRLINES, SOMETIMES CALLED "ECONOM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IDDLE WORD IN THE NAME OF CANADA'S MOST POPULAR ROCK GROUP IN THE 60'S AND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COOLIDGE,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OLITICAL COLUMNIST FO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WHO WROTE "PRIMARY COL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U.S. PRESIDENTIAL CANDIDATE WHO GOT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IN 2000, 2004, AND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8:05:22Z</dcterms:created>
  <dc:creator>Jennifer Budzinski</dc:creator>
  <dc:description/>
  <dc:language>en-US</dc:language>
  <cp:lastModifiedBy>Erich Friedman</cp:lastModifiedBy>
  <dcterms:modified xsi:type="dcterms:W3CDTF">2020-08-27T12:35:48Z</dcterms:modified>
  <cp:revision>416</cp:revision>
  <dc:subject/>
  <dc:title>Slide 1</dc:title>
</cp:coreProperties>
</file>