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F25-3ECC-4B91-A646-AD12F1AE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2F1D-06DF-4AB8-9D18-717111A9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190-6AC3-4833-B868-0B5EB6A0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E6F-451D-4B13-98D8-B6AB37F1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BFA-5E33-4428-BBC3-42DE0FD7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33A-D758-4541-A01D-A2E70A76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76C-7D0A-4E5E-85E5-1D06429B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9D2-9110-4CEF-BEB0-D21BC9EC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6D2-29EF-4542-A679-B5591C2F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812-04B1-49D1-9F84-0332E800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4AF-660D-4074-BF22-94656205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7382-6DE2-41B2-B02D-59B3BBA9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9BD-B200-4077-9B8B-4F44808CA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C46-EC78-4D31-9D2E-318F6969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237-3F6A-48C1-9087-707E343D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77A-0642-4CD7-BEAE-9AA5CA23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E591-5C0B-481F-B30A-4801B2E4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E3D2-E37B-4064-B07A-E52F41F2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19F-9CAE-4F3E-B1A3-F7D94D19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6274-DB85-4BB4-9942-9E00E2E4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2BFC-700C-45D0-84F8-9362482D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C2A-DE6A-46EB-807E-58B9AAE7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A78D-CEDA-4ED8-BA5F-B8737FCB1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(GEL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GUESS  (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E)  KL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(NA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N  (BA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3434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LOTHING  MANUFACTU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8:05:22Z</dcterms:created>
  <dc:creator>Jennifer Budzinski</dc:creator>
  <dc:description/>
  <dc:language>en-US</dc:language>
  <cp:lastModifiedBy>Erich Friedman</cp:lastModifiedBy>
  <dcterms:modified xsi:type="dcterms:W3CDTF">2020-08-27T12:35:48Z</dcterms:modified>
  <cp:revision>416</cp:revision>
  <dc:subject/>
  <dc:title>Slide 1</dc:title>
</cp:coreProperties>
</file>