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29EE-9731-460D-AD72-600FF4F8E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661A-187C-4B3C-AB06-96D041D64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9CC0-940A-4602-A9B7-B90570795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E9D0-912E-4C6F-A69E-CD244255A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339C-F67B-4474-8AB4-00E70717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0A55-96D1-4661-836A-8D65ADCEB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EF7E-ED6C-46E2-B112-27F126946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FDE8-72D6-4630-A7A3-CFDF7DCB8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B64E-0E8C-4A57-AC72-5852BCD3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FF3E-ECB7-46DB-9D06-FA1491B99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8451-9A76-4FEF-8DBA-59085351B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3EC3-EB37-406F-997C-AA1B68AE1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72EB-6E0F-4C3C-ABEC-8DE8BAA7C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4EC9-ADCA-4489-8C71-A96BE19FC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1B18-F72D-4844-8C24-83BB8E012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68D5-1697-4621-AAC6-CF3F1AD6C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25EC-7BA5-4A31-A8E3-8CFF973CE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837F-3177-4598-A360-12616BCB5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05B5-15DF-417F-9B2F-94ED779A4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5FA5-2C14-4E82-9F52-72EBA6727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6302-F659-4751-AD0B-9D0EFA78E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CB87-1A80-4DCA-B303-EC8C644AC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6F01-2DC5-4FBD-BC01-2E3B76763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COMMON UNDERGRADUATE MAJOR OF LAWYERS, AFTER POLITICAL SC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DDIE)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SINGER OF "TWO TICKETS TO PARADISE" AND "BABY HOLD 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AN  N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JAMES MADISON QUOTE: "WHAT IS GOVERNMENT ITSELF BUT THE GREATEST OF ALL REFLECTIONS ON ___  ___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JEAN  (K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AND MIDDLE NAMES OF THE   FIRST WOMAN TO BE NAMED "SPORTSMAN OF THE YEAR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VEN  CAN  W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FILM STARRED WARREN BEATTY IN THE AFTER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OR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5708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CUSTODY BATTLE FILM STARRED KEVIN COSTNER AND OCTAVIA SPEN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( -HU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HALF OF THE TITLE OF THE 1950'S FILM WITH THE LARGEST BUDG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3 FILM ABOUT A SERIAL KILLER DID CHARLIZE THERON WIN AN OSCAR FOR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SINGER OF "TWO TICKETS TO PARADISE" AND "BABY HOLD 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BRE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PAT BENATAR SONG BEGINS WITH THE LYRICS "YOUR LOVE IS LIKE A TIDAL WAVE, SPINNING OVER MY HE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COMMON UNDERGRADUATE MAJOR OF LAWYERS, AFTER POLITICAL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ICHAEL  JACKSO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JAMES MADISON QUOTE: "WHAT IS GOVERNMENT ITSELF BUT THE GREATEST OF ALL REFLECTIONS ON ___  ___?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AND MIDDLE NAMES OF THE   FIRST WOMAN TO BE NAMED "SPORTSMAN OF THE YEAR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FILM STARRED WARREN BEATTY IN THE AFTER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CUSTODY BATTLE FILM STARRED KEVIN COSTNER AND OCTAVIA SPEN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HALF OF THE TITLE OF THE 1950'S FILM WITH THE LARGEST BUDG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3 FILM ABOUT A SERIAL KILLER DID CHARLIZE THERON WIN AN OSCAR FOR BEST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PAT BENATAR SONG BEGINS WITH THE LYRICS "YOUR LOVE IS LIKE A TIDAL WAVE, SPINNING OVER MY HE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7T14:12:40Z</dcterms:created>
  <dc:creator>Jennifer Budzinski</dc:creator>
  <dc:description/>
  <dc:language>en-US</dc:language>
  <cp:lastModifiedBy>Erich Friedman</cp:lastModifiedBy>
  <dcterms:modified xsi:type="dcterms:W3CDTF">2020-08-27T12:36:54Z</dcterms:modified>
  <cp:revision>420</cp:revision>
  <dc:subject/>
  <dc:title>Slide 1</dc:title>
</cp:coreProperties>
</file>