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5E7B-67DA-4F99-9702-ED76714A1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3C1D-D1F1-4090-8741-1F9861BDB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1195-08AE-47DF-98CC-C75CB1E6E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2FB3-AFD9-40BA-A8B0-D70EE432B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0699-B899-4740-850B-521623F88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0799-7CF4-4749-996F-168FE9581E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38A39-5BF1-41DA-B81C-7289E0F293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3037-B877-4BD3-87DF-124F5B1DA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9694-26EF-441D-9E47-B21EDD484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CD81-9DEB-44E0-9BDB-2AA742F4E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DCA3-66F8-4A95-BC86-EA829F5C8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6BA9-42B1-4836-ADE8-DAEC7FFEE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CB6C-B91E-4DA5-A529-FDDF0F0D7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9583-DF68-4646-B0B0-A7D376FE8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B9C46-C098-4EDA-A163-BF6E669E8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ABC0-6CBE-4F84-ACD0-29483D536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2F7B-85B1-409C-9471-32BBB8994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AD193-7FE6-4777-BC20-EDC00EDE7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FD5A-3DE8-46A3-9A91-B9AE24000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4E92-BDE9-40B2-9B7A-AC3D26F57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1ED9-EE07-4D85-A0B7-392BF7983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0F55-882A-4903-9007-8D27FAFC6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35DC-8E04-4C0F-AF91-61953EAE7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MOST COMMON UNDERGRADUATE MAJOR OF LAWYERS, AFTER POLITICAL SCI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EDDIE) 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SINGER OF "TWO TICKETS TO PARADISE" AND "BABY HOLD 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MAN  N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28560" y="762120"/>
            <a:ext cx="7886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IS JAMES MADISON QUOTE: "WHAT IS GOVERNMENT ITSELF BUT THE GREATEST OF ALL REFLECTIONS ON ___  ___?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IE  JEAN  (K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IRST AND MIDDLE NAMES OF THE   FIRST WOMAN TO BE NAMED "SPORTSMAN OF THE YEAR"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PORTS ILLUSTRAT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VEN  CAN  W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8 FILM STARRED WARREN BEATTY IN THE AFTER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OR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90720" y="757080"/>
            <a:ext cx="716256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 CUSTODY BATTLE FILM STARRED KEVIN COSTNER AND OCTAVIA SPENC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( -HU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0880" y="762120"/>
            <a:ext cx="83822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HALF OF THE TITLE OF THE 1950'S FILM WITH THE LARGEST BUDG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2003 FILM ABOUT A SERIAL KILLER DID CHARLIZE THERON WIN AN OSCAR FOR BEST ACT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SINGER OF "TWO TICKETS TO PARADISE" AND "BABY HOLD 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ARTBRE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PAT BENATAR SONG BEGINS WITH THE LYRICS "YOUR LOVE IS LIKE A TIDAL WAVE, SPINNING OVER MY HE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MOST COMMON UNDERGRADUATE MAJOR OF LAWYERS, AFTER POLITICAL SCI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MICHAEL  JACKSON  SO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ISH THIS JAMES MADISON QUOTE: "WHAT IS GOVERNMENT ITSELF BUT THE GREATEST OF ALL REFLECTIONS ON ___  ___?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IRST AND MIDDLE NAMES OF THE   FIRST WOMAN TO BE NAMED "SPORTSMAN OF THE YEAR"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PORTS ILLUSTRATE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8 FILM STARRED WARREN BEATTY IN THE AFTERL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4 CUSTODY BATTLE FILM STARRED KEVIN COSTNER AND OCTAVIA SPENC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HALF OF THE TITLE OF THE 1950'S FILM WITH THE LARGEST BUDG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2003 FILM ABOUT A SERIAL KILLER DID CHARLIZE THERON WIN AN OSCAR FOR BEST ACT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9 PAT BENATAR SONG BEGINS WITH THE LYRICS "YOUR LOVE IS LIKE A TIDAL WAVE, SPINNING OVER MY HEA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7T14:12:40Z</dcterms:created>
  <dc:creator>Jennifer Budzinski</dc:creator>
  <dc:description/>
  <dc:language>en-US</dc:language>
  <cp:lastModifiedBy>Erich Friedman</cp:lastModifiedBy>
  <dcterms:modified xsi:type="dcterms:W3CDTF">2020-08-27T12:36:54Z</dcterms:modified>
  <cp:revision>420</cp:revision>
  <dc:subject/>
  <dc:title>Slide 1</dc:title>
</cp:coreProperties>
</file>