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6D85-F7A0-4748-A330-B0449C88B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A1AE-1C52-47AA-93E7-2FE71D7D8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DD5E-3407-47D2-82DD-DB1EB5285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01A7-1A09-48E7-8369-5578724C4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8B7D-B23F-4FC6-9976-53B95B37B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3399-7A3E-4800-95AD-6888E147B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7AF2-D04A-4739-8F3A-B94DA01C9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1ACF-06BA-47BD-83E0-866E7204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A59C-700C-44F1-9E57-A3A985831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C242-D65D-4420-AF22-260524FB2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BE85-3BC5-4AE6-8291-5E537C6CE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690F-A829-4B23-91B6-6CCE7EAE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29D8-893A-48BB-8FE0-1E94210E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4040-7182-4FAB-B558-ED7ACAE85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7226-F61D-4B72-970D-D91DA9C5F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2BB0-ED83-415E-BDB7-E545934EB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A528-3A93-461F-BA4D-278F3B731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BA3E-FDA3-4501-BC8F-161EFE772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9391-A130-4C71-84B0-C277E15C8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DB2C-CDD9-4202-8A3A-34409F611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8C05-11F0-4668-959F-1BD36A40F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6CB9-3A61-41FA-AFA6-64038573A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05F9-165E-4806-BF84-76235B7E8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COMMON UNDERGRADUATE MAJOR OF LAWYERS, AFTER POLITICAL SC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DIE)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SINGER OF "TWO TICKETS TO PARADISE" AND "BABY HOLD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AN  N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JAMES MADISON QUOTE: "WHAT IS GOVERNMENT ITSELF BUT THE GREATEST OF ALL REFLECTIONS ON ___  ___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JEAN  (K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AND MIDDLE NAMES OF THE   FIRST WOMAN TO BE NAMED "SPORTSMAN OF THE YEAR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VEN  CAN  W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WARREN BEATTY IN THE AFTER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OR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5708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USTODY BATTLE FILM STARRED KEVIN COSTNER AND OCTAVIA SPE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( -HU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THE 1950'S FILM WITH THE LARGEST BUDG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3 FILM ABOUT A SERIAL KILLER DID CHARLIZE THERON WIN AN OSCAR FOR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SINGER OF "TWO TICKETS TO PARADISE" AND "BABY HOLD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BRE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PAT BENATAR SONG BEGINS WITH THE LYRICS "YOUR LOVE IS LIKE A TIDAL WAVE, SPINNING OVER MY H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COMMON UNDERGRADUATE MAJOR OF LAWYERS, AFTER POLITICAL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ICHAEL  JACKSO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JAMES MADISON QUOTE: "WHAT IS GOVERNMENT ITSELF BUT THE GREATEST OF ALL REFLECTIONS ON ___  ___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AND MIDDLE NAMES OF THE   FIRST WOMAN TO BE NAMED "SPORTSMAN OF THE YEAR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WARREN BEATTY IN THE AFTER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USTODY BATTLE FILM STARRED KEVIN COSTNER AND OCTAVIA SPEN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THE 1950'S FILM WITH THE LARGEST BUDG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3 FILM ABOUT A SERIAL KILLER DID CHARLIZE THERON WIN AN OSCAR FOR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PAT BENATAR SONG BEGINS WITH THE LYRICS "YOUR LOVE IS LIKE A TIDAL WAVE, SPINNING OVER MY HE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7T14:12:40Z</dcterms:created>
  <dc:creator>Jennifer Budzinski</dc:creator>
  <dc:description/>
  <dc:language>en-US</dc:language>
  <cp:lastModifiedBy>Erich Friedman</cp:lastModifiedBy>
  <dcterms:modified xsi:type="dcterms:W3CDTF">2020-08-27T12:36:54Z</dcterms:modified>
  <cp:revision>420</cp:revision>
  <dc:subject/>
  <dc:title>Slide 1</dc:title>
</cp:coreProperties>
</file>