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0150-1AC1-4433-B014-E918432C2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4468-5420-4741-8954-0B4E6C8D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6F17-32F4-4EF0-8490-9D8BBF2E0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0024-FC09-439E-8692-B05E6E60D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D1FA-3458-4C95-9A95-AF290D181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1D7F-65A0-4CDB-BE3F-910C80C54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0A8A-6CB8-4632-A50D-74D99D36F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EF85-50EF-4920-A7E2-1FFFD7D8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5700-DD35-4DBB-B722-2D00688A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F5F2-5684-4666-941B-EC0E361B7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13CA-CA91-4710-8B3C-7F3FCDD7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B064-F752-4C6C-BF4C-745C5A6C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184F-576D-4F60-9EA0-9757F3C47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C321-BFE3-44B3-A162-24B3E5FEC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61CD-8653-4074-AD9B-725516FF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086B-A26A-400E-82A6-9992C5F3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61D1-4727-446D-B1B4-CD7305017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7BCE-DBD1-4D19-9176-2685E124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CA00-C579-4848-9D45-95D01512F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CBD-9CE7-419F-BCC9-AC322F5E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8CD2-7EAE-4B08-BA8D-F16FA03C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C078-5EE3-48E4-8521-A629C5AE7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1197-015A-49EB-A8C9-0EC4788BD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42960" y="761760"/>
            <a:ext cx="605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SHI IS KNOWN A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ANI OR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カ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WORLD SERIES IN 1987 OVER THE CARDINALS, AND IN 1991 OVER THE BRA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5320" y="762120"/>
            <a:ext cx="735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THE ONLY ONE TO EVER HAVE A WINLESS 0-16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0060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8600" y="4800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ITED  STATES)  VIRGIN  (ISLAN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USVI", WHAT DOES THE "V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1644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N-OFF OF "BARNEY MILLER" STARRED ABE VIGO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P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CANCELED IN 2018 FEATURED A TEAM OF GIFTED GEEKS WHO WORKED WITH HOMELAND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ADULT TV SHOW FEATURES A BUNCH OF DYSFUNCTIONAL SECRET AG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WORLD SERIES IN 1987 OVER THE CARDINALS, AND IN 1991 OVER THE BRA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CKUP TRUCK COMPANY MAKES MODELS NUMBERED 1500, 2500, 3500, 4500, AND 5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14520" y="762120"/>
            <a:ext cx="611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SHI IS KNOWN AS KANI OR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カ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800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ITIES  IN  THE  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THE ONLY ONE TO EVER HAVE A WINLESS 0-16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USVI", WHAT DOES THE "V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N-OFF OF "BARNEY MILLER" STARRED ABE VIGO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CANCELED IN 2018 FEATURED A TEAM OF GIFTED GEEKS WHO WORKED WITH HOMELAND SECU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ADULT TV SHOW FEATURES A BUNCH OF DYSFUNCTIONAL SECRET AG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CKUP TRUCK COMPANY MAKES MODELS NUMBERED 1500, 2500, 3500, 4500, AND 5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8:17:39Z</dcterms:created>
  <dc:creator>Jennifer Budzinski</dc:creator>
  <dc:description/>
  <dc:language>en-US</dc:language>
  <cp:lastModifiedBy>Erich Friedman</cp:lastModifiedBy>
  <dcterms:modified xsi:type="dcterms:W3CDTF">2020-08-27T12:38:34Z</dcterms:modified>
  <cp:revision>412</cp:revision>
  <dc:subject/>
  <dc:title>Slide 1</dc:title>
</cp:coreProperties>
</file>