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9DD3-EA0C-4AF9-AEED-3B0681E35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8332-C7A1-4417-9068-B2905D7F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EE92-A82E-44E3-A94B-C91D460CB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CD7-A7B8-4E3E-91AD-40E61DBA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FFC2-0A88-4BCB-93F7-E0A55940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415-F3B5-4A0E-84BC-4EAD42BD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EC65-3B8F-49FC-8D03-F7DF90F8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4182-CCF5-4BFD-BDC4-E18B6CAE9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1B4E-B9E8-42BD-B1FF-7AF65650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C8B-5485-4BD7-A4A8-8DEFC08BB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F46E-74BC-4FE8-B638-91DECDA35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0E23-840C-4964-9C39-A7DE9CC3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A827-77BF-47B5-AAC7-3FCF5599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E35D-D863-434D-B7D3-C9E57E35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DDA0-F065-4ECC-9739-96F835F6F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3211-DF2E-451F-9939-7122664D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5C9D-535B-46BB-8077-E41E940F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8BB4-65A7-466A-BDB6-56D674584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7E17-8983-47DB-B273-F28CA20D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BF95-38BB-4575-AC5F-B6161E5F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1B90-5DD6-418C-BAF6-9E2D2FB2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4E3B-E999-4EAD-AEAE-FE3E4C4C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1E8B-4597-4CAC-BA86-224BF968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42960" y="761760"/>
            <a:ext cx="605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SHI IS KNOWN A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ANI OR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カ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WORLD SERIES IN 1987 OVER THE CARDINALS, AND IN 1991 OVER THE BR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62120"/>
            <a:ext cx="735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THE ONLY ONE TO EVER HAVE A WINLESS 0-16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0060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8600" y="4800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ITED  STATES)  VIRGIN  (ISLAN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USVI", WHAT DOES THE "V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1644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N-OFF OF "BARNEY MILLER" STARRED ABE VIGO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P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CANCELED IN 2018 FEATURED A TEAM OF GIFTED GEEKS WHO WORKED WITH HOMELAND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ADULT TV SHOW FEATURES A BUNCH OF DYSFUNCTIONAL SECRET AG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WORLD SERIES IN 1987 OVER THE CARDINALS, AND IN 1991 OVER THE BR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CKUP TRUCK COMPANY MAKES MODELS NUMBERED 1500, 2500, 3500, 4500, AND 5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14520" y="762120"/>
            <a:ext cx="611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SHI IS KNOWN AS KANI OR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カ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00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ITIES  IN  THE  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THE ONLY ONE TO EVER HAVE A WINLESS 0-16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USVI", WHAT DOES THE "V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N-OFF OF "BARNEY MILLER" STARRED ABE VIGO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CANCELED IN 2018 FEATURED A TEAM OF GIFTED GEEKS WHO WORKED WITH HOMELAND SECU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ADULT TV SHOW FEATURES A BUNCH OF DYSFUNCTIONAL SECRET AG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CKUP TRUCK COMPANY MAKES MODELS NUMBERED 1500, 2500, 3500, 4500, AND 5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8:17:39Z</dcterms:created>
  <dc:creator>Jennifer Budzinski</dc:creator>
  <dc:description/>
  <dc:language>en-US</dc:language>
  <cp:lastModifiedBy>Erich Friedman</cp:lastModifiedBy>
  <dcterms:modified xsi:type="dcterms:W3CDTF">2020-08-27T12:38:34Z</dcterms:modified>
  <cp:revision>412</cp:revision>
  <dc:subject/>
  <dc:title>Slide 1</dc:title>
</cp:coreProperties>
</file>