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30EE-9B42-45E0-A57A-D4E422BA6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2B96-9C24-4BAE-A7F0-E9B46C4A1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E5B1-BFC8-4698-8F8B-13F31DB71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028E-2902-4335-9463-FA8E01DEB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8074-F54A-4B00-8E9C-7901016A3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4637-756D-4E50-B300-585ACC330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A168-FA96-4FC1-84EC-603FDE13C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97D7-B271-4682-8A53-F08677FE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B430-F52F-444F-90FF-38E71462A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4184-5653-40C7-A9E1-499184162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7608-2CCD-491D-8869-B9CA2AFBD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BEC3-F93B-4F27-B1C7-336C84C48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2FBB-2019-4678-B6CA-A1293D4A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1E5B-87A3-4AF3-86E0-D9A2B0A25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9890-921A-45E3-8726-9C193B2A2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6626-6F4C-443B-BBE1-895AB019F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47FD-3D89-4F91-BAF6-881478C8E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EDAB-B8A3-420C-A66D-4BD4ADFED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007E-934A-48AE-A2CE-36F533030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9AE6-0637-4361-BF60-5AB81CD74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37FD-A0F8-4F77-AFEC-E1DB389F4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DD48-1071-4F8B-A754-B135AEC3B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AB94-C625-4F1A-8AA2-A2CBDDE62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42960" y="761760"/>
            <a:ext cx="605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SHI IS KNOWN A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ANI OR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カ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PANES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WORLD SERIES IN 1987 OVER THE CARDINALS, AND IN 1991 OVER THE BRA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5320" y="762120"/>
            <a:ext cx="7353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THE ONLY ONE TO EVER HAVE A WINLESS 0-16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0060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8600" y="4800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UNITED  STATES)  VIRGIN  (ISLAN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USVI", WHAT DOES THE "V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1644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N-OFF OF "BARNEY MILLER" STARRED ABE VIGO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RP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CANCELED IN 2018 FEATURED A TEAM OF GIFTED GEEKS WHO WORKED WITH HOMELAND SECU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ADULT TV SHOW FEATURES A BUNCH OF DYSFUNCTIONAL SECRET AG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WORLD SERIES IN 1987 OVER THE CARDINALS, AND IN 1991 OVER THE BRA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CKUP TRUCK COMPANY MAKES MODELS NUMBERED 1500, 2500, 3500, 4500, AND 5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514520" y="762120"/>
            <a:ext cx="611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SUSHI IS KNOWN AS KANI OR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</a:rPr>
              <a:t>カニ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PAN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80060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ITIES  IN  THE  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WAS THE ONLY ONE TO EVER HAVE A WINLESS 0-16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USVI", WHAT DOES THE "V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N-OFF OF "BARNEY MILLER" STARRED ABE VIGO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CANCELED IN 2018 FEATURED A TEAM OF GIFTED GEEKS WHO WORKED WITH HOMELAND SECU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TED ADULT TV SHOW FEATURES A BUNCH OF DYSFUNCTIONAL SECRET AG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CKUP TRUCK COMPANY MAKES MODELS NUMBERED 1500, 2500, 3500, 4500, AND 5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8:17:39Z</dcterms:created>
  <dc:creator>Jennifer Budzinski</dc:creator>
  <dc:description/>
  <dc:language>en-US</dc:language>
  <cp:lastModifiedBy>Erich Friedman</cp:lastModifiedBy>
  <dcterms:modified xsi:type="dcterms:W3CDTF">2020-08-27T12:38:34Z</dcterms:modified>
  <cp:revision>412</cp:revision>
  <dc:subject/>
  <dc:title>Slide 1</dc:title>
</cp:coreProperties>
</file>