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18A4-89FD-43BD-8615-6255151C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ED2-068C-46F7-AC15-D8D39537E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841B-AD07-4E28-923B-0E83C1B3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56E8-E289-4FFE-8120-1EAE1808F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A029-4648-4E91-B3F7-711F869F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EBE2-4A38-4BA4-9FB0-B9B231343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7546-7020-48A4-932E-718DD328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0C3C-E7D7-4160-A8F0-84D172FF8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1B2B-7A9C-45A0-A0EA-60958832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EF35-9A75-40E8-A2CC-2DA8EF64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85A-3864-4740-B0DC-8BA7B2DC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A767-EEBC-4565-8059-17D9D220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1C62-20F8-4144-B5B6-8CC846AF7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47E4-8DC3-408F-AFD4-F388EBAF5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EDC2-DD4B-4DBA-B9EB-4810BE31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9D6B-C81A-4381-AB9E-BB581A85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696C-797A-4048-B9F3-970949A6D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9119-35D2-4AA8-BCB6-1C0C69D37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C7C8-098A-4A39-9E10-EE49DDF83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638A-BE82-425F-B15F-88DE4BB58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DDB9-1BF6-44F8-99D8-637C7BA71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704D-F4D4-4DB1-9F1E-6884532B6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FF3F-D105-4576-B091-51CE44F8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4475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8377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COMIC SUPERHERO FILM STARRED WILL SMITH, CHARLIZE THERON, AND JASON BAT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LAST NAME WASHINGTON PLAYED THE LEAD ROLE OF OLIVIA POPE IN "SCAND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85 DARK FANTASY FILM STARRING TOM CRUISE, OR THE 2015 BRITISH CRIME THRILLER FILM ABOUT THE KRAY TW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26676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STARRING DANA CARVEY, ROB LOWE, CHRIS FARLEY, MEAT LOAF, AND ALICE COOPER, WHAT IS MIKE MYER'S TITLE CHARACTER NA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  (CROW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85716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WAS CNN'S CHIEF POLITICAL CORRESPONDENT.  WHAT IS HER  FIR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5627520" y="857160"/>
            <a:ext cx="3135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OFESSION OF JESUS BEFORE HE BEGAN HIS MIN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SANG "LIVIN' ON A PRAYER" AND "WANTED DEAD OR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THAT WON 6 OSCARS WAS BASED ON A 1960 MUSICAL PLAY, WHICH IN TURN WAS BASED ON A DICKENS NOV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685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LAST NAME WASHINGTON PLAYED THE LEAD ROLE OF OLIVIA POPE IN "SCAND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COMIC SUPERHERO FILM STARRED WILL SMITH, CHARLIZE THERON, AND JASON BAT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62040" y="4343400"/>
            <a:ext cx="6019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85 DARK FANTASY FILM STARRING TOM CRUISE, OR THE 2015 BRITISH CRIME THRILLER FILM ABOUT THE KRAY TW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685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STARRING DANA CARVEY, ROB LOWE, CHRIS FARLEY, MEAT LOAF, AND ALICE COOPER, WHAT IS MIKE MYER'S TITLE CHARACTER NA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5334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WAS CNN'S CHIEF POLITICAL CORRESPONDENT.  WHAT IS HER  FIR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135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OFESSION OF JESUS BEFORE HE BEGAN HIS MINI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SANG "LIVIN' ON A PRAYER" AND "WANTED DEAD OR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685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THAT WON 6 OSCARS WAS BASED ON A 1960 MUSICAL PLAY, WHICH IN TURN WAS BASED ON A DICKENS NOVE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38360" y="837720"/>
            <a:ext cx="5867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LOR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22:24:11Z</dcterms:created>
  <dc:creator>Jennifer Budzinski</dc:creator>
  <dc:description/>
  <dc:language>en-US</dc:language>
  <cp:lastModifiedBy>Erich Friedman</cp:lastModifiedBy>
  <dcterms:modified xsi:type="dcterms:W3CDTF">2020-08-27T14:25:20Z</dcterms:modified>
  <cp:revision>398</cp:revision>
  <dc:subject/>
  <dc:title>Slide 1</dc:title>
</cp:coreProperties>
</file>