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158A-BD20-43F5-BE9D-12896A635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DED4-B5AB-4EA4-9D7C-4B82C94B7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AF54-F4C4-42F2-82A4-343D379E5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A515-8734-4BC7-A6D6-CDAE6E24A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0390-CE74-4BC1-8846-D691BEBD9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D72F-45D7-456F-8D90-DD2DC84C7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147A-9AFF-477C-B165-DD2BFB6D9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A86E-687E-4800-A78E-794EC13E4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A486-6431-4B48-88CE-411B9F3F8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FBA2-FC93-452A-80A1-D7F897CE3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A42E-8FDC-4E3E-B929-01C7CA904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C611-7763-4DE0-9E8D-0C680CEBD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38F9-E084-4187-B47F-70827F32F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1DBB-A534-428D-B6AE-2A63E4F1D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5D09-34B2-466B-9BFA-8F0C313C5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7488-EE98-42DD-B5C3-B3878F726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30CF-D14A-48B6-ABFE-0CA65D42B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F205-2313-48F9-92B0-A315F0FC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992D-9CB9-40E5-ACD8-3687F5BF8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8AE0-1CDB-488C-8B72-65CB61ADD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887A-2B77-4C2B-9F5A-D04C9AE00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E961-13E0-401B-B4E9-880A825C4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84D1-1CCE-486A-9C69-896A40FDB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447560"/>
            <a:ext cx="5943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19040" y="8377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COMIC SUPERHERO FILM STARRED WILL SMITH, CHARLIZE THERON, AND JASON BAT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LAST NAME WASHINGTON PLAYED THE LEAD ROLE OF OLIVIA POPE IN "SCAND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85 DARK FANTASY FILM STARRING TOM CRUISE, OR THE 2015 BRITISH CRIME THRILLER FILM ABOUT THE KRAY TW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266760" y="487692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2860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STARRING DANA CARVEY, ROB LOWE, CHRIS FARLEY, MEAT LOAF, AND ALICE COOPER, WHAT IS MIKE MYER'S TITLE CHARACTER NA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Y  (CROWL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0" y="85716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WAS CNN'S CHIEF POLITICAL CORRESPONDENT.  WHAT IS HER  FIR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5627520" y="857160"/>
            <a:ext cx="3135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P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PROFESSION OF JESUS BEFORE HE BEGAN HIS MINI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  J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BAND SANG "LIVIN' ON A PRAYER" AND "WANTED DEAD OR AL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THAT WON 6 OSCARS WAS BASED ON A 1960 MUSICAL PLAY, WHICH IN TURN WAS BASED ON A DICKENS NOV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685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LAST NAME WASHINGTON PLAYED THE LEAD ROLE OF OLIVIA POPE IN "SCAND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600200" y="762120"/>
            <a:ext cx="5943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OLOR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COMIC SUPERHERO FILM STARRED WILL SMITH, CHARLIZE THERON, AND JASON BAT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62040" y="4343400"/>
            <a:ext cx="6019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PEOPLE  NAMED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85 DARK FANTASY FILM STARRING TOM CRUISE, OR THE 2015 BRITISH CRIME THRILLER FILM ABOUT THE KRAY TW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28600" y="68580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STARRING DANA CARVEY, ROB LOWE, CHRIS FARLEY, MEAT LOAF, AND ALICE COOPER, WHAT IS MIKE MYER'S TITLE CHARACTER NA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5334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WAS CNN'S CHIEF POLITICAL CORRESPONDENT.  WHAT IS HER  FIR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5638680" y="838080"/>
            <a:ext cx="31356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PROFESSION OF JESUS BEFORE HE BEGAN HIS MINIS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BAND SANG "LIVIN' ON A PRAYER" AND "WANTED DEAD OR AL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685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THAT WON 6 OSCARS WAS BASED ON A 1960 MUSICAL PLAY, WHICH IN TURN WAS BASED ON A DICKENS NOVE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38360" y="837720"/>
            <a:ext cx="5867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OLORA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8T22:24:11Z</dcterms:created>
  <dc:creator>Jennifer Budzinski</dc:creator>
  <dc:description/>
  <dc:language>en-US</dc:language>
  <cp:lastModifiedBy>Erich Friedman</cp:lastModifiedBy>
  <dcterms:modified xsi:type="dcterms:W3CDTF">2020-08-27T14:25:20Z</dcterms:modified>
  <cp:revision>398</cp:revision>
  <dc:subject/>
  <dc:title>Slide 1</dc:title>
</cp:coreProperties>
</file>