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4FA6-EE3E-48F5-9A02-B915374E3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3AC8-E60B-40BA-BC6C-2F47652E5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83CA-FB3F-4CDE-9977-C937D19BB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6B51-17F1-417C-B73C-34B2C8D4F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EC0C-2F75-492C-8C19-9E8234DD4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CFCC-831C-46F9-B6CC-E059B41A1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8F80-8815-4087-9F1B-97032CFBF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BEDF-F8B4-4A9A-AAC2-838A9B780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D50D-7066-47B1-80E3-6BA6E4461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FF65-11AA-4A0B-A3FB-99AA3368A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C353-AD19-40CF-932D-3D03B680F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25A06-848C-44C0-AEFC-906F7E2AE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F8D0-6CFA-4FB8-9046-8AC1D0D6D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EBDD-26E5-4756-8EE8-8D63D7DA4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9D13-BA90-4CAF-8762-59E6BE175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2616-F2BE-4063-B0DB-3E155DE1F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8800-C3C7-4CC6-A7D1-FB99B60B1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21C6-DB74-4DB5-82FD-65CAE6A8F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CF44-A2E9-43D5-9211-16CA9EBD1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3753-9CF2-41D2-8120-902CB7747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AE72-FE05-4C4B-8C3D-8B2647630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CF99-B734-4D50-B3EE-13DF72F66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08BD-2C17-4A1F-A0C6-1C3EAA996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447560"/>
            <a:ext cx="5943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19040" y="8377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COMIC SUPERHERO FILM STARRED WILL SMITH, CHARLIZE THERON, AND JASON BATE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ITH LAST NAME WASHINGTON PLAYED THE LEAD ROLE OF OLIVIA POPE IN "SCAND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G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343080" y="7621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1985 DARK FANTASY FILM STARRING TOM CRUISE, OR THE 2015 BRITISH CRIME THRILLER FILM ABOUT THE KRAY TWI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266760" y="4876920"/>
            <a:ext cx="8610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Y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228600" y="76212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ILM STARRING DANA CARVEY, ROB LOWE, CHRIS FARLEY, MEAT LOAF, AND ALICE COOPER, WHAT IS MIKE MYER'S TITLE CHARACTER NAM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DY  (CROWLE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0" y="857160"/>
            <a:ext cx="5410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HE WAS CNN'S CHIEF POLITICAL CORRESPONDENT.  WHAT IS HER  FIRST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2" descr=""/>
          <p:cNvPicPr/>
          <p:nvPr/>
        </p:nvPicPr>
        <p:blipFill>
          <a:blip r:embed="rId1"/>
          <a:stretch/>
        </p:blipFill>
        <p:spPr>
          <a:xfrm>
            <a:off x="5627520" y="857160"/>
            <a:ext cx="31356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81160" y="487692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PE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PROFESSION OF JESUS BEFORE HE BEGAN HIS MINIS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N  JOV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CK BAND SANG "LIVIN' ON A PRAYER" AND "WANTED DEAD OR ALI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IVER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23960" y="7621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8 FILM THAT WON 6 OSCARS WAS BASED ON A 1960 MUSICAL PLAY, WHICH IN TURN WAS BASED ON A DICKENS NOVE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685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ITH LAST NAME WASHINGTON PLAYED THE LEAD ROLE OF OLIVIA POPE IN "SCAND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N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600200" y="762120"/>
            <a:ext cx="5943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COLORA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C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COMIC SUPERHERO FILM STARRED WILL SMITH, CHARLIZE THERON, AND JASON BATE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562040" y="4343400"/>
            <a:ext cx="6019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ST  NAMES  OF  PEOPLE  NAMED  JOH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04920" y="68544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1985 DARK FANTASY FILM STARRING TOM CRUISE, OR THE 2015 BRITISH CRIME THRILLER FILM ABOUT THE KRAY TWI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228600" y="685800"/>
            <a:ext cx="8686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ILM STARRING DANA CARVEY, ROB LOWE, CHRIS FARLEY, MEAT LOAF, AND ALICE COOPER, WHAT IS MIKE MYER'S TITLE CHARACTER NAM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-360" y="837720"/>
            <a:ext cx="53341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HE WAS CNN'S CHIEF POLITICAL CORRESPONDENT.  WHAT IS HER  FIRST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5638680" y="838080"/>
            <a:ext cx="31356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6858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PROFESSION OF JESUS BEFORE HE BEGAN HIS MINIS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CK BAND SANG "LIVIN' ON A PRAYER" AND "WANTED DEAD OR ALI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23960" y="68544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8 FILM THAT WON 6 OSCARS WAS BASED ON A 1960 MUSICAL PLAY, WHICH IN TURN WAS BASED ON A DICKENS NOVEL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638360" y="837720"/>
            <a:ext cx="5867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COLORAD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8T22:24:11Z</dcterms:created>
  <dc:creator>Jennifer Budzinski</dc:creator>
  <dc:description/>
  <dc:language>en-US</dc:language>
  <cp:lastModifiedBy>Erich Friedman</cp:lastModifiedBy>
  <dcterms:modified xsi:type="dcterms:W3CDTF">2020-08-27T14:25:20Z</dcterms:modified>
  <cp:revision>398</cp:revision>
  <dc:subject/>
  <dc:title>Slide 1</dc:title>
</cp:coreProperties>
</file>