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2475-C9A7-4820-BD29-F3A9F8FCA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644E-D3D6-4004-A781-74F4100C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F19F-7ED7-49CA-9269-7D4C4F25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3382-9A59-46BE-9F60-7EF356FAF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630A-321E-4770-A087-3EF238D3F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5EBD-91D0-489C-A644-4A3F76E5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371C-0B99-4764-845D-6E5C3B52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AC0D-4348-479D-B0B2-1C3318B9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43D-A0A2-407F-96EA-882E08044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B9DA-4834-4E9C-9CB6-7F966847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6796-5944-485A-952A-1E6F1ED64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D65-6451-4498-A675-D91748D2A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D39D-6C48-4CAB-8AF4-0A6979E9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1464-36EA-494B-AFF0-E7C28BDF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08EE-8ECA-4518-87E8-51EFF22C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401A-0934-432F-8D8C-0B2F9441C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1743-029F-40C1-BE8E-6DCF32E24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6B26-A95B-444F-87FD-2C970B01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285D-368F-4B45-8DAC-7BB04364D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8E46-F22D-43DF-A452-EBC1AEA1B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727-DB64-4527-BECF-5F9B5402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C335-A841-4D8B-831E-66E1DEC63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B265-76E0-4A74-9EFB-65B214B6C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OF THE U.S. MILITARY SPECIFICALLY AUTHORIZED TO MAINTAIN A STANDING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THE ICONIC DRESS THAT AUDREY HEPBURN WORE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866960" y="762120"/>
            <a:ext cx="5410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MADE 1971-1980, BUT WAS REPLACED BY THE ESCORT AFTER REAR-END COLLISION SAFETY CONCE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Y NOMINATED JILL STEIN FOR PRESIDENT IN 2012 AND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RADED COMMODITY IN THE WORLD, AFTER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NEED TO PLAY THE GAME OF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DER THE CONSTITUTION, WHAT IS THE ONLY BRANCH  OF THE U.S. MILITARY SPECIFICALLY AUTHORIZED TO MAINTAIN A STANDING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AUCE IS THE MOST COMMON LIQUID ASIAN CONDI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GAN FILTERS BLOOD TO PRODUCE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PER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4:22:32Z</dcterms:created>
  <dc:creator>Jennifer Budzinski</dc:creator>
  <dc:description/>
  <dc:language>en-US</dc:language>
  <cp:lastModifiedBy>Erich Friedman</cp:lastModifiedBy>
  <dcterms:modified xsi:type="dcterms:W3CDTF">2020-08-27T14:26:28Z</dcterms:modified>
  <cp:revision>386</cp:revision>
  <dc:subject/>
  <dc:title>Slide 1</dc:title>
</cp:coreProperties>
</file>