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BE92-A912-47E1-8AAB-DD2B3C4D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9EC8-3C65-4C59-A57A-EEB5D291B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187-9023-480A-BE25-2D321DE3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9CA5-E9C6-4E61-94F8-1BCC40F18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4B1-1C8A-453D-96DE-54B427F0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B67-60ED-4709-8A3F-DF6836B8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EFA1-7B61-4DDA-BC9D-A9E52B90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76C-D6B8-4196-A2ED-F6F9A331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A5B1-876E-4A6C-8DE2-88493975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B6C-9669-4BEC-B958-E9CAD6F2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EED3-DBF0-4D3D-A05A-10CD3A30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670-5F98-4BDE-AEB9-1BD10D0E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9F3-C280-40F3-951B-FB99779B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4320-9DB7-4F8A-9789-B685319B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000-8BE0-459A-948C-125D9EFA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1F43-FF41-44B5-B177-C7803647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4ED0-1C00-49BC-B946-12E54C5E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4EDA-C6C5-4C8F-AC0A-FDD1356F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C190-6D0E-4FA0-9013-E84C8B20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319-A3BB-4EBE-B142-7945CCF6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0FC-4DC3-4911-BF8B-9825D738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8F6-F99C-4B84-A63C-AD16A0EC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835-416B-4F5F-AF96-18020C74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OF THE U.S. MILITARY SPECIFICALLY AUTHORIZED TO MAINTAIN A STANDING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866960" y="76212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 OF THE U.S. MILITARY SPECIFICALLY AUTHORIZED TO MAINTAIN A STANDING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4:22:32Z</dcterms:created>
  <dc:creator>Jennifer Budzinski</dc:creator>
  <dc:description/>
  <dc:language>en-US</dc:language>
  <cp:lastModifiedBy>Erich Friedman</cp:lastModifiedBy>
  <dcterms:modified xsi:type="dcterms:W3CDTF">2020-08-27T14:26:28Z</dcterms:modified>
  <cp:revision>386</cp:revision>
  <dc:subject/>
  <dc:title>Slide 1</dc:title>
</cp:coreProperties>
</file>