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A1EC-8549-491F-885F-CDE8F582A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2710-8466-46DF-8203-11EA7C217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DE24-BCBE-4B43-A080-B642AE4C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C4AE-1B02-43F1-90D4-7905F415D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2FC2-4362-46B6-89EC-01D699BB4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3573-0287-47C5-A22C-A30C78EA1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02BA-F8CD-4663-9085-541D54F99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BF7F-78AA-4DE1-A4F1-21EF8F99A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3DD9-3457-4365-97FE-61BE10073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FA1B-BBE3-41CC-BBC9-123375F90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5AD1-D361-4392-8146-1F3D26690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E5F9-B589-46D8-9C33-DB0B19D4A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ECDD-9EE7-488D-BDDB-7CE5E479A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AE0F-6353-4AF9-B07F-AD739335D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0A92-C16C-4057-B465-BF8ACC622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5984-3B2B-402B-8EE6-8DEF32617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0C9F-E46A-471D-A618-D13267C9F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89E7-1C98-4390-B504-515B184FC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233F-B1B5-4C78-B1F0-A533DBBD3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906F-3B0D-4B91-A9DC-580122D37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7D1F-6ABD-4ACC-AED9-801B4004D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611E-1811-48C2-B8AD-5A715C340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92A7-B7CE-4A42-A234-2DC1B6873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 WAS MADE 1971-1980, BUT WAS REPLACED BY THE ESCORT AFTER REAR-END COLLISION SAFETY CONCER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43040" y="762120"/>
            <a:ext cx="7657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AS THE ICONIC DRESS THAT AUDREY HEPBURN WORE IN "BREAKFAST AT TIFFANY'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95320" y="762120"/>
            <a:ext cx="7353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Y NOMINATED JILL STEIN FOR PRESIDENT IN 2012 AND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TRADED COMMODITY IN THE WORLD, AFTER O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NEED TO PLAY THE GAME OF "CAT'S CRAD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 THE CONSTITUTION, WHAT IS THE ONLY BRANCH OF THE U.S. MILITARY SPECIFICALLY AUTHORIZED TO MAINTAIN A STANDING FOR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AUCE IS THE MOST COMMON LIQUID ASIAN CONDI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 FILTERS BLOOD TO PRODUCE UR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AS THE ICONIC DRESS THAT AUDREY HEPBURN WORE IN "BREAKFAST AT TIFFANY'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866960" y="762120"/>
            <a:ext cx="5410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PER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 WAS MADE 1971-1980, BUT WAS REPLACED BY THE ESCORT AFTER REAR-END COLLISION SAFETY CONCER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B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Y NOMINATED JILL STEIN FOR PRESIDENT IN 2012 AND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TRADED COMMODITY IN THE WORLD, AFTER O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8572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NEED TO PLAY THE GAME OF "CAT'S CRAD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 THE CONSTITUTION, WHAT IS THE ONLY BRANCH  OF THE U.S. MILITARY SPECIFICALLY AUTHORIZED TO MAINTAIN A STANDING FOR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AUCE IS THE MOST COMMON LIQUID ASIAN CONDI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 FILTERS BLOOD TO PRODUCE UR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828800" y="7621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PER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14:22:32Z</dcterms:created>
  <dc:creator>Jennifer Budzinski</dc:creator>
  <dc:description/>
  <dc:language>en-US</dc:language>
  <cp:lastModifiedBy>Erich Friedman</cp:lastModifiedBy>
  <dcterms:modified xsi:type="dcterms:W3CDTF">2020-08-27T14:26:28Z</dcterms:modified>
  <cp:revision>386</cp:revision>
  <dc:subject/>
  <dc:title>Slide 1</dc:title>
</cp:coreProperties>
</file>