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EBD2-E018-41AD-A2DF-CB9D92BA9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0BA0-795A-45CB-8F6A-BFB3AC36A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37EE-9032-4640-A67F-E1C9BFD17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75B9-BBAE-497E-AA8A-8A9013333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463E-69A6-404F-9F30-A89872732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0228-E701-4C21-ABEB-12E7286A6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0D2E-1F80-4F83-845A-3903BB124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19A4-BDD8-451E-8978-0638616AD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110F-80F4-4160-9283-72D9EFB7D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1623-544A-4464-AA9F-54C90DC58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AC18-BE1A-405E-9907-DC83141E9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0096-58EF-49FD-94B6-BBE222C1A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B819-7356-43BD-8F4B-4C1994E14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499E-0041-4663-BD3F-0DBC5AA01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8E40-C48E-4BCF-B7E3-B89D2DECD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BD7D-4BC3-41F9-ADBE-A2286D935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7468-40F9-4184-8012-8136DFE6E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A09A-964B-4014-BCA8-DEB5ADB7F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E40D-79F9-4CF1-A19A-F1ED1E2A2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E9D3-C49C-4F15-A4A5-E15E27E11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0524-338C-4680-A1C6-BC0153EC2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BD33-97EF-4FFC-AFCB-D0D58BFFE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6CB8-98D1-43EA-82C4-D9E9E6D5A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TIN WORD FOR "BOR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RMS REDUCTION TREATY THAT THE U.S. AND USSR SIGNED IN 1991 IS KNOWN BY WHAT ACRONY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ROFESSIONAL HOCKEY  TEAM BASED IN DALL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WAS THE LARGEST RETAILER UNTIL WALMART SURPASSED IT IN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LLECTIVE NOUN FOR WHAT ANIMAL IS "SLO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KATHRYN'S IN DOWNTOWN DELAND S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333440" y="762120"/>
            <a:ext cx="6477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COMPRESSION SICKNESS IS BETTER KNOWN AS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"LOOKS AFTER ONESELF" OR "DEFENDS ONESELF FROM ATT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RMS REDUCTION TREATY THAT THE U.S. AND USSR SIGNED IN 1991 IS KNOWN BY WHAT ACRONY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85800" y="4876920"/>
            <a:ext cx="7924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TERM FOR ARCHAEOLOGICAL DISCOV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TIN WORD FOR "BOR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3960" y="3809880"/>
            <a:ext cx="7696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CH  WORD  DIFFERS  FROM THE  PRECEDING  WORD  BY  EXACTLY  ONE  LET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ROFESSIONAL HOCKEY  TEAM BASED IN DALL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WAS THE LARGEST RETAILER UNTIL WALMART SURPASSED IT IN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LLECTIVE NOUN FOR WHAT ANIMAL IS "SLO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KATHRYN'S IN DOWNTOWN DELAND S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COMPRESSION SICKNESS IS BETTER KNOWN AS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"LOOKS AFTER ONESELF" OR "DEFENDS ONESELF FROM ATT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 TERM FOR ARCHAEOLOGICAL DISCOV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7T18:47:12Z</dcterms:created>
  <dc:creator>Jennifer Budzinski</dc:creator>
  <dc:description/>
  <dc:language>en-US</dc:language>
  <cp:lastModifiedBy>Erich Friedman</cp:lastModifiedBy>
  <dcterms:modified xsi:type="dcterms:W3CDTF">2020-08-27T14:29:53Z</dcterms:modified>
  <cp:revision>430</cp:revision>
  <dc:subject/>
  <dc:title>Slide 1</dc:title>
</cp:coreProperties>
</file>