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FE60-F7A4-41A3-B419-7282A2F68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F77E-A9A9-4269-9BCF-C3DE0E549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3804-4023-4B99-A928-11D873D6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8448-428A-4911-830D-AD6D515A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99CE-99C6-4C1C-B233-F04FE6ADD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0D10-0459-4978-9D3F-4A6E9854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BECE-22D6-4C41-A63E-8B392498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632C-0FFB-4C26-9A05-7B076967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3BB8-EA36-498A-AF54-48F5CEC55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8993-759C-46D9-B4B7-B2B3E1ABF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643B-EFB1-4D86-B482-D5445D288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A61D-1402-4591-B23C-805FDDD5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38ED-438C-4B1B-99A5-8EDF9DDB5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9A0C-6EEF-42C9-8E9E-E084C9DA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299C-2186-4A74-AA90-4445506A1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EA27-D651-4597-A9F8-18FCCC80B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0449-EE57-4048-A302-27850BB0A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115B-3B2A-4AD5-B54F-CB0B315AC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176D-3D04-4767-93D8-B36DC74B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50AE-DB7D-4A5F-8013-56342EDA1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71AB-1E69-4FC7-91B8-F5E7B6DC6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D9E1-2D2D-4F9B-89D2-43F9EB288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5DB2-1792-40D2-91F2-B3A6C38D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OR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MS REDUCTION TREATY THAT THE U.S. AND USSR SIGNED IN 1991 IS KNOWN BY WHAT ACRONY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FESSIONAL HOCKEY  TEAM BASED IN DA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LARGEST RETAILER UNTIL WALMART SURPASSED IT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LECTIVE NOUN FOR WHAT ANIMAL IS "SL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KATHRYN'S IN DOWNTOWN DELAND S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33440" y="762120"/>
            <a:ext cx="64771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OMPRESSION SICKNESS IS BETTER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LOOKS AFTER ONESELF" OR "DEFENDS ONESELF FROM ATT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MS REDUCTION TREATY THAT THE U.S. AND USSR SIGNED IN 1991 IS KNOWN BY WHAT ACRONY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924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RCHAEOLOGICAL DISCOV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TIN WORD FOR "BOR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3809880"/>
            <a:ext cx="7696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CH  WORD  DIFFERS  FROM THE  PRECEDING  WORD  BY  EXACTLY  ONE  LET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OFESSIONAL HOCKEY  TEAM BASED IN DAL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WAS THE LARGEST RETAILER UNTIL WALMART SURPASSED IT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LECTIVE NOUN FOR WHAT ANIMAL IS "SL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KATHRYN'S IN DOWNTOWN DELAND S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OMPRESSION SICKNESS IS BETTER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LOOKS AFTER ONESELF" OR "DEFENDS ONESELF FROM ATT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 TERM FOR ARCHAEOLOGICAL DISCOV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8:47:12Z</dcterms:created>
  <dc:creator>Jennifer Budzinski</dc:creator>
  <dc:description/>
  <dc:language>en-US</dc:language>
  <cp:lastModifiedBy>Erich Friedman</cp:lastModifiedBy>
  <dcterms:modified xsi:type="dcterms:W3CDTF">2020-08-27T14:29:53Z</dcterms:modified>
  <cp:revision>430</cp:revision>
  <dc:subject/>
  <dc:title>Slide 1</dc:title>
</cp:coreProperties>
</file>