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932-0E3C-4118-8ECC-079E545F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9623-8BBE-4F91-AF20-29109FB8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9E6-AC26-4E5C-A8CE-B4328F26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71C-79F4-48F5-987C-2AEF9BAF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FC2-E7B1-4A5C-A9C4-C3EE50B0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B2D-FFAD-41AB-ADA2-6D6AA5B4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7F46-0E38-48C8-B900-EDE259B5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BAF-1869-4EC2-9487-7819C090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BFA-21F2-4EB7-A691-416CD91F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BDB-DD11-47CD-A525-8D23C9BF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07E-3768-4388-8101-FB7C3F12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57C6-868D-49BC-9757-0D732A15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8AEF-B75F-4372-806A-5902FA89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867C-CC06-41E7-8516-3D8D3A6F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618D-DA0A-4A70-9B34-D921BA4F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604E-231D-472C-97A6-6BACEAE2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07F0-4B54-4E07-9057-E9AF695E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C4C-CAC9-44C0-AD71-5BE75E09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E05-DF27-43D8-8E04-7E93C1493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0499-BA3A-470C-AA46-523C828D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81D6-FC85-45DB-AE77-7CF32A9E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1F5-9597-4DE4-B73D-BDA20C21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BAB-43F6-44BC-BEC4-EDA31FB2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RCHAEOLOGICAL DISCOV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CH  WORD  DIFFERS  FROM THE  PRECEDING  WORD  BY  EXACTLY  ONE  LE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 TERM FOR ARCHAEOLOGICAL DISCOV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47:12Z</dcterms:created>
  <dc:creator>Jennifer Budzinski</dc:creator>
  <dc:description/>
  <dc:language>en-US</dc:language>
  <cp:lastModifiedBy>Erich Friedman</cp:lastModifiedBy>
  <dcterms:modified xsi:type="dcterms:W3CDTF">2020-08-27T14:29:53Z</dcterms:modified>
  <cp:revision>430</cp:revision>
  <dc:subject/>
  <dc:title>Slide 1</dc:title>
</cp:coreProperties>
</file>