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8EC5-B282-4B7C-92AD-AEEB177ED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C47B-6622-4AC1-80E9-FF71555D3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BCA3-03C2-4E22-A8CE-08B818E5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C102-FF84-41C9-BFEA-68E026151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FF4B-D5C8-4088-B4DF-EB421C303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BCCB-4DD3-4C5A-ADC8-4187D25E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B79C-85A5-4712-971F-082FD5994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B41D-9133-4559-BE5C-4FF584AC5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D751-98DB-425B-BF7D-B54DBFEA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D053-CA8D-4D18-B619-BBED7B824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8C3A-09C3-4CE9-87F4-84C39EF7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84FA-CEE5-4390-8A82-94C374EA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7576-5EC9-49FE-8BCC-CEFA5895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04BC-F0CC-4F1F-A06F-29EC1826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FFAD-ACD0-455C-8F6B-63E5459AF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BBAC-F26B-4724-BAFE-0310E3A3B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DFCA-99AC-4041-9D3A-1173D45D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048-2A8F-4EDC-A36E-FA0333BC0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3874-5D67-4A61-874A-B53024783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67D7-D8CA-4882-A088-16D8262BB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E4C6-3F92-42A0-987A-4FF77E2EA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8DED-1BC1-4F53-81C4-AD80900A3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F5F-722B-4DEC-91B5-E478704F5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THRILLER FILM STARRED MORGAN FREEMAN AND ASHLEY JUD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0-POINT AREA OF AN ARCHERY TARGE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WONDER WOMAN'S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  MY  HEART  &amp;  HOPE  TO  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ATH IS OFTEN FOLLOWED BY "STICK A NEEDLE IN MY E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26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BOX OFFICE FAILURE STARRED ROBIN WILLIAMS, JOAN CUSACK, MICHAEL GAMBON, AND LL COOL J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ND  J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ID ADAM SANDLER PLAY BOTH A MAN AND HI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ARMY OR MA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CLOSEST TO THE MIDDLE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0-POINT AREA OF AN ARCHERY TARGE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GOES  THE  WEA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UNE PLAYED BY JACK-IN-THE-BOX CHILDREN'S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  THE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THRILLER FILM STARRED MORGAN FREEMAN AND ASHLEY JUD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AMES  PATTERSON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WONDER WOMAN'S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ATH IS OFTEN FOLLOWED BY "STICK A NEEDLE IN MY E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BOX OFFICE FAILURE STARRED ROBIN WILLIAMS, JOAN CUSACK, MICHAEL GAMBON, AND LL COOL J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ID ADAM SANDLER PLAY BOTH A MAN AND HIS 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 IN THE ARMY OR MAR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CLOSEST TO THE MIDDLE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UNE PLAYED BY JACK-IN-THE-BOX CHILDREN'S T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6:38:35Z</dcterms:created>
  <dc:creator>Jennifer Budzinski</dc:creator>
  <dc:description/>
  <dc:language>en-US</dc:language>
  <cp:lastModifiedBy>Erich Friedman</cp:lastModifiedBy>
  <dcterms:modified xsi:type="dcterms:W3CDTF">2020-08-27T14:30:57Z</dcterms:modified>
  <cp:revision>389</cp:revision>
  <dc:subject/>
  <dc:title>Slide 1</dc:title>
</cp:coreProperties>
</file>