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D7B08-AE76-4106-BB15-34B1EF8B71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7455E-A634-4C78-9975-BAFE448277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FDFAF-6952-4E6B-B4BF-387A339977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20E25-F48C-49AE-85F8-D4AD5A9001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B8A70-D772-4AE6-9BE9-6195811931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75BDD-C51E-457F-A1ED-C01F106F0D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7B2CA-9D91-4715-9724-6BEE648C43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53A97-FA26-4314-B019-9150A48F12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B24C1-F0F5-4D19-9BA5-9239512167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2D20F-FCD5-44D8-A77A-11915A7E38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776C4-2D40-43EE-80C0-3F4AEFF4DF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86350-B50E-41FD-9761-B2FA70B2B2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CD670-82E6-4166-BB66-275BDDAE50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65EBA-50F0-4AB9-B8C3-F4E649E9AD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EB6A3-00B7-4057-94E3-9C7680EB64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5F51A-7236-4190-BDA0-94EB2395F5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3E728-854C-4C65-976E-D779CE633E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5A846-0617-4BD4-92F2-9720756D31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3B2E1-D23D-464A-9EC0-1E0431E3B2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BEC21-B229-4DFF-BBCD-155A0EBEC0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E716B-150B-4408-BB56-EC77911CFE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0A47F-7FC8-44AE-B40C-E83FAF5000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7BA63-96C3-42D9-981D-C5B0B1518D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600200" y="1523880"/>
            <a:ext cx="5943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571320" y="761760"/>
            <a:ext cx="80010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7 THRILLER FILM STARRED MORGAN FREEMAN AND ASHLEY JUD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ULLSEY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1143000" y="762120"/>
            <a:ext cx="68580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10-POINT AREA OF AN ARCHERY TARGET CALL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NVISIB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762120" y="762120"/>
            <a:ext cx="76197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DJECTIVE DESCRIBES WONDER WOMAN'S PLAN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04920" y="4876920"/>
            <a:ext cx="86104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ROSS  MY  HEART  &amp;  HOPE  TO  DI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762120" y="762120"/>
            <a:ext cx="761976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OATH IS OFTEN FOLLOWED BY "STICK A NEEDLE IN MY EY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26880" y="4876920"/>
            <a:ext cx="8458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OY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304920" y="762120"/>
            <a:ext cx="8534160" cy="32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2 BOX OFFICE FAILURE STARRED ROBIN WILLIAMS, JOAN CUSACK, MICHAEL GAMBON, AND LL COOL J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81160" y="4876920"/>
            <a:ext cx="6781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ACK  AND  JI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838080" y="762120"/>
            <a:ext cx="74678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2011 FILM DID ADAM SANDLER PLAY BOTH A MAN AND HIS SIST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RIVA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800280" y="762120"/>
            <a:ext cx="754380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OWEST RANK IN THE ARMY OR MARIN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i="1" lang="en-US" sz="36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 OF  JU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838080" y="762120"/>
            <a:ext cx="74678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EDERAL HOLIDAY IS CLOSEST TO THE MIDDLE OF THE YEA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914400" y="762120"/>
            <a:ext cx="73152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10-POINT AREA OF AN ARCHERY TARGET CALL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380880" y="4876920"/>
            <a:ext cx="83822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OP  GOES  THE  WEAS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380880" y="762120"/>
            <a:ext cx="83822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OST COMMON TUNE PLAYED BY JACK-IN-THE-BOX CHILDREN'S TOY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ISS  THE  GIR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571680" y="762120"/>
            <a:ext cx="80010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7 THRILLER FILM STARRED MORGAN FREEMAN AND ASHLEY JUD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990720" y="4343400"/>
            <a:ext cx="7162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AMES  OF  JAMES  PATTERSON  NOVE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380880" y="76176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DJECTIVE DESCRIBES WONDER WOMAN'S PLAN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647640" y="762120"/>
            <a:ext cx="784872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OATH IS OFTEN FOLLOWED BY "STICK A NEEDLE IN MY EY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304920" y="762120"/>
            <a:ext cx="85341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2 BOX OFFICE FAILURE STARRED ROBIN WILLIAMS, JOAN CUSACK, MICHAEL GAMBON, AND LL COOL J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762120" y="761760"/>
            <a:ext cx="76197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2011 FILM DID ADAM SANDLER PLAY BOTH A MAN AND HIS SIST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762120" y="761760"/>
            <a:ext cx="76197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OWEST RANK IN THE ARMY OR MARIN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723960" y="761760"/>
            <a:ext cx="76960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EDERAL HOLIDAY IS CLOSEST TO THE MIDDLE OF THE YEA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380880" y="762120"/>
            <a:ext cx="838224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OST COMMON TUNE PLAYED BY JACK-IN-THE-BOX CHILDREN'S TOY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18T16:38:35Z</dcterms:created>
  <dc:creator>Jennifer Budzinski</dc:creator>
  <dc:description/>
  <dc:language>en-US</dc:language>
  <cp:lastModifiedBy>Erich Friedman</cp:lastModifiedBy>
  <dcterms:modified xsi:type="dcterms:W3CDTF">2020-08-27T14:30:57Z</dcterms:modified>
  <cp:revision>389</cp:revision>
  <dc:subject/>
  <dc:title>Slide 1</dc:title>
</cp:coreProperties>
</file>