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FA5-FA17-4811-880B-D77925D0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248B-8868-47E4-889B-EB831C12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E59-CF8E-4F16-B11C-1A6F01EC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882-8A3D-4482-A795-130343EC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13BF-E1E4-4B8E-96AE-3B4A2694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C02-1CDD-4784-A74C-1397E14F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9D02-858B-44D7-82CC-11EA4F7D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091-59C3-4931-B7D2-32F808B6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891-AA68-4442-B073-7A402430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902C-BAA4-4D04-8E27-67EC3565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44A7-9C30-4EE1-B81C-C24579DD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B75-C374-4E05-8A0D-1B69A0DA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1938-F02A-42C4-BCDE-ECB63DF0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3BCD-13E2-4D89-BF2A-772B32C4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4C7-49B5-45F7-B6DC-4C2B9516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3F1C-F8B5-4CEC-B98C-F5CCDF9D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1D81-B235-4747-A93B-6872B280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D1EA-EA1D-456E-8A32-B7C67AB7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F781-E72A-4E69-A7EA-17E7ED940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CD7F-AEC3-4CAF-A522-39CD97D1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604-D9B7-42BA-BDF7-42EE6008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A6B6-62B1-40D5-87E8-4CBEB1F5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C9DA-F412-465D-9A56-F91A4F89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THRILLER FILM STARRED MORGAN FREEMAN AND ASHLEY JUD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0-POINT AREA OF AN ARCHERY TARGE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WONDER WOMAN'S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  MY  HEART  &amp;  HOPE  TO  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ATH IS OFTEN FOLLOWED BY "STICK A NEEDLE IN MY E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6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BOX OFFICE FAILURE STARRED ROBIN WILLIAMS, JOAN CUSACK, MICHAEL GAMBON, AND LL COOL J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ND  J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ID ADAM SANDLER PLAY BOTH A MAN AND HI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ARMY OR 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CLOSEST TO THE MIDDLE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0-POINT AREA OF AN ARCHERY TARGE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GOES  THE  WEA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UNE PLAYED BY JACK-IN-THE-BOX CHILDREN'S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THE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THRILLER FILM STARRED MORGAN FREEMAN AND ASHLEY JUD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AMES  PATTERSON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WONDER WOMAN'S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ATH IS OFTEN FOLLOWED BY "STICK A NEEDLE IN MY E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BOX OFFICE FAILURE STARRED ROBIN WILLIAMS, JOAN CUSACK, MICHAEL GAMBON, AND LL COOL J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ID ADAM SANDLER PLAY BOTH A MAN AND HI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ARMY OR MA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CLOSEST TO THE MIDDLE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UNE PLAYED BY JACK-IN-THE-BOX CHILDREN'S T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6:38:35Z</dcterms:created>
  <dc:creator>Jennifer Budzinski</dc:creator>
  <dc:description/>
  <dc:language>en-US</dc:language>
  <cp:lastModifiedBy>Erich Friedman</cp:lastModifiedBy>
  <dcterms:modified xsi:type="dcterms:W3CDTF">2020-08-27T14:30:57Z</dcterms:modified>
  <cp:revision>389</cp:revision>
  <dc:subject/>
  <dc:title>Slide 1</dc:title>
</cp:coreProperties>
</file>