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EA2-60CC-457B-AF61-085C794D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1D6-679F-4CCA-805B-7FBA7203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BC7D-ACD7-4A3E-A3AC-440085D4B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373A-EAD5-4FAE-A615-27F9C45D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BB26-95C6-4921-BD15-67620B9F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15C7-243D-4A23-BF66-22C72B732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E13-B857-4E59-8FC3-DCF44CBE7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6451-13AF-4D21-A70E-B9868AB0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A4BE-512B-4204-AADF-EEFE8C00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F16-A633-4F28-B43C-1139E9AC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FA6C-DD3E-473C-9E3E-FF261EAE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B44-EDDC-4171-AD21-F51AA358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3799-2A6D-4F0E-9F9D-EBA2E9AD0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8F2-CF02-4E1F-87AB-DFAD38073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12F-E622-4306-B49B-63883CDB3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2682-DA54-4968-A8F0-50FB7938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EA48-24F2-4659-91E8-FA2A6106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EF40-AE34-4A3F-85BF-46F418C9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057-4A93-4F37-A408-F8C5F3E2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7BF-1727-416C-8BF3-78F4F481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3FCC-2254-4736-AF96-8D8EB67D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BE5F-C71D-4941-8ED0-47583EF2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E46F-DC0C-4C24-8800-7C576CBA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STORE CHAIN BECAME "PAY 'N SAVE", AND THEN "RITE AID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OURIST ATTRACTION IN SAN ANTONIO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CURRENCY OF PAN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52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WARE CHAIN REPLACED THE WORD "MAN" WITH "FOLKS" IN THEIR JINGLE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62040" y="75888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E STORE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3462480" y="2590920"/>
            <a:ext cx="22190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19120" y="762120"/>
            <a:ext cx="63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SPACE SHUTTLE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2360" y="762120"/>
            <a:ext cx="683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LB LEAGUE HAS LOST 4 OF THE LAST 6 WORLD SER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IRD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7040" y="762120"/>
            <a:ext cx="7907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OURIST ATTRACTION IN SAN ANTONIO,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UNIT IS EQUAL TO ONE CYCLE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I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STORE CHAIN BECAME "PAY 'N SAVE", AND THEN "RITE AI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  RENTAL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CURRENCY OF PAN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WARE CHAIN REPLACED THE WORD "MAN" WITH "FOLKS" IN THEIR JINGLE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E STORE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349800" y="2590920"/>
            <a:ext cx="244296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52520" y="762120"/>
            <a:ext cx="6438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SPACE SHUTTLE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LB LEAGUE HAS LOST 4 OF THE LAST 6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UNIT IS EQUAL TO ONE CYCLE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4:32:54Z</dcterms:modified>
  <cp:revision>359</cp:revision>
  <dc:subject/>
  <dc:title>Slide 1</dc:title>
</cp:coreProperties>
</file>