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8624-04A1-4F86-B597-E4AF5CCD1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6439-FC42-4279-989F-36E2FCC99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6822-ACFC-425D-A3F6-9EFCC963D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FCA6-C584-4C5A-8D96-06DDBB640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112A-058A-4E26-8012-7C6D75149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8E62-C064-4786-9793-B6BFE03E6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3B9E-4BDB-401D-B7D4-9CDAD3C59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0B89-2117-4D06-AD7A-6EBD22727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F5DF-678D-4C0D-B23A-814124159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CB9C-38F3-426B-A1DD-C0FAE37EB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6544-A26B-44AD-974A-6A956F392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657C-E542-431E-9816-8CD201F42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7C8B-7A03-4A76-A559-0EBD644A9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BAA0-78E3-483B-8574-2E923F788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3137-B8E3-4CC6-8B49-E3502B0DA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B456-FBD0-43A7-8F7D-57BF0AAE1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BD9B-CF0C-4807-9CB8-4C1CCB218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BF60-9E69-4FB6-980D-B1D92AE1D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E757-24B4-424D-8D4C-5C08152A4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7B3D-BCA6-4B7B-9ECD-D90BC3B69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6410-41ED-4DCC-9CF5-D3FEC4587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3F30-C19A-4FF1-BAE7-3A15714E6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CD08-3CD4-4470-A674-52F7FB551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828720" y="761760"/>
            <a:ext cx="7486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UG STORE CHAIN BECAME "PAY 'N SAVE", AND THEN "RITE AID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LA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47640" y="762120"/>
            <a:ext cx="7848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TOURIST ATTRACTION IN SAN ANTONIO, TEX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L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FFICIAL CURRENCY OF PANA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028880" y="75240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RDWARE CHAIN REPLACED THE WORD "MAN" WITH "FOLKS" IN THEIR JINGLE IN 198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2209680" y="4896000"/>
            <a:ext cx="47246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Y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562040" y="758880"/>
            <a:ext cx="6019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OE STORE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3462480" y="2590920"/>
            <a:ext cx="2219040" cy="221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TERP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419120" y="762120"/>
            <a:ext cx="6305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FIRST SPACE SHUTTLE BUIL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752480" y="4876920"/>
            <a:ext cx="5639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52360" y="762120"/>
            <a:ext cx="6839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LB LEAGUE HAS LOST 4 OF THE LAST 6 WORLD SER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V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371600" y="762120"/>
            <a:ext cx="6400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TIN WORD FOR "BIRD"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17040" y="762120"/>
            <a:ext cx="7907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TOURIST ATTRACTION IN SAN ANTONIO, TEX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T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34920" y="762120"/>
            <a:ext cx="727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YSICS UNIT IS EQUAL TO ONE CYCLE PER SECO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RIF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05040" y="762120"/>
            <a:ext cx="7333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UG STORE CHAIN BECAME "PAY 'N SAVE", AND THEN "RITE AID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723960" y="4876920"/>
            <a:ext cx="7696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  RENTAL  COMPAN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FFICIAL CURRENCY OF PANAM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RDWARE CHAIN REPLACED THE WORD "MAN" WITH "FOLKS" IN THEIR JINGLE IN 198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676520" y="762120"/>
            <a:ext cx="5790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OE STORE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3349800" y="2590920"/>
            <a:ext cx="2442960" cy="244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352520" y="762120"/>
            <a:ext cx="64389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FIRST SPACE SHUTTLE BUIL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19280" y="762120"/>
            <a:ext cx="7704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LB LEAGUE HAS LOST 4 OF THE LAST 6 WORLD SE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230480" y="761760"/>
            <a:ext cx="6681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TIN WORD FOR "BIR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YSICS UNIT IS EQUAL TO ONE CYCLE PER SECO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27T14:32:54Z</dcterms:modified>
  <cp:revision>359</cp:revision>
  <dc:subject/>
  <dc:title>Slide 1</dc:title>
</cp:coreProperties>
</file>