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069-1449-4406-A288-1DFF0DFD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3631-D3DC-437A-998A-EFBDE41B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208D-2B35-4E3F-826F-FC947B5B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607-9C8D-45D2-BE52-9160CCC5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E8F-3129-4B22-B30B-5AF86E7C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673D-A6D9-4458-B501-02E4F0B9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A48-C674-4D19-B9AB-B4F02B3B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6F44-8720-45B4-BE17-82AAFFE9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E37-B405-4847-8B25-AF4E92AB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359-E1DE-48BC-AE6C-6180B635F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3AA-3841-4C5C-919A-EE501B4B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E5B-5C32-474F-A940-C51B9051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B92-BE4C-4DA3-A395-322C2BB4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72F-333A-443D-9AB8-BB1EBEC5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A01-7504-46AC-8B24-0CDB0563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882C-8535-4464-ACA1-A32784E0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3396-ABCC-44CE-A24D-EEC4F34EB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8409-A39B-4619-B91B-9F10A2C5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B4B-B0BD-41A9-A1E5-2D2410D1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F3A-E109-4684-BE34-C3C51B5D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E15-9B62-4A80-AB8F-00BB4D19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1148-8BEC-4499-9EE8-0889D786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E06-5D37-47BC-81FC-AD6A9642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52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62040" y="75888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462480" y="2590920"/>
            <a:ext cx="22190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19120" y="762120"/>
            <a:ext cx="63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2360" y="762120"/>
            <a:ext cx="683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RENTAL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349800" y="2590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4:32:54Z</dcterms:modified>
  <cp:revision>359</cp:revision>
  <dc:subject/>
  <dc:title>Slide 1</dc:title>
</cp:coreProperties>
</file>