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428F-9851-4F99-962B-07733B34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CF2-4725-4163-BEA7-7A149B70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6582-DAEF-4CB8-BAB3-DDFF9F41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2535-5597-4BAD-877E-822FB40E1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A0B0-A42F-4E65-A972-5C0082C5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BBD5-60B5-44B0-9848-7FB849101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B7C7-5A05-445F-9399-69DE2B83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AF49-9E6A-4851-BB44-329E5337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7DBB-76EE-4240-B52C-ABEEAF80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03B5-9B1E-4BF6-8DA5-64717D61B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366F-957E-473F-A426-4ADF8092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BD67-1C4B-4EA2-84F4-D6EA2534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151C-D274-44D3-B122-8EEFD4847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0D3A-4608-4B93-AA19-77B8733C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209E-1FB7-4D96-AAF5-63655065F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3896-5CA7-4EE0-903D-ECE008BA7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F9B-10D5-4DDA-BA09-092E2489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C36-D2C6-4414-B73E-9D1676AF9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FEE7-5F74-4DF9-B3D6-4303F1C0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9276-8833-4595-81A7-2859A52C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E87B-B09C-4B6B-9E98-A6892F3D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C9A3-EF39-46B4-B9AE-04054BDE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530-27EB-4D23-90A2-AA5F20C1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81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PL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 AFTER SYD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CITY WAS PREVIOUSLY KNOWN AS PETROGRAD (1914-1924) AND LENINGRAD (1924-199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5096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RISTIAN PHILOSOPHER IS THE SAINT OF BREWERS, PRINTERS, AND THEOLOG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80 WINT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AUSTRALIA, AFTER SYD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ITALY, AFTER ROME AND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HOLIDAY OF AMERI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HOT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2:19:13Z</dcterms:created>
  <dc:creator>Jennifer Budzinski</dc:creator>
  <dc:description/>
  <dc:language>en-US</dc:language>
  <cp:lastModifiedBy>Erich Friedman</cp:lastModifiedBy>
  <dcterms:modified xsi:type="dcterms:W3CDTF">2020-08-23T20:25:18Z</dcterms:modified>
  <cp:revision>331</cp:revision>
  <dc:subject/>
  <dc:title>Slide 1</dc:title>
</cp:coreProperties>
</file>