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6A2-09F2-4298-8730-7B3830C76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DCDC-EAD9-4094-B81F-E8FE9A22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B896-71B5-4FC2-9674-66F66ABC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02E-66A6-402D-B37F-DE8EBA78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AC1-FC17-4F5E-B54D-8E031344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8C25-FEC5-4259-B94F-2586A98FC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981-E32F-4422-A4A4-B3ADAB0F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789-EA33-492E-B252-2841D01E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3F1B-B47B-46D0-9653-24B673FA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2DA7-3DF6-4D95-99B5-FBA4BC83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ADB-EED0-4E5A-B8FC-1EA965D7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B44B-675D-4393-BF01-A327A6E0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E749-1E5C-4AAF-A822-3EF4E144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6A83-6A2C-446F-BEDA-45F25C22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570-BD73-4AB8-BA50-EF6A0432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673-256D-4611-91BD-D215C075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EDE-B477-4CD2-BD3D-09320353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722-A695-4F0D-A626-FD78EE03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4B0-A091-45AE-BD2F-CD5380C6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2F61-AB5B-4FFF-A57D-D6D18B3B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C5B1-7F9C-4D3A-BBEA-C21D1AF0D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9DFD-E3E2-4E6C-87B9-9ADBA7AC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455-3D3C-4687-9E86-D65AE7AE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81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PL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 AFTER SYD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5096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AFTER SYD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2:19:13Z</dcterms:created>
  <dc:creator>Jennifer Budzinski</dc:creator>
  <dc:description/>
  <dc:language>en-US</dc:language>
  <cp:lastModifiedBy>Erich Friedman</cp:lastModifiedBy>
  <dcterms:modified xsi:type="dcterms:W3CDTF">2020-08-23T20:25:18Z</dcterms:modified>
  <cp:revision>331</cp:revision>
  <dc:subject/>
  <dc:title>Slide 1</dc:title>
</cp:coreProperties>
</file>