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83F8-1A39-44F8-986E-09669AC24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8385-B85C-40C1-A48C-D21A1BD62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5069-8527-4990-B07A-25D9233B0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0B95-8530-4954-8547-5D9FCB330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B6DE-7837-4319-A4AA-4C0FB7D0D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FE61-7E43-4CE7-8297-C78536F33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EB7B-99CC-4C0E-AEC1-6400A1FB3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35FB-7F38-4854-8F8C-1891DCD59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946E-DC48-4729-BF06-557A0FA13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6F8A-7340-4073-A6DE-0FB0332EE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7C9D-9B5C-43D1-96D4-C05F08EAC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7B7D-E4FC-464C-94CF-2FD18C4E7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49B6-91C7-4417-96AE-AF5B78209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E2EA-DD6D-4472-9F50-039BDA353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A059-E58A-4418-93DB-FDC8A4BD5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BC5F-ECFD-4C46-AA7C-8FC592350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81B8-1E7E-4DC1-9CE2-FBBB034F6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7887-B9B2-401C-A36D-20B98356E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9004-C4B9-48B7-B999-3B7A30573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E1DE-7C57-4374-8406-30DB94B50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6E59-1174-4422-8251-1B912AF3B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0281-7ABA-4D2C-8A7E-1280DE66F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220C-1257-4DE0-BFC9-06CBBFA18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CHRISTIAN PHILOSOPHER IS THE SAINT OF BREWERS, PRINTERS, AND THEOLOGIA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INT  PETERSBU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CITY WAS PREVIOUSLY KNOWN AS PETROGRAD (1914-1924) AND LENINGRAD (1924-1991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LLY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THE HOME OF THE AMERICAN FILM INDUS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812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PLANET IN OUR SOLAR SYS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KE  PL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ERE THE 1980 WINTER OLYMPICS HE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BOU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CITY IN AUSTRALIA,  AFTER SYDN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90720" y="762120"/>
            <a:ext cx="71625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CITY IN ITALY, AFTER ROME AND MIL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52560" y="762120"/>
            <a:ext cx="72388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VORITE HOLIDAY OF AMERIC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CITY WAS PREVIOUSLY KNOWN AS PETROGRAD (1914-1924) AND LENINGRAD (1924-1991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CO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371600" y="750960"/>
            <a:ext cx="6400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-LETTER WORD IS SLANG FOR HOT CHOCOL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INT  AUGUST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0720" y="762120"/>
            <a:ext cx="716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CHRISTIAN PHILOSOPHER IS THE SAINT OF BREWERS, PRINTERS, AND THEOLOGI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TIES  IN  FLOR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61800" y="761760"/>
            <a:ext cx="8420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THE HOME OF THE AMERICAN FILM INDUS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PLANET IN OUR SOLAR SYS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ERE THE 1980 WINTER OLYMPICS HE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CITY IN AUSTRALIA, AFTER SYDN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CITY IN ITALY, AFTER ROME AND MIL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VORITE HOLIDAY OF AMERICA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371600" y="7621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-LETTER WORD IS SLANG FOR HOT CHOCOL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2T02:19:13Z</dcterms:created>
  <dc:creator>Jennifer Budzinski</dc:creator>
  <dc:description/>
  <dc:language>en-US</dc:language>
  <cp:lastModifiedBy>Erich Friedman</cp:lastModifiedBy>
  <dcterms:modified xsi:type="dcterms:W3CDTF">2020-08-23T20:25:18Z</dcterms:modified>
  <cp:revision>331</cp:revision>
  <dc:subject/>
  <dc:title>Slide 1</dc:title>
</cp:coreProperties>
</file>