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F913-F67F-4992-B69D-DBED66344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7A39-8C98-4EE8-A6CF-B3D4F795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6F4D-FADF-454F-B29C-967BBCDC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33C2-49A9-4099-85A6-DAA42B00F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8E64-8083-48A5-A301-7E72DE096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ADF3-4304-487F-9E85-2724B27D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FEE7-53B8-4314-A4FE-37004F7A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9A41-354E-4FA0-8843-AB7273024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4E0-3200-4034-8D3D-1D54A8C16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61FC-805B-4090-BDE4-87A280C48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526B-2E4F-49DB-84D7-0ED17D3B0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7EA9-B3E0-4C76-B525-F3E56095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2B8-D324-4D5F-82A6-CA28D1E43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A5EA-C7A2-4CAA-BB1C-CAEC07B7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B9C6-0B7E-42A4-877B-C9C6682FF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0C51-EBEC-4527-86DD-3C2F38B1B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0185-57F3-4F7B-87B8-DE80E7D9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62B-7647-47CD-AA9D-5D7C88DA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0BF-8312-4355-A710-90C976596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219E-E20F-48DE-931E-E5212D95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79FE-D901-400A-AEBD-F1BEDD9C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AF3-87A8-4BD0-8928-40B72299B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7F90-734E-49AD-BC98-1016CE81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9903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EW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A LAST NAME BEGINNING WITH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SECRETARY OF HOUSING AND URBAN DEVELOPMENT IN BILL CLINTON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WHOSE FACE IS ON MOUNT RUSHMORE SERVED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POL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OWLY LOST THE PRESIDENTIAL ELECTION OF 1944, RESULTING IN A FAMOUSLY INCORRECT NEWSPAPER HEAD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1984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57:21Z</dcterms:created>
  <dc:creator>Jennifer Budzinski</dc:creator>
  <dc:description/>
  <dc:language>en-US</dc:language>
  <cp:lastModifiedBy>Erich Friedman</cp:lastModifiedBy>
  <dcterms:modified xsi:type="dcterms:W3CDTF">2020-08-27T14:34:16Z</dcterms:modified>
  <cp:revision>408</cp:revision>
  <dc:subject/>
  <dc:title>Slide 1</dc:title>
</cp:coreProperties>
</file>