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03A1-B0DE-462E-A580-0045483B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9CCB-3E0D-4C84-A5E6-A6F74F2C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CB6-980B-4852-97A1-71A9EB68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2C4-14DE-4B8E-AE0B-F8C607E4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1379-CCFF-4275-A53D-799475EB9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5DC-EF82-4B52-B29C-2EA12F82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CC9B-C266-4F4E-8F9D-0FDB3DD8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C2E9-038E-4E0E-A7AF-8AC8CA3E1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104-9C9A-48D9-9B57-52AC4F82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1980-9034-46C7-8A1A-6367E307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7098-01A5-4BA3-AD48-0FCE8C8C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47FC-9F1D-4429-99AB-F98058395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BB5-DB07-4C86-A6B0-779966C1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88BF-C0CA-48CB-9F5D-669CA0B91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0A1E-A568-4EDF-9347-D2E065A7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AF7D-63DF-4DB5-BE88-A4D0BF36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9808-8CAC-4690-BE6B-52DE1FE1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89C-66B5-4F23-8801-AC2401DA2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C63-C95B-4123-9F70-802E7AF3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683-F7E7-4035-9501-A8BA9FA1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05BE-D395-4726-8301-75FE57044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61F-DF78-4007-B496-7AEF81399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7426-E16E-4074-98E0-02568EC3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EW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57:21Z</dcterms:created>
  <dc:creator>Jennifer Budzinski</dc:creator>
  <dc:description/>
  <dc:language>en-US</dc:language>
  <cp:lastModifiedBy>Erich Friedman</cp:lastModifiedBy>
  <dcterms:modified xsi:type="dcterms:W3CDTF">2020-08-27T14:34:16Z</dcterms:modified>
  <cp:revision>408</cp:revision>
  <dc:subject/>
  <dc:title>Slide 1</dc:title>
</cp:coreProperties>
</file>