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387A-844E-42FE-8EB0-968B6FFE2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A968-F6F7-4B23-9F0B-58B685162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5E5D-3911-49C3-BC9C-E3DEF8C32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8A92-04E4-4735-AAB1-69A5B85A2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76C6-EF5C-4495-BE95-7B717CEE9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5833-1343-40C1-B2C1-346D833E4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794E-8535-4B81-A3E4-AB2715796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66C5-C475-439F-8A87-823EE8BD8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9659-2F3E-48E3-97F6-A4FD87FE0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0DB4-FCF7-47CD-B8C5-4B94C3227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FD52-B449-42EC-95C0-6E67BF7CC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7DB7-69ED-4378-8615-D1FB7FB98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E7B7-A1E6-4C44-8657-4917BE61B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849A-CB5F-4FFD-8CA2-EE07039D3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0FC3-11AE-4A76-AC60-17748A0A1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8958-8C6F-4F09-B320-167854F28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54E3-4AB3-4500-B94F-FDAB2B449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22BF-5FB1-4562-B391-6C9B01F87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6B89-0E5E-49F6-8482-81568F273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D5C9-9BFF-4573-B4F3-FE2AB77D0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378A-CF4F-40EA-A7E7-7BDB5F891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B87E-D8EA-42D4-A08F-18C6BB421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1952-7674-4622-B937-CC5BB1792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9903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TICAL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U.S. SECRETARY OF HOUSING AND URBAN DEVELOPMENT IN BILL CLINTON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E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VAN  BU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HAD A LAST NAME BEGINNING WITH "V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OVER  CLEV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ODORE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WHOSE FACE IS ON MOUNT RUSHMORE SERVED 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HAD POL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DEW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RROWLY LOST THE PRESIDENTIAL ELECTION OF 1944, RESULTING IN A FAMOUSLY INCORRECT NEWSPAPER HEADL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J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81160" y="762120"/>
            <a:ext cx="67816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CHIEF JUSTICE OF THE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LSON  ROCKEF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U.S. VICE PRESIDENT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HAD A LAST NAME BEGINNING WITH "V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O  CU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VE THE KEYNOTE SPEECH AT THE 1984 DEMOCRATIC CONVENTION, BUT NEVER SOUGHT A PRESIDENTIAL NOMIN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CU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U.S. SECRETARY OF HOUSING AND URBAN DEVELOPMENT IN BILL CLINTON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E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VERNORS  OF  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WHOSE FACE IS ON MOUNT RUSHMORE SERVED 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HAD POL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RROWLY LOST THE PRESIDENTIAL ELECTION OF 1944, RESULTING IN A FAMOUSLY INCORRECT NEWSPAPER HEADL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CHIEF JUSTICE OF THE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U.S. VICE PRESIDENT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VE THE KEYNOTE SPEECH AT THE 1984 DEMOCRATIC CONVENTION, BUT NEVER SOUGHT A PRESIDENTIAL NOMIN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1:57:21Z</dcterms:created>
  <dc:creator>Jennifer Budzinski</dc:creator>
  <dc:description/>
  <dc:language>en-US</dc:language>
  <cp:lastModifiedBy>Erich Friedman</cp:lastModifiedBy>
  <dcterms:modified xsi:type="dcterms:W3CDTF">2020-08-27T14:34:16Z</dcterms:modified>
  <cp:revision>408</cp:revision>
  <dc:subject/>
  <dc:title>Slide 1</dc:title>
</cp:coreProperties>
</file>