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DD7D-B95F-4D16-8B3E-72B3AF9C0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270A-2A5C-4BBC-8C60-80F924970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F409-FAD8-4F0D-BE9F-7C8638572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2CFC-25E4-41A8-B1DA-1956CF6E4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1A43-3782-4DE8-91F6-B15555781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5919-04DC-4EDE-97F7-206080A3E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1C39-ABDB-4583-AE45-EE9273E66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0CAC-4A3D-476B-9006-C40EEAA7A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99EC-28B5-4376-824F-DFCADD9D3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11C3-CEE6-4E72-8EFC-0D3E2E0E3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A30B-51D4-4EE2-9185-7546D2A27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B2D2-9241-4960-AB3A-7F2613557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11AD-9E2B-4BAD-9736-F1C219B8C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869D-8C98-42A4-AEE1-B5F1B2DE9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5CEF-C57B-4E55-8A0B-BC2A73B58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44F8-0002-47D3-A11B-05A5BDEE9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2195-4ABB-45E3-9A99-887A2CEA3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07DC-12E0-4978-9384-CF65A0069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9AA7-D242-4BAA-84EF-D2A645A5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6772-DD79-4A98-AF1B-14313873B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5183-A340-4657-8ED0-0A6EF6C6F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8DE0-1F23-4CBA-85EC-20DBE8BA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39A8-F630-4685-8613-EEBE51DB8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9903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AWA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RIAL B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U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OIN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PERFEC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ANILLA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IGH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CTOBER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ANTHE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W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N I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ACK RYAN: ____ RECRUI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CONSPIRAC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AG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RINCES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STO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 COMES 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B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____ AND FOG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PEBBLE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OOD AND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OIN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PERFEC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ZON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EAD FRED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AWA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RIAL B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34340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BOX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570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ANILLA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IGH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CTOBER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ANTHE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W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N I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ACK RYAN: ____ RECRUI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CONSPIRAC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AG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RINCES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STO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 COMES 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B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____ AND FOG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PEBBLE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OOD AND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ZON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EAD FRED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03:35:30Z</dcterms:created>
  <dc:creator>Jennifer Budzinski</dc:creator>
  <dc:description/>
  <dc:language>en-US</dc:language>
  <cp:lastModifiedBy>Erich Friedman</cp:lastModifiedBy>
  <dcterms:modified xsi:type="dcterms:W3CDTF">2020-08-27T14:35:50Z</dcterms:modified>
  <cp:revision>400</cp:revision>
  <dc:subject/>
  <dc:title>Slide 1</dc:title>
</cp:coreProperties>
</file>