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BC0F-3F53-47BC-B00E-7416E62B7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A146-1580-45E6-90B3-B71CAAEA3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5DA8-B145-4C3D-AE30-D21EF6815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1D78-3C16-4416-965D-E4CE383F7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9CBC-1143-4FD0-A7F8-D8727B33C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6969-4496-4274-BC38-7B3220F4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4097-9EEA-407E-9BEA-4DCE4FCF8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F089-C1AF-4F4E-964C-882910C7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8034-90B1-4C05-8B0A-38D4269D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2110-EBB4-46BC-A998-7C4E719EC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EF9-2802-468A-80B7-86382DE8D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26FA-E830-481D-945F-5E6C458FA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8125-1E04-4AFE-8A60-6D3F72A54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E4DF-B394-43C9-B6CA-9361FF6E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DA1A-0859-4E5F-B685-9A1661BC7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69BA-DD36-4228-84D0-BBE5B919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8E73-4977-498F-91DC-A6AE601A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C7D3-5E8E-45DD-805E-D6447FEC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8F7C-9070-4FAE-952D-378BADA8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F98-05C3-47D1-A7E1-486D68E6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19D4-D371-43B0-9530-43304F281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850E-9A29-44E9-BF08-E1869E7C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A82F-3243-4B09-989F-9080A9937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OI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PERFEC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AWA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RIAL B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BOX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ANILLA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IG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CTOBE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ANTH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W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N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ACK RYAN: ____ RECRU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CONSPIRA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G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PRINCES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B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____ AND FO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PEBBL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OOD AND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ZO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DEAD FRED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03:35:30Z</dcterms:created>
  <dc:creator>Jennifer Budzinski</dc:creator>
  <dc:description/>
  <dc:language>en-US</dc:language>
  <cp:lastModifiedBy>Erich Friedman</cp:lastModifiedBy>
  <dcterms:modified xsi:type="dcterms:W3CDTF">2020-08-27T14:35:50Z</dcterms:modified>
  <cp:revision>400</cp:revision>
  <dc:subject/>
  <dc:title>Slide 1</dc:title>
</cp:coreProperties>
</file>