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E8C7-62DE-4A82-96A7-47DFC4DD8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9902-6E6B-410D-9724-6921C41E6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54D7-9D28-48AF-898D-36A09AC43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E8A1-F6DF-412D-9F81-FFD481716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0D94-0143-4A3E-8294-78B2B4B1D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1A08-4C79-48EB-A932-668EBA891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E238-C283-4BB7-B001-0A763EFDE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4A2B-07CD-4E69-867D-19EBFFE6E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2F2A-AC5B-4A45-9AB6-14ED5699D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AE97-5EFD-4AB4-8AF9-A7655A682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F709-BB1B-41B3-8314-54DFC2EB3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6943-CE8F-4E77-8BF1-29E1B1B3A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B152-2E07-4F3D-8C47-3C521093E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4D61-CD45-4620-8E70-23EBA97B9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78A8-89CC-44D2-BC3C-AAA0B93F9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8978-5AB9-4B21-B552-75334B6C9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CB18-B32F-483A-8117-489FF2E51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C974-7C6A-4C58-BC08-1307C3003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1D9A-AB48-417A-A498-0FD119ACB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F217-FB5B-40CB-8F1A-E90B40DC1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51D4-DC81-4F6D-B7B0-E63686DB7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0D9D-9A2A-4B9D-9833-3C6437C0C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0428-93B7-477C-9597-BDC1D07EE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9903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L IN THE BLANK 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NAWAY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RIAL BY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DU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POINT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RUDGE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PERFECT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333440" y="762120"/>
            <a:ext cx="6477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VANILLA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HIGH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CTOBER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PANTHER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SWAN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EN IN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JACK RYAN: ____ RECRUIT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CONSPIRAC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AG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PRINCESS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 STOR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04840" y="762120"/>
            <a:ext cx="69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RE COMES THE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ABY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T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OUSE OF ____ AND FOG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 PEBBLES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OOD AND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POINT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RUDGE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PERFECT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ZON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DEAD FRED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NAWAY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RIAL BY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DU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04840" y="4343400"/>
            <a:ext cx="6934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BE  FOLLOWED  BY  THE  WORD  "BOX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570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VANILLA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HIGH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CTOBER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PANTHER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SWAN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EN IN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JACK RYAN: ____ RECRUIT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CONSPIRAC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AGE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PRINCESS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 STOR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RE COMES THE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ABY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T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OUSE OF ____ AND FOG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 PEBBLES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OOD AND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ZONE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DEAD FRED"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03:35:30Z</dcterms:created>
  <dc:creator>Jennifer Budzinski</dc:creator>
  <dc:description/>
  <dc:language>en-US</dc:language>
  <cp:lastModifiedBy>Erich Friedman</cp:lastModifiedBy>
  <dcterms:modified xsi:type="dcterms:W3CDTF">2020-08-27T14:35:50Z</dcterms:modified>
  <cp:revision>400</cp:revision>
  <dc:subject/>
  <dc:title>Slide 1</dc:title>
</cp:coreProperties>
</file>