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C024-8BA7-4242-A02B-6844993FE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AA77-E107-402C-8035-C26A7E8C0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CCF5-CC2C-4DAF-BC78-38105EC52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A4FF-EC5D-4AA1-A046-C09C5C806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2286-D209-4A45-A0ED-F887285D4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419C-8B9F-4870-9B84-DA9A0EC19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D535-1DE7-4B2B-BDEC-F125F79FB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0CC4-D5B4-44EB-ABA4-92DA1E89B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8CF4-B309-432F-BE76-9910CF392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026A-EA1D-40FE-8FEB-581A76F72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0ADD-D1C9-4F90-8FDD-B403C00D1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C4F9-1E2D-41FE-BD57-0C845B8CC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AA4E-6D45-45D7-B601-D540991D2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BB9E-837E-40EE-BE6B-2A28E2C13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C2A9-F389-4BF6-AFDA-FD8D737A0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44A8-6690-497F-82BB-06C3274AB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1D8F-0F90-4CA5-B657-8585A59AD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B420-0546-4007-AEFC-83A06E4E5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7495-894C-4540-BACD-F1F308DF2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38E8-B342-4E8C-BE1F-474E199D4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B238-F5E9-452F-B67B-D578CD431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7649-FA98-4925-815F-52036E2B4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31A1-A410-4286-B674-27F8ECC9F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NE DID CHARLES LINDBERGH USE TO FLY THE FIRST SOLO NONSTOP TRANSATLANTIC FLIGH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UNDER  B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CITY IN CANADA ON LAKE SUPERI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ORIGINAL VERSION OF THE GAME OF CLUE, WHAT WAS THE ONLY WEAPON NOT MADE OF MET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EATEST  SHOW  ON  EA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TTO OF THE RINGLING BROS. AND BARNUM &amp; BAILEY CIRC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VY  BLUE  AND  G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TWO OFFICIAL COLORS OF THE NAVY FOOTBALL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RTI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NSATION OF SPINNING WHILE STATIONARY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V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38080" y="762120"/>
            <a:ext cx="74678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7 HURRICANE IS TIED WITH KATRINA AS BEING THE COSTLI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FILM STARRING KEANU REEVES AND SANDRA BULLOCK TAKES PLACE ALMOST ENTIRELY ON A B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CITY IN CANADA ON LAKE SUPERI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09480" y="487692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E  MAR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266760" y="762120"/>
            <a:ext cx="8610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WRITER SALLY ROGERS ON "THE DICK VAN DYKE SHOW", AND WAS A PANELIST ON "THE HOLLYWOOD SQUARES" FOR 14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PIRIT  OF  ST.  LOU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NE DID CHARLES LINDBERGH USE TO FLY THE FIRST SOLO NONSTOP TRANSATLANTIC FLI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04920" y="487692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MY  STEWART  FILM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ORIGINAL VERSION OF THE GAME OF CLUE, WHAT WAS THE ONLY WEAPON NOT MADE OF MET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TTO OF THE RINGLING BROS. AND BARNUM &amp; BAILEY CIRC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TWO OFFICIAL COLORS OF THE NAVY FOOTBALL T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NSATION OF SPINNING WHILE STATIONARY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7 HURRICANE IS TIED WITH KATRINA AS BEING THE COSTLI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FILM STARRING KEANU REEVES AND SANDRA BULLOCK TAKES PLACE ALMOST ENTIRELY ON A B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WRITER SALLY ROGERS ON "THE DICK VAN DYKE SHOW", AND WAS A PANELIST ON "THE HOLLYWOOD SQUARES" FOR 14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4T23:00:16Z</dcterms:created>
  <dc:creator>Jennifer Budzinski</dc:creator>
  <dc:description/>
  <dc:language>en-US</dc:language>
  <cp:lastModifiedBy>Erich Friedman</cp:lastModifiedBy>
  <dcterms:modified xsi:type="dcterms:W3CDTF">2020-08-27T14:37:11Z</dcterms:modified>
  <cp:revision>411</cp:revision>
  <dc:subject/>
  <dc:title>Slide 1</dc:title>
</cp:coreProperties>
</file>