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811F-A1F0-422B-817B-B199590E8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B430-E16F-444F-96E4-1B2002FD8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F7BD-3AB3-455A-891B-7CF6D307B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2851-0405-441A-B0B8-5F31010AE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E41C-F8E0-462A-8A57-C7A71F956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E08B-2BF5-4CCA-A105-0CE4B7526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A228-8EF2-4720-9FE4-A80D57140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E767-13AD-412C-A705-C7B4556CC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8B0D-4586-43F0-9ED3-9DFE8AD75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BA83-1218-4717-A600-09BBB4DC2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16DB-0BD6-4272-8789-61B591F78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4ED2-0DB2-4AB6-B94F-A053C2DFB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C4C0-26AF-4546-BE25-88684339A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4890-865D-4580-9274-0547E5F7B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0769-FBC6-42B8-B056-C1177D69B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D5D7-8D0A-4935-A2D5-0F19F663E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E663-EB89-45A5-AAEE-B7589F5FB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024E-A6D1-4807-AC37-7763142B4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5BB5-81C0-4F3C-B125-F0521B893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B1C1-2287-458C-B4CD-F0F72DEBF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C435-CD38-4D5A-B187-25789041D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1CEB-7B1B-4372-AB43-DE97999FD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1E35-EA7A-4D3F-B15C-FABE57D07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NE DID CHARLES LINDBERGH USE TO FLY THE FIRST SOLO NONSTOP TRANSATLANTIC FLIGH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UNDER  B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CITY IN CANADA ON LAKE SUPERI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ORIGINAL VERSION OF THE GAME OF CLUE, WHAT WAS THE ONLY WEAPON NOT MADE OF MET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EATEST  SHOW  ON  EA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TTO OF THE RINGLING BROS. AND BARNUM &amp; BAILEY CIRC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VY  BLUE  AND  G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TWO OFFICIAL COLORS OF THE NAVY FOOTBALL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RTI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NSATION OF SPINNING WHILE STATIONARY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V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38080" y="762120"/>
            <a:ext cx="74678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7 HURRICANE IS TIED WITH KATRINA AS BEING THE COSTLI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FILM STARRING KEANU REEVES AND SANDRA BULLOCK TAKES PLACE ALMOST ENTIRELY ON A B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CITY IN CANADA ON LAKE SUPERI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09480" y="487692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E  MA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266760" y="762120"/>
            <a:ext cx="8610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WRITER SALLY ROGERS ON "THE DICK VAN DYKE SHOW", AND WAS A PANELIST ON "THE HOLLYWOOD SQUARES" FOR 14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PIRIT  OF  ST.  LOU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NE DID CHARLES LINDBERGH USE TO FLY THE FIRST SOLO NONSTOP TRANSATLANTIC FL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04920" y="487692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MY  STEWART  FILM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ORIGINAL VERSION OF THE GAME OF CLUE, WHAT WAS THE ONLY WEAPON NOT MADE OF MET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TTO OF THE RINGLING BROS. AND BARNUM &amp; BAILEY CIRC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TWO OFFICIAL COLORS OF THE NAVY FOOTBALL T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NSATION OF SPINNING WHILE STATIONARY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7 HURRICANE IS TIED WITH KATRINA AS BEING THE COSTLI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FILM STARRING KEANU REEVES AND SANDRA BULLOCK TAKES PLACE ALMOST ENTIRELY ON A B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WRITER SALLY ROGERS ON "THE DICK VAN DYKE SHOW", AND WAS A PANELIST ON "THE HOLLYWOOD SQUARES" FOR 14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4T23:00:16Z</dcterms:created>
  <dc:creator>Jennifer Budzinski</dc:creator>
  <dc:description/>
  <dc:language>en-US</dc:language>
  <cp:lastModifiedBy>Erich Friedman</cp:lastModifiedBy>
  <dcterms:modified xsi:type="dcterms:W3CDTF">2020-08-27T14:37:11Z</dcterms:modified>
  <cp:revision>411</cp:revision>
  <dc:subject/>
  <dc:title>Slide 1</dc:title>
</cp:coreProperties>
</file>