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4ADB-EA34-4C57-AB5F-3BB621120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B2DA-5C19-4043-AF10-1B0CECA8C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0818-7223-42B4-BB85-C4E66BE96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BB0C-989E-4953-848A-02E00004C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C663-AA94-441C-8BDA-39DB5681C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0D3A-48D4-4506-8989-7E8716207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1B77-3DF3-419B-94A5-710B0B9C9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0076-452E-4B56-8B37-93BD0ABF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E540-67C9-41D7-91EA-F5B55E146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FE98-735E-4186-B30E-7E5FB0864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5E8B-BDA3-4C21-B4B0-B8845765F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282C-3518-4570-A16D-D6277D54C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9351-E79E-4667-A857-389C7F842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63C5-F686-424E-BDB5-D0E89D08C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1A9F-8BC0-4B81-AC20-B4DF22510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DBE2-F00B-44BE-8F6D-D00420CBD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743E-A060-4E71-8055-54D43B43B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9347-0F34-41A3-8BD6-B5F04F627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11E7-DE50-4B84-90E4-130FAF2FA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87D2-15CE-4FA3-B3BE-9FE1658CC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F474-426B-41CA-9C07-10B99D497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63BE-2E0A-428A-B235-B3E78BBB0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2F50-AE1C-41FE-B7CD-6C2C131E6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 DID CHARLES LINDBERGH USE TO FLY THE FIRST SOLO NONSTOP TRANSATLANTIC FL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NDER  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CANADA ON LAKE SUPERI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RIGINAL VERSION OF THE GAME OF CLUE, WHAT WAS THE ONLY WEAPON NOT MADE OF ME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ATEST  SHOW  ON  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TO OF THE RINGLING BROS. AND BARNUM &amp; BAILEY CIRC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VY  BLUE  AND  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WO OFFICIAL COLORS OF THE NAVY FOOTBAL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TI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NSATION OF SPINNING WHILE STATIONAR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HURRICANE IS TIED WITH KATRINA AS BEING THE COSTLI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STARRING KEANU REEVES AND SANDRA BULLOCK TAKES PLACE ALMOST ENTIRELY ON A B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CANADA ON LAKE SUPERI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  MA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66760" y="762120"/>
            <a:ext cx="8610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RITER SALLY ROGERS ON "THE DICK VAN DYKE SHOW", AND WAS A PANELIST ON "THE HOLLYWOOD SQUARES" FOR 14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PIRIT  OF  ST.  LO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 DID CHARLES LINDBERGH USE TO FLY THE FIRST SOLO NONSTOP TRANSATLANTIC FL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STEWART  FILM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RIGINAL VERSION OF THE GAME OF CLUE, WHAT WAS THE ONLY WEAPON NOT MADE OF ME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TO OF THE RINGLING BROS. AND BARNUM &amp; BAILEY CIRC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WO OFFICIAL COLORS OF THE NAVY FOOTBALL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NSATION OF SPINNING WHILE STATIONAR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HURRICANE IS TIED WITH KATRINA AS BEING THE COSTLI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STARRING KEANU REEVES AND SANDRA BULLOCK TAKES PLACE ALMOST ENTIRELY ON A B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RITER SALLY ROGERS ON "THE DICK VAN DYKE SHOW", AND WAS A PANELIST ON "THE HOLLYWOOD SQUARES" FOR 14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7T14:37:11Z</dcterms:modified>
  <cp:revision>411</cp:revision>
  <dc:subject/>
  <dc:title>Slide 1</dc:title>
</cp:coreProperties>
</file>