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193A-0726-4B87-BDAF-A046EA3F2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9CDE-5B0C-4D88-8905-1C09234D6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2022-FB14-4CE1-8078-D9285822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0C85-74A6-4612-9DCC-B72ED5D0B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6A95-B8B5-4333-97CF-C76FBAB20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832C-CC3B-4047-A05D-3804268B2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84A9-169D-4311-B0AF-84B0575AF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8B8D-9971-4ECD-871E-A8F882B57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E76F-A7DD-4214-9DD9-20C30EB4A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E051-62C4-4860-8436-3D02C4DDF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F57F-F8BC-41E4-8DBA-27B8D7B8A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6D8F-0801-47BD-847F-1682B5EAD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AE54-8E20-40E0-BE79-90DC2C759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3BBA-3D38-41C7-A206-09A6F04B6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08F7-90AE-42EA-BE30-EF4993491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B7C1-404C-40EC-ACBC-496CF3BAB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AAE1-1576-4858-B97A-2E9374ADC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A5E6-0762-4402-BA37-882106702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B7FA-2865-4CEC-A24D-43F566633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FDB6-EFBE-4396-BD2A-687DA1007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F47-09D9-42FC-B9D3-61A0BCBCB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CCB1-99DE-4B63-9DC1-5FCF1A8CE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9658-2500-42EE-9D4E-0C2953BE4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GAMBLERS WHO WAGER LARGE AMOUNTS OF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LEGAL COUNTRY-WIDE DRINKING A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 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CI-FI FILM STARRING KEANU REEVES IS NAMED FOR THE EFFECT THAT POWERS NUCLEAR F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GLASS STRUCTURE GRACES THE ENTRANCE OF THE LOUVRE MU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QUANTITY CAN BE FOUND BY DIVIDING THE MASS OF THE SOLUTE BY THE VOLUME OF THE S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0320"/>
            <a:ext cx="6400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PASSWORD OF INTERNET US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PE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004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URFARIS IS AN INSTRUMENTAL EXCEPT FOR THE NAME OF THE SONG AT THE VERY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TTACHES" WHEN A JURY IS SWORN IN DURING A CRIMINAL T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LEGAL COUNTRY-WIDE DRINKING A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TELL  THE  T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IS COURT OATH:    "I SWEAR ___ ___ ___ ___, THE WHOLE TRUTH, AND NOTHING BUT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RO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GAMBLERS WHO WAGER LARGE AMOUNTS OF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GAME 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CI-FI FILM STARRING KEANU REEVES IS NAMED FOR THE EFFECT THAT POWERS NUCLEAR FI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GLASS STRUCTURE GRACES THE ENTRANCE OF THE LOUVRE MU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QUANTITY CAN BE FOUND BY DIVIDING THE MASS OF THE SOLUTE BY THE VOLUME OF THE S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PASSWORD OF INTERNET US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URFARIS IS AN INSTRUMENTAL EXCEPT FOR THE NAME OF THE SONG AT THE VERY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TTACHES" WHEN A JURY IS SWORN IN DURING A CRIMINAL T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IS COURT OATH:    "I SWEAR ___ ___ ___ ___, THE WHOLE TRUTH, AND NOTHING BUT THE TRU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2:19:12Z</dcterms:created>
  <dc:creator>Jennifer Budzinski</dc:creator>
  <dc:description/>
  <dc:language>en-US</dc:language>
  <cp:lastModifiedBy>Erich Friedman</cp:lastModifiedBy>
  <dcterms:modified xsi:type="dcterms:W3CDTF">2020-08-27T14:42:12Z</dcterms:modified>
  <cp:revision>425</cp:revision>
  <dc:subject/>
  <dc:title>Slide 1</dc:title>
</cp:coreProperties>
</file>