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E676-61C9-4D45-8BA8-8E688FE13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F8CC-86EA-475A-857D-39DC7B4A2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87B7-AA3F-4B95-970A-A00A99A93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764B-1CE4-48A5-A058-1E3A0BDD7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1725-1594-4953-A08C-4714A4D53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673E-A5B7-4894-BE83-661B25177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68F5-CD48-4EDD-A49F-6CED535EE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37E2-CB9B-4D45-BC7D-3B03FDB5D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7B5E-3FA7-402A-8172-CCCA2B3810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1EB2-9A73-4950-BA04-BEBC28D92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336F-AD9A-423F-B7A5-990B067A4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FB18-F6D9-4C25-93CF-E35E936D0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BB39-FABF-4801-98C2-E55D5132D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EABB-E7C0-4BF1-8E52-49002A908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FDB0-F4A5-4926-806A-AB13DC66A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DAEF-F0D0-4526-A14B-3D4355F1D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2B234-45C9-4DE4-947A-D727362F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1431-DE3D-403D-80F7-92B6B5171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6759-A8AF-4695-9F0B-ED12A7086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9F8A-BA2D-4943-851F-B63E85BEE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B8D5-2327-4A47-9CFA-0E137B119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EBB8-937B-4BFB-B4BC-3D948AF49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BFB9-528C-47EF-B42E-40B236160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GAMBLERS WHO WAGER LARGE AMOUNTS OF MON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LEGAL COUNTRY-WIDE DRINKING AG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IN  RE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CI-FI FILM STARRING KEANU REEVES IS NAMED FOR THE EFFECT THAT POWERS NUCLEAR F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GLASS STRUCTURE GRACES THE ENTRANCE OF THE LOUVRE MU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QUANTITY CAN BE FOUND BY DIVIDING THE MASS OF THE SOLUTE BY THE VOLUME OF THE S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371600" y="760320"/>
            <a:ext cx="6400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PASSWORD OF INTERNET US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PE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0040" y="762120"/>
            <a:ext cx="81532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URFARIS IS AN INSTRUMENTAL EXCEPT FOR THE NAME OF THE SONG AT THE VERY BEGINN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OPAR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TTACHES" WHEN A JURY IS SWORN IN DURING A CRIMINAL T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LEGAL COUNTRY-WIDE DRINKING AG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  TELL  THE  T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IS COURT OATH:    "I SWEAR ___ ___ ___ ___, THE WHOLE TRUTH, AND NOTHING BUT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  RO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GAMBLERS WHO WAGER LARGE AMOUNTS OF MON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19320" y="4876920"/>
            <a:ext cx="6705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GAME  SH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SCI-FI FILM STARRING KEANU REEVES IS NAMED FOR THE EFFECT THAT POWERS NUCLEAR FI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GLASS STRUCTURE GRACES THE ENTRANCE OF THE LOUVRE MUSE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MISTRY, WHAT QUANTITY CAN BE FOUND BY DIVIDING THE MASS OF THE SOLUTE BY THE VOLUME OF THE S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PASSWORD OF INTERNET US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URFARIS IS AN INSTRUMENTAL EXCEPT FOR THE NAME OF THE SONG AT THE VERY BEGINN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ATTACHES" WHEN A JURY IS SWORN IN DURING A CRIMINAL T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S ARE MISSING FROM THIS COURT OATH:    "I SWEAR ___ ___ ___ ___, THE WHOLE TRUTH, AND NOTHING BUT THE TRU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12:19:12Z</dcterms:created>
  <dc:creator>Jennifer Budzinski</dc:creator>
  <dc:description/>
  <dc:language>en-US</dc:language>
  <cp:lastModifiedBy>Erich Friedman</cp:lastModifiedBy>
  <dcterms:modified xsi:type="dcterms:W3CDTF">2020-08-27T14:42:12Z</dcterms:modified>
  <cp:revision>425</cp:revision>
  <dc:subject/>
  <dc:title>Slide 1</dc:title>
</cp:coreProperties>
</file>