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F58E-F26B-432D-97C1-206A76694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E896-1AD9-4747-BF9A-41028D70D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548D-8309-4A5B-BE69-6AFB5C8E3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C01D-4A5E-4721-83F4-19A9B7C1E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BBE9-6607-4C58-8199-D4604EFB8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12A6-28AF-4F93-87FE-F34A62FB2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4351-D5FE-46AF-BC2E-73EB8EF6E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AF59-8C89-4D99-9FE5-2149EA1CD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5756-828B-44BC-99A9-A458EC16B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CF0F-B749-4FE9-9250-D6E719BD1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F602-AEF7-4658-BF1B-E4BA7D940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5BEE-D3C5-4C10-8699-F5E79AA72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CCB7-A46E-4D29-B5FB-4F61CA480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3292-7C31-466B-BB0F-E9E0A5369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DEE2-BC0D-4DA3-9BAA-C00878178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9236-7427-477A-A950-065D9D393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24EB-BB4A-4635-96DC-699D8C6F0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E59F-C2B3-40EA-A035-0AB0BC66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6C26-5C30-4E33-8C63-6D74768E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F3D1-0705-463C-89F1-170C5F1E2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C986-483F-4DC9-8330-02A7C21AD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5110-62F7-441A-901F-D456447EA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2FD2-6DE1-4268-8D84-D341308D2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GAMBLERS WHO WAGER LARGE AMOUNTS OF M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LEGAL COUNTRY-WIDE DRINKING AG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N 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SCI-FI FILM STARRING KEANU REEVES IS NAMED FOR THE EFFECT THAT POWERS NUCLEAR FI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RAM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GLASS STRUCTURE GRACES THE ENTRANCE OF THE LOUVRE MU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QUANTITY CAN BE FOUND BY DIVIDING THE MASS OF THE SOLUTE BY THE VOLUME OF THE S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71600" y="760320"/>
            <a:ext cx="6400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PASSWORD OF INTERNET US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PE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0040" y="762120"/>
            <a:ext cx="8153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SURFARIS IS AN INSTRUMENTAL EXCEPT FOR THE NAME OF THE SONG AT THE VERY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TTACHES" WHEN A JURY IS SWORN IN DURING A CRIMINAL T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LEGAL COUNTRY-WIDE DRINKING AG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TELL  THE  T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RE MISSING FROM THIS COURT OATH:    "I SWEAR ___ ___ ___ ___, THE WHOLE TRUTH, AND NOTHING BUT THE TR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RO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GAMBLERS WHO WAGER LARGE AMOUNTS OF M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GAME  SH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SCI-FI FILM STARRING KEANU REEVES IS NAMED FOR THE EFFECT THAT POWERS NUCLEAR FI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GLASS STRUCTURE GRACES THE ENTRANCE OF THE LOUVRE MU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QUANTITY CAN BE FOUND BY DIVIDING THE MASS OF THE SOLUTE BY THE VOLUME OF THE S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PASSWORD OF INTERNET US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SURFARIS IS AN INSTRUMENTAL EXCEPT FOR THE NAME OF THE SONG AT THE VERY BEGI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TTACHES" WHEN A JURY IS SWORN IN DURING A CRIMINAL T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RE MISSING FROM THIS COURT OATH:    "I SWEAR ___ ___ ___ ___, THE WHOLE TRUTH, AND NOTHING BUT THE TRU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2:19:12Z</dcterms:created>
  <dc:creator>Jennifer Budzinski</dc:creator>
  <dc:description/>
  <dc:language>en-US</dc:language>
  <cp:lastModifiedBy>Erich Friedman</cp:lastModifiedBy>
  <dcterms:modified xsi:type="dcterms:W3CDTF">2020-08-27T14:42:12Z</dcterms:modified>
  <cp:revision>425</cp:revision>
  <dc:subject/>
  <dc:title>Slide 1</dc:title>
</cp:coreProperties>
</file>