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BA97-9D17-449B-B6B1-344C12877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B192-1448-4AD0-B164-C16C7B65F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3C0E-4E20-4797-B0AE-22E2B96E3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8685-18B8-41AD-8580-7395FBDF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A58F-52A3-4074-87C5-D4D8E16BA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688D-7200-4220-A499-29E49193D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DE22-B502-4958-8018-3E3D426D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5552-C814-4AB7-A8C8-6E20BCAA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77C0-2073-4395-8589-AC7D9FE56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F61E-2E46-430F-9E04-189CE1242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DCDD-216F-49DF-846E-6FF93182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405B-5C46-4276-A057-F28D89283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77E-56CD-49F6-96E4-99ED7B97E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0B10-1887-4DFA-BBBE-BDE0DFF9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4F5A-637F-41DF-BD9A-E74CBDDF5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63BB-98D9-4682-B083-F0F78D54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65D3-E87C-4958-86A9-22FD9869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38D7-C3A5-492F-A611-DB7A5DCB9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4C4-BB46-46DB-A517-B46FC19D7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4EAE-FCAC-446B-81C8-BD78BFAC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4841-B276-431D-8FB9-6965FD50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8E9-4BD4-4C7E-9D6F-CBA081511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8528-18E4-4C2A-B30B-AAFAEBC7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CHEGO, GRUYÈRE, AND COTIJA ARE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VERAGE DID THE PHILOSOPHER VOLTAIRE SUPPOSEDLY DRINK 50 CUPS A DAY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TONE DID MICHELANGELO USE TO CARVE HIS SCULPTURES "DAVID" AND "PIETÀ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RIA, LEBANON, AND EGYPT HAVE DIFFERENT CURRENCIES THAT GO BY WHAT COMMO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DEAD MARINE ORGANISM FULL OF HOLES AND CHANNELS IS USED FOR CLEA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SPIRIT WAS THE FIRST ONE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FO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ST GERMAN WOODS IS THE SOURCE OF THE DANUBE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SIDE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LTERNATE DIMENSION WHERE THE DEMOGORGON LIVES ON THE TV SHOW "STRANGER TH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VERAGE DID THE PHILOSOPHER VOLTAIRE SUPPOSEDLY DRINK 50 CUPS A DAY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UTCH WORD FOR WHAT VEGETABLE IS "WORTEL", THE SAME WORD THEY USE FOR THE WORD "RO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CHEGO, GRUYÈRE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TONE DID MICHELANGELO USE TO CARVE HIS SCULPTURES "DAVID" AND "PIETÀ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RIA, LEBANON, AND EGYPT HAVE DIFFERENT CURRENCIES THAT GO BY WHAT COMMO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DEAD MARINE ORGANISM FULL OF HOLES AND CHANNELS IS USED FOR CLEA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SPIRIT WAS THE FIRST ONE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ST GERMAN WOODS IS THE SOURCE OF THE DANUBE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LTERNATE DIMENSION WHERE THE DEMOGORGON LIVES ON THE TV SHOW "STRANGER TH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UTCH WORD FOR WHAT VEGETABLE IS "WORTEL", THE SAME WORD THEY USE FOR THE WORD "RO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6:42:13Z</dcterms:created>
  <dc:creator>Jennifer Budzinski</dc:creator>
  <dc:description/>
  <dc:language>en-US</dc:language>
  <cp:lastModifiedBy>Erich Friedman</cp:lastModifiedBy>
  <dcterms:modified xsi:type="dcterms:W3CDTF">2020-08-27T14:43:27Z</dcterms:modified>
  <cp:revision>425</cp:revision>
  <dc:subject/>
  <dc:title>Slide 1</dc:title>
</cp:coreProperties>
</file>