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F08-0776-4D82-8ABA-1250516F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6085-6F6E-4C68-9297-99F6667B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B0EF-CF64-460D-BA7B-8C7625C1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0160-3CBC-4BB2-AAF6-35E93AFE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D4A-67B7-4153-BABA-B950FCFBE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6B08-8202-4C61-B760-D8ABE55D8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A1B-C402-45CC-9315-47771A1F8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7D36-0B43-4379-8771-C7A56029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9A9E-0595-4845-AF32-34B83BE3F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984D-863A-4F25-8509-438E06FC3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3490-9463-4D8B-B0DD-0108D31D6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34EE-34AE-4186-8FE8-6FB6E1FF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BAD3-4AA3-4D98-A7D6-74A030492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4961-695E-477E-9331-2D0C26BB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8827-6B5E-431C-B6FF-FC6DE96C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94B6-73FF-4D0E-83D6-31C6FB3CD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E50F-B969-4802-9900-38A4D9D1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643A-4767-4DDA-9EA6-069A0DE5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1D41-9B20-470E-8B5D-6095D2A8E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7AE-3F86-4DB6-8200-3F9B5C1E2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779B-D7B6-471D-80E6-1973CB579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A634-CF30-4967-B982-15F1FEA8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CCDB-069B-4B44-AC3D-35B375FFE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FO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IDE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VERAGE DID THE PHILOSOPHER VOLTAIRE SUPPOSEDLY DRINK 50 CUPS A DAY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CHEGO, GRUYÈRE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TONE DID MICHELANGELO USE TO CARVE HIS SCULPTURES "DAVID" AND "PIETÀ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LEBANON, AND EGYPT HAVE DIFFERENT CURRENCIES THAT GO BY WHAT COMMO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DEAD MARINE ORGANISM FULL OF HOLES AND CHANNELS IS USED FOR CLEA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SPIRIT WAS THE FIRST ONE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ST GERMAN WOODS IS THE SOURCE OF THE DANUBE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LTERNATE DIMENSION WHERE THE DEMOGORGON LIVES ON THE TV SHOW "STRANGER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UTCH WORD FOR WHAT VEGETABLE IS "WORTEL", THE SAME WORD THEY USE FOR THE WORD "R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6:42:13Z</dcterms:created>
  <dc:creator>Jennifer Budzinski</dc:creator>
  <dc:description/>
  <dc:language>en-US</dc:language>
  <cp:lastModifiedBy>Erich Friedman</cp:lastModifiedBy>
  <dcterms:modified xsi:type="dcterms:W3CDTF">2020-08-27T14:43:27Z</dcterms:modified>
  <cp:revision>425</cp:revision>
  <dc:subject/>
  <dc:title>Slide 1</dc:title>
</cp:coreProperties>
</file>