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2C5F-660A-4EEA-A0E9-42ECA36CD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E044-E24F-42C5-9251-4F8509BAF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E6F0-BFEE-41A5-8142-BCD51F2AC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2BB7-D944-4973-B0DB-6CF5E5FE1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BCA0-6E73-459F-BA50-1B40D8870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5C8D-D5B2-47F8-9D41-850B65D1B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87A7-F176-4C47-850C-4C0959557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11D3-CDE6-4397-BD55-8CA48015E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050A-0EC5-4F2F-AF6F-E91474098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A075-65BA-477A-A347-C1520A7AD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9B57-1043-4837-B4D3-C8818F57A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E4DE-D1FD-4603-9A02-831F2CBF6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8709-CE9E-474C-BA77-021BD606D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AF40-EA6A-4CD8-9C89-59B9ED81D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08FE-B779-4310-89B1-91F8D1515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BF57-8984-439A-A012-D617F0B63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B9D6-0875-4819-9DD3-8E453206F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9354-F0F0-4321-8F78-3DADB8627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045E-6A39-4B0A-B6CD-8675DA131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C9CB-AF69-4BA0-88B4-19144516E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F97E-DBA2-4B1D-A77D-6C46FFBC8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372F-0C97-4F85-87A2-0F56EF230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61C4-677E-4A69-93A1-75CB76CC4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NCHEGO, GRUYÈRE, AND COTIJA ARE TYPE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VERAGE DID THE PHILOSOPHER VOLTAIRE SUPPOSEDLY DRINK 50 CUPS A DAY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STONE DID MICHELANGELO USE TO CARVE HIS SCULPTURES "DAVID" AND "PIETÀ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RIA, LEBANON, AND EGYPT HAVE DIFFERENT CURRENCIES THAT GO BY WHAT COMMON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O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DEAD MARINE ORGANISM FULL OF HOLES AND CHANNELS IS USED FOR CLEA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COHOLIC SPIRIT WAS THE FIRST ONE M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FO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AST GERMAN WOODS IS THE SOURCE OF THE DANUBE RI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SIDE 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ALTERNATE DIMENSION WHERE THE DEMOGORGON LIVES ON THE TV SHOW "STRANGER THING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VERAGE DID THE PHILOSOPHER VOLTAIRE SUPPOSEDLY DRINK 50 CUPS A DAY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288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R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UTCH WORD FOR WHAT VEGETABLE IS "WORTEL", THE SAME WORD THEY USE FOR THE WORD "RO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NCHEGO, GRUYÈRE, AND COTIJA ARE TYPE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876920"/>
            <a:ext cx="6705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C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STONE DID MICHELANGELO USE TO CARVE HIS SCULPTURES "DAVID" AND "PIETÀ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RIA, LEBANON, AND EGYPT HAVE DIFFERENT CURRENCIES THAT GO BY WHAT COMMON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DEAD MARINE ORGANISM FULL OF HOLES AND CHANNELS IS USED FOR CLEA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COHOLIC SPIRIT WAS THE FIRST ONE MA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AST GERMAN WOODS IS THE SOURCE OF THE DANUBE RI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ALTERNATE DIMENSION WHERE THE DEMOGORGON LIVES ON THE TV SHOW "STRANGER THING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UTCH WORD FOR WHAT VEGETABLE IS "WORTEL", THE SAME WORD THEY USE FOR THE WORD "ROO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6T16:42:13Z</dcterms:created>
  <dc:creator>Jennifer Budzinski</dc:creator>
  <dc:description/>
  <dc:language>en-US</dc:language>
  <cp:lastModifiedBy>Erich Friedman</cp:lastModifiedBy>
  <dcterms:modified xsi:type="dcterms:W3CDTF">2020-08-27T14:43:27Z</dcterms:modified>
  <cp:revision>425</cp:revision>
  <dc:subject/>
  <dc:title>Slide 1</dc:title>
</cp:coreProperties>
</file>