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3F17-A59A-437D-A1E0-03853E4ED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829F-AC06-4A1F-86FE-BA50957B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8276-BCDA-4AB7-B0F1-A8A2C800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6F95-CF35-4367-B7A1-798130014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E7F4-DAC2-4798-BF82-414A58C3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1E54-8111-4103-81B6-1425171A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846-1D50-42F4-B374-545DE5FC4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9FEB-4AC1-4176-94CB-480EEB18C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C651-1FBB-477B-9982-BCB4152D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BBB-DE65-4919-B8F6-5E9DE7BE3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D8B4-7BC2-4D7F-A8D8-E4E9589C3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2CDB-F4E8-41CE-B4D2-BC85BA66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7451-3C05-440F-B5AA-1E960C6B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1465-EAC7-42C0-BBDE-0CF230E9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A673-F78E-4B67-B6B0-ACCABAB3F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6243-18CA-48FC-99E2-EF2F407D1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017D-84A5-476A-A801-A124937F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BD70-778A-429D-AA52-3C5F0B8F9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827C-48EF-428B-8910-93604CB16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0CE7-20C3-4A9B-A499-579B1965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B7FD-EFDB-401A-8B22-E3952AF4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58B6-5E75-4177-8FBD-4D271793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4A25-799F-4BE3-84B9-2D5235E8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B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500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3836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M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MEAT IS IN QUICHE LORR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ENSELY POPULATED C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RI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N NAME OF FRENCH CARTOONIST JEAN GIRAUD, WHO HELPED DESIGN MOVIES LIKE "ALIEN" AND "TR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VER DAM IS LOCATED 30 MILES SOUTHEAST OF WHAT MAJO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" STAND FOR IN "VT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ESTINIAN CITY DID THE BIBLICAL STRONGMAN SAMSON DI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NIKE DEVELOPED A BRAND OF BASKETBALL SHOES AND ATHLETIC CLOTHING CALLED "___ JORD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FILM STARRED DICK VAN DYKE AS A SILENT FILM STAR, MICKEY ROONEY AS HIS FRIEND, AND MICHELE LEE AS HIS LOVE INTE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TION WILL YOU FIND AT INTELLICAST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8:38:45Z</dcterms:created>
  <dc:creator>Jennifer Budzinski</dc:creator>
  <dc:description/>
  <dc:language>en-US</dc:language>
  <cp:lastModifiedBy>Erich Friedman</cp:lastModifiedBy>
  <dcterms:modified xsi:type="dcterms:W3CDTF">2020-08-27T14:44:43Z</dcterms:modified>
  <cp:revision>426</cp:revision>
  <dc:subject/>
  <dc:title>Slide 1</dc:title>
</cp:coreProperties>
</file>