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3C26D-6F73-4AC4-B08B-F1FA874880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D7E1D-9CAE-4E33-B70F-F4205F6185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66B79-AD91-4FE8-9811-8A274B2970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87962-6957-48DF-AC2D-6C63516138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FD9AF-99EE-45CB-A425-8D82F7CEB7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0CF16-E5E5-475F-997E-355D33858A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4AF22-0A95-471F-96CC-5FD8C7EFF6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D63CC-02B5-4201-9202-6736A2BBA9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85D5F-CC28-415F-A92B-35FBEACE0C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36FC8-D0AD-4406-9FE5-C4A8DB7BB4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50607-D430-40CF-A705-47F2525DD1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B5A9F-124B-4712-A948-96453C86EF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A59CC-5A3B-4F0B-AAB9-5EC0147A0F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16FD8-2432-45CE-A480-B028261022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63905-935B-4D3B-B9D8-559E794434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11E2C-29F5-41FE-98BC-3765186287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29D55-A83F-4BD5-B25D-6EAD1B7671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985B1-6A9A-4DCC-B358-FAE678A4C3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219C6-3B47-4DB0-BFA6-01840E1EA2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32AA3-7A0B-4EDD-BC56-7D87CE4131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9C3BA-4712-4134-B91C-FEBF5CE08A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A26EE-4502-4E63-8532-D609ED9621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33615-E363-4DCA-A385-B435984926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DENSELY POPULATED CITY IN THE U.S.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C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409760" y="762120"/>
            <a:ext cx="63244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IND OF MEAT IS IN QUICHE LORRAI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OEBI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838080" y="762120"/>
            <a:ext cx="74678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PEN NAME OF FRENCH CARTOONIST JEAN GIRAUD, WHO HELPED DESIGN MOVIES LIKE "ALIEN" AND "TRO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AS  VEG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914400" y="762120"/>
            <a:ext cx="73152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OVER DAM IS LOCATED 30 MILES SOUTHEAST OF WHAT MAJOR CI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AN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219320" y="765000"/>
            <a:ext cx="6705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"L" STAND FOR IN "VTOL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AZ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800280" y="738360"/>
            <a:ext cx="75438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ALESTINIAN CITY DID THE BIBLICAL STRONGMAN SAMSON DIE I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876240" y="762120"/>
            <a:ext cx="739152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ILL IN THE BLANK: NIKE DEVELOPED A BRAND OF BASKETBALL SHOES AND ATHLETIC CLOTHING CALLED "___ JORDA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COM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457200" y="762120"/>
            <a:ext cx="82296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69 FILM STARRED DICK VAN DYKE AS A SILENT FILM STAR, MICKEY ROONEY AS HIS FRIEND, AND MICHELE LEE AS HIS LOVE INTERE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447920" y="762120"/>
            <a:ext cx="62481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IND OF MEAT IS IN QUICHE LORRAIN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066680" y="4876920"/>
            <a:ext cx="7086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447920" y="762120"/>
            <a:ext cx="62481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NFORMATION WILL YOU FIND AT INTELLICAST.CO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EW  Y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495360" y="762120"/>
            <a:ext cx="81532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DENSELY POPULATED CITY IN THE U.S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219320" y="4343400"/>
            <a:ext cx="67053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3000"/>
          </a:bodyPr>
          <a:p>
            <a:pPr marL="216000" indent="-2160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BE  FOLLOWED  BY  THE  WORD  "STRIP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PEN NAME OF FRENCH CARTOONIST JEAN GIRAUD, WHO HELPED DESIGN MOVIES LIKE "ALIEN" AND "TRO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914400" y="762120"/>
            <a:ext cx="73152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OVER DAM IS LOCATED 30 MILES SOUTHEAST OF WHAT MAJOR CI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1066680" y="762120"/>
            <a:ext cx="70106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"L" STAND FOR IN "VTOL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ALESTINIAN CITY DID THE BIBLICAL STRONGMAN SAMSON DIE I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952560" y="761760"/>
            <a:ext cx="72388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ILL IN THE BLANK: NIKE DEVELOPED A BRAND OF BASKETBALL SHOES AND ATHLETIC CLOTHING CALLED "___ JORDA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69 FILM STARRED DICK VAN DYKE AS A SILENT FILM STAR, MICKEY ROONEY AS HIS FRIEND, AND MICHELE LEE AS HIS LOVE INTERES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371600" y="762120"/>
            <a:ext cx="6400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NFORMATION WILL YOU FIND AT INTELLICAST.CO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6T18:38:45Z</dcterms:created>
  <dc:creator>Jennifer Budzinski</dc:creator>
  <dc:description/>
  <dc:language>en-US</dc:language>
  <cp:lastModifiedBy>Erich Friedman</cp:lastModifiedBy>
  <dcterms:modified xsi:type="dcterms:W3CDTF">2020-08-27T14:44:43Z</dcterms:modified>
  <cp:revision>426</cp:revision>
  <dc:subject/>
  <dc:title>Slide 1</dc:title>
</cp:coreProperties>
</file>