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A0DA-7923-4EA6-8FC1-B4C2030B9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360A-FDB1-4796-B60C-185A21EA6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855A-9F10-4FC6-A75C-3093C5599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F746-95D1-4D11-8DB9-C75B009BF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641B-059E-4782-8996-E0C77B538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8152-35A7-47FE-80F4-11C02132D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8337-0182-4FD3-897D-4135CB054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9ED1-816F-4208-9ECC-FB75CD6F1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7237-924E-4C2D-BBBA-F29A376C6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D4E4-B389-44A5-8659-AADC731EA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AF23-68AA-468D-998A-8B41A41D8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EFB2-E953-4A58-8269-EF461CF5B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6780-2EC4-4CF9-9109-7529E0503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44DB-60CD-4877-9733-44427AF1F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AD4C-2726-435C-A14D-CCD2664D4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189D-65DB-436F-9187-03E6D9825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7348-D9B1-4806-967A-F5AA9E4A0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B0CF-B7CA-4C32-A343-4B0A1A7CB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B8E6-DE13-4E0E-AC0C-3CD4CEFD4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9CD3-51BD-4D98-A8B7-43B1F2F02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F214-0836-4B80-AAD2-7571B0DB4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B9F8-FD32-424C-8A12-436AF038E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BC40-5DC9-4F5A-B4F3-EB29A035C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DENSELY POPULATED CITY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MEAT IS IN QUICHE LORRA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EBI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EN NAME OF FRENCH CARTOONIST JEAN GIRAUD, WHO HELPED DESIGN MOVIES LIKE "ALIEN" AND "TR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  VE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VER DAM IS LOCATED 30 MILES SOUTHEAST OF WHAT MAJOR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19320" y="76500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L" STAND FOR IN "VTO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3836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LESTINIAN CITY DID THE BIBLICAL STRONGMAN SAMSON DIE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L IN THE BLANK: NIKE DEVELOPED A BRAND OF BASKETBALL SHOES AND ATHLETIC CLOTHING CALLED "___ JORD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OM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9 FILM STARRED DICK VAN DYKE AS A SILENT FILM STAR, MICKEY ROONEY AS HIS FRIEND, AND MICHELE LEE AS HIS LOVE INTER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447920" y="762120"/>
            <a:ext cx="6248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MEAT IS IN QUICHE LORRA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447920" y="762120"/>
            <a:ext cx="6248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FORMATION WILL YOU FIND AT INTELLICAST.C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Y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DENSELY POPULATED CITY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343400"/>
            <a:ext cx="6705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STRIP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EN NAME OF FRENCH CARTOONIST JEAN GIRAUD, WHO HELPED DESIGN MOVIES LIKE "ALIEN" AND "TR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VER DAM IS LOCATED 30 MILES SOUTHEAST OF WHAT MAJOR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L" STAND FOR IN "VTO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LESTINIAN CITY DID THE BIBLICAL STRONGMAN SAMSON DIE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L IN THE BLANK: NIKE DEVELOPED A BRAND OF BASKETBALL SHOES AND ATHLETIC CLOTHING CALLED "___ JORD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9 FILM STARRED DICK VAN DYKE AS A SILENT FILM STAR, MICKEY ROONEY AS HIS FRIEND, AND MICHELE LEE AS HIS LOVE INTER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FORMATION WILL YOU FIND AT INTELLICAST.C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6T18:38:45Z</dcterms:created>
  <dc:creator>Jennifer Budzinski</dc:creator>
  <dc:description/>
  <dc:language>en-US</dc:language>
  <cp:lastModifiedBy>Erich Friedman</cp:lastModifiedBy>
  <dcterms:modified xsi:type="dcterms:W3CDTF">2020-08-27T14:44:43Z</dcterms:modified>
  <cp:revision>426</cp:revision>
  <dc:subject/>
  <dc:title>Slide 1</dc:title>
</cp:coreProperties>
</file>