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BCEF-4D43-4D71-B48C-C5E4A21E4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8F2E-35E7-41AF-A3D7-3A5969E19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9C7E-9F4C-48F6-AD1F-BF8B45502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F38E-63F5-4278-9A63-512463C4F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1F06-A562-4CAF-BB9B-47046E588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C7E2-E81D-4321-BDCE-9F2F32F1B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64BA-AA35-445D-9DBB-E023F24D6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B8F6-7713-4915-A451-99B874453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8678-2AA4-4524-AADE-530A532F4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2B4A-6864-481D-BE19-C2400E288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8A5E-287B-4FF5-8025-0F402D380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986A-C7FC-4FD4-9092-775BF2F54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8897-F4BF-4743-8586-6C9EB2158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BFBA-0622-4395-AD7B-58A13DCAA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F158-6393-43E5-82C2-4B6393750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AF2B-6B44-4F0A-987C-9505D349F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9C6D-9B5D-4104-AFF0-B33180EEE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1846-16F9-4F15-91B2-3E7E7B7B1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DA8C-5189-48C9-A343-4353071BB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2E7C-1697-42E4-B418-214E7671B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77E6-E453-476A-BA5A-2D3A0EFE1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2E00-210B-4AF9-BEFC-4FD08A10E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B36D-60D0-42F2-830A-DBC9BEF30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HICO ON THE TV SERIES "CHICO AND THE MAN" BEFORE COMMITTING SUICIDE IN 197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F.  KENNE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SSASSINATED NOVEMBER 22, 196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K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MUSIC SUPERSTAR SANG "I'M SO LONESOME I COULD CRY", "YOUR CHEATIN' HEART", AND "HEY GOOD LOOKIN' 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MON  WAY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AN WAS ON "SNL" AND THEN HIS OWN SHOW "IN LIVING COL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ALD  TR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66680" y="75888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WNED THE MISS USA BEAUTY PAGEANT FROM 1996 TO 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  CHA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957 FILM "THE MAN OF A THOUSAND FACES", JAMES CAGNEY PLAYED WHAT SILENT FILM IC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  GRIFF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UTFIELDER FOR THE REDS 1973-1981 WAS AN ALL-STAR IN 1976, 1977, AND 198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LE  EARNHARD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SCAR DRIVER KNOWN AS "THE INTIMIDATOR" AND "THE COUNT OF MONTE CARLO" WAS KILLED IN       THE 2001 DAYTONA 5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SSASSINATED NOVEMBER 22, 196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SSE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90440" y="762120"/>
            <a:ext cx="8763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PTIST MINISTER WHO RAN FOR PRESIDENT IN 1984 AND 1988 FOUNDED THE NATIONAL RAINBOW COALI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DIE  PRIN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HICO ON THE TV SERIES "CHICO AND THE MAN" BEFORE COMMITTING SUICIDE IN 197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343400"/>
            <a:ext cx="8610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HAD  SONS  THAT  THEY  NAMED  AFTER  THEMSE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MUSIC SUPERSTAR SANG "I'M SO LONESOME I COULD CRY", "YOUR CHEATIN' HEART", AND "HEY GOOD LOOKIN' 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AN WAS ON "SNL" AND THEN HIS OWN SHOW "IN LIVING COL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WNED THE MISS USA BEAUTY PAGEANT FROM 1996 TO 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957 FILM "THE MAN OF A THOUSAND FACES", JAMES CAGNEY PLAYED WHAT SILENT FILM IC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UTFIELDER FOR THE REDS 1973-1981 WAS AN ALL-STAR IN 1976, 1977, AND 198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SCAR DRIVER KNOWN AS "THE INTIMIDATOR" AND "THE COUNT OF MONTE CARLO" WAS KILLED IN      THE 2001 DAYTONA 5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120" y="7621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PTIST MINISTER WHO RAN FOR PRESIDENT IN 1984 AND 1988 FOUNDED THE NATIONAL RAINBOW COALI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4T16:41:40Z</dcterms:created>
  <dc:creator>Jennifer Budzinski</dc:creator>
  <dc:description/>
  <dc:language>en-US</dc:language>
  <cp:lastModifiedBy>Erich Friedman</cp:lastModifiedBy>
  <dcterms:modified xsi:type="dcterms:W3CDTF">2020-08-27T14:46:23Z</dcterms:modified>
  <cp:revision>427</cp:revision>
  <dc:subject/>
  <dc:title>Slide 1</dc:title>
</cp:coreProperties>
</file>