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05BBE-4D9D-4677-A872-C93993F55D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81780-EA2D-4B31-9B3D-2F355E285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07B37-3565-4221-BEAC-F109DFD11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C795B-7A8C-46E5-92E3-3E378B836F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4A66D-05B4-40CE-A231-F50394BA8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89325-597B-4E1B-B344-AD7F01358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C1A12-3106-480A-BA2D-17F02B65D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B0E10-A4B6-40B9-BF2D-F9BFDAC00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70803-BBC3-46BC-BCBF-918BC4FCD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9BB7D-BAF6-48EB-95E6-DE5BF0D8B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2F275-6AD5-40F8-AB0D-C9C6160F4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5FADE-2649-4F3C-B07D-82FD5D274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69309-1778-4C0F-996D-952BDBD1D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2FDA2-3B5A-4F7A-B4ED-AD7E0F067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05CDA-665C-4C8C-A20C-6EB1B936A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AB7FF-9943-47E6-AC42-B50DFA839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5D5E5-238C-40C5-9E3D-B86B4A761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25275-5B49-443B-BF97-A8496D7A0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C034D-A1F4-4047-9836-43A47C32F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46D88-2834-447F-90D3-30DC8D9BCE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682F6-C5BD-436B-A326-E15E26A19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E62B9-2468-45F9-8CFF-18CCDB731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9A8B0-35B1-4C97-B1DA-5EC885127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0666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CHICO ON THE TV SERIES "CHICO AND THE MAN" BEFORE COMMITTING SUICIDE IN 1977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F.  KENNE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95360" y="762120"/>
            <a:ext cx="8153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ASSASSINATED NOVEMBER 22, 196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447920" y="4876920"/>
            <a:ext cx="6248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NK  WILLI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MUSIC SUPERSTAR SANG "I'M SO LONESOME I COULD CRY", "YOUR CHEATIN' HEART", AND "HEY GOOD LOOKIN' 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MON  WAY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23960" y="762120"/>
            <a:ext cx="76960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EDIAN WAS ON "SNL" AND THEN HIS OWN SHOW "IN LIVING COLO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NALD  TRUM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066680" y="758880"/>
            <a:ext cx="7010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OWNED THE MISS USA BEAUTY PAGEANT FROM 1996 TO 201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N  CHA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1957 FILM "THE MAN OF A THOUSAND FACES", JAMES CAGNEY PLAYED WHAT SILENT FILM IC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N  GRIFF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95360" y="762120"/>
            <a:ext cx="81532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UTFIELDER FOR THE REDS 1973-1981 WAS AN ALL-STAR IN 1976, 1977, AND 198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LE  EARNHARD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57200" y="762120"/>
            <a:ext cx="8229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SCAR DRIVER KNOWN AS "THE INTIMIDATOR" AND "THE COUNT OF MONTE CARLO" WAS KILLED IN       THE 2001 DAYTONA 50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ASSASSINATED NOVEMBER 22, 1963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SSE  JACK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90440" y="762120"/>
            <a:ext cx="87631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PTIST MINISTER WHO RAN FOR PRESIDENT IN 1984 AND 1988 FOUNDED THE NATIONAL RAINBOW COALI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EDDIE  PRINZ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0028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CHICO ON THE TV SERIES "CHICO AND THE MAN" BEFORE COMMITTING SUICIDE IN 197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04920" y="4343400"/>
            <a:ext cx="8610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HAD  SONS  THAT  THEY  NAMED  AFTER  THEMSEL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MUSIC SUPERSTAR SANG "I'M SO LONESOME I COULD CRY", "YOUR CHEATIN' HEART", AND "HEY GOOD LOOKIN' 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95360" y="762120"/>
            <a:ext cx="8153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EDIAN WAS ON "SNL" AND THEN HIS OWN SHOW "IN LIVING COLO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OWNED THE MISS USA BEAUTY PAGEANT FROM 1996 TO 201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1957 FILM "THE MAN OF A THOUSAND FACES", JAMES CAGNEY PLAYED WHAT SILENT FILM IC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UTFIELDER FOR THE REDS 1973-1981 WAS AN ALL-STAR IN 1976, 1977, AND 198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SCAR DRIVER KNOWN AS "THE INTIMIDATOR" AND "THE COUNT OF MONTE CARLO" WAS KILLED IN      THE 2001 DAYTONA 50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14120" y="76212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PTIST MINISTER WHO RAN FOR PRESIDENT IN 1984 AND 1988 FOUNDED THE NATIONAL RAINBOW COALI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4T16:41:40Z</dcterms:created>
  <dc:creator>Jennifer Budzinski</dc:creator>
  <dc:description/>
  <dc:language>en-US</dc:language>
  <cp:lastModifiedBy>Erich Friedman</cp:lastModifiedBy>
  <dcterms:modified xsi:type="dcterms:W3CDTF">2020-08-27T14:46:23Z</dcterms:modified>
  <cp:revision>427</cp:revision>
  <dc:subject/>
  <dc:title>Slide 1</dc:title>
</cp:coreProperties>
</file>