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7095-CB78-40EF-AD6F-0793A16CB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E1A1-ACFC-47C8-98E7-CBD0674F8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7536-4261-4A39-8DDB-3CB42E743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19E9-BDD2-4328-BCA3-502F4EFF8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76B7-A12F-4DD4-8E56-39C3759C6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EBE7-34A4-4F13-A121-9A22FD7C0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5213-DA69-4825-860E-801C1CC24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3A87-4F09-4D82-992E-9D61520A6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7CA1-9D68-4B5B-B0CE-8F48BE26A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2CB3-5586-44A5-ADDE-FB44E260B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FFC7-A9DE-4847-9F1D-B20B10DA5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7257-7512-4DEB-9860-4948271B2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DE9B-2DD5-4C5B-800D-F2B7AF071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044A-C008-4004-8C9D-ECADE1A2C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7C3F-BCC7-478A-A3C0-69B5949BC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2D1B-D05F-46ED-9714-AE36AAD27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CDF4-42D3-47F4-B427-02AB66BB4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E40D-AD55-4977-95A7-DB0014573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7B56-817E-4439-AF96-F82B1AC35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5351-8163-48F2-8FDC-DE92AF9AA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2FA1-7C6A-461B-807B-8B1DE1716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734E-3D0F-4686-BD8B-2CECB9C76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4168-A52C-47CD-B87D-1057BA150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0666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HICO ON THE TV SERIES "CHICO AND THE MAN" BEFORE COMMITTING SUICIDE IN 197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F.  KENNE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ASSASSINATED NOVEMBER 22, 196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NK  WILLI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MUSIC SUPERSTAR SANG "I'M SO LONESOME I COULD CRY", "YOUR CHEATIN' HEART", AND "HEY GOOD LOOKIN' 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MON  WAY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IAN WAS ON "SNL" AND THEN HIS OWN SHOW "IN LIVING COLO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ALD  TRU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66680" y="75888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OWNED THE MISS USA BEAUTY PAGEANT FROM 1996 TO 201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N  CHA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1957 FILM "THE MAN OF A THOUSAND FACES", JAMES CAGNEY PLAYED WHAT SILENT FILM IC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N  GRIFF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2120"/>
            <a:ext cx="81532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UTFIELDER FOR THE REDS 1973-1981 WAS AN ALL-STAR IN 1976, 1977, AND 198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LE  EARNHARD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SCAR DRIVER KNOWN AS "THE INTIMIDATOR" AND "THE COUNT OF MONTE CARLO" WAS KILLED IN       THE 2001 DAYTONA 5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ASSASSINATED NOVEMBER 22, 196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SSE  JAC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90440" y="762120"/>
            <a:ext cx="8763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PTIST MINISTER WHO RAN FOR PRESIDENT IN 1984 AND 1988 FOUNDED THE NATIONAL RAINBOW COALI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DDIE  PRIN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HICO ON THE TV SERIES "CHICO AND THE MAN" BEFORE COMMITTING SUICIDE IN 197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04920" y="4343400"/>
            <a:ext cx="8610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HAD  SONS  THAT  THEY  NAMED  AFTER  THEMSEL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MUSIC SUPERSTAR SANG "I'M SO LONESOME I COULD CRY", "YOUR CHEATIN' HEART", AND "HEY GOOD LOOKIN' 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IAN WAS ON "SNL" AND THEN HIS OWN SHOW "IN LIVING COLO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OWNED THE MISS USA BEAUTY PAGEANT FROM 1996 TO 201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1957 FILM "THE MAN OF A THOUSAND FACES", JAMES CAGNEY PLAYED WHAT SILENT FILM IC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UTFIELDER FOR THE REDS 1973-1981 WAS AN ALL-STAR IN 1976, 1977, AND 198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SCAR DRIVER KNOWN AS "THE INTIMIDATOR" AND "THE COUNT OF MONTE CARLO" WAS KILLED IN      THE 2001 DAYTONA 5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4120" y="76212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PTIST MINISTER WHO RAN FOR PRESIDENT IN 1984 AND 1988 FOUNDED THE NATIONAL RAINBOW COALI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4T16:41:40Z</dcterms:created>
  <dc:creator>Jennifer Budzinski</dc:creator>
  <dc:description/>
  <dc:language>en-US</dc:language>
  <cp:lastModifiedBy>Erich Friedman</cp:lastModifiedBy>
  <dcterms:modified xsi:type="dcterms:W3CDTF">2020-08-27T14:46:23Z</dcterms:modified>
  <cp:revision>427</cp:revision>
  <dc:subject/>
  <dc:title>Slide 1</dc:title>
</cp:coreProperties>
</file>