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9102-507D-4CEE-8350-D1EAD1AD9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0A95-45F9-4987-AF2F-8BF899BA5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D595-7D84-4149-8B0A-4D311F7D0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5175-1681-45B9-B07D-D7F7C93E0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F63F-5FE9-4344-AF6F-C7D1BC7F4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9119-754E-49BB-8C12-0029C3269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1683-67FB-4754-8708-16CC9A1D5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ABF3-CD7F-4674-9254-3C358E44D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B2C3-B806-4648-9661-760DD3894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6542-0881-4054-A4EF-3C54D8DD8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5E43-D433-435F-9E52-068A51159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B406-F924-411E-8890-CC29FD17D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24B0-29D2-4DA0-B2B8-0FC58A70E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A0C7-EB49-497F-BF88-072FB0AEB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CC6A-DB97-43B2-AA1E-999FDBB13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5C6C-18D6-465B-98C2-DEF1B2863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3980-7A73-41DD-B299-C12D81275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777A-CAED-49D4-B9D1-43E7E5851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E7A4-6C4F-4785-ACFB-AB7CF4AAD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FDAB-F99B-40D7-BC76-AEA2E96EF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29AA-DF5A-4E4D-B970-ACE26D664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004D-C409-491D-8C4D-C37E3BBE7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76FE-FBD5-4104-BA09-5EF1952E3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TON VILLA FOOTBALL CLUB PLAYS IN WHAT BRITISH CITY, THE LARGEST OUTSIDE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B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GHT-COLORED, FINE-GRAINED VARIETY OF GYPSUM IS SO SOFT THAT IT IS OFTEN USED FOR CAR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MA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U.S. PRESIDENT SOMETIMES CALLED "THE FATHER OF THE CONSTITU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DAM IN THE U.S. IS OROVILLE DAM, BUT WHAT DAM IS THE LARGEST MADE OF CONCRE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BUR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WAS THE COLLEGE FOOTBALL CHAMPION IN 2010, BUT NOT SI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ARTIST ALEXANDER CALDER COIN FOR HIS DELICATELY BALANCED HANGING SCULP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523880" y="487692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L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MARGE SIMPSON'S TWIN SISTERS OWNS A PET IGUANA NAMED JUB-J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THE NAME OF CAPTAIN KIRK'S SHIP IS THE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GHT-COLORED, FINE-GRAINED VARIETY OF GYPSUM IS SO SOFT THAT IT IS OFTEN USED FOR CARV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GOM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WHAT IS THE FIRST NAME OF THE ENGINEER "SCOT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MING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TON VILLA FOOTBALL CLUB PLAYS IN WHAT BRITISH CITY, THE LARGEST OUTSIDE LO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ES  IN  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U.S. PRESIDENT SOMETIMES CALLED "THE FATHER OF THE CONSTITU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DAM IN THE U.S. IS OROVILLE DAM, BUT WHAT DAM IS THE LARGEST MADE OF CONCRE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WAS THE COLLEGE FOOTBALL CHAMPION IN 2010, BUT NOT SI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ARTIST ALEXANDER CALDER COIN FOR HIS DELICATELY BALANCED HANGING SCULPTU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MARGE SIMPSON'S TWIN SISTERS OWNS A PET IGUANA NAMED JUB-J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THE NAME OF CAPTAIN KIRK'S SHIP I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WHAT IS THE FIRST NAME OF THE ENGINEER "SCOT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19:09:33Z</dcterms:created>
  <dc:creator>Jennifer Budzinski</dc:creator>
  <dc:description/>
  <dc:language>en-US</dc:language>
  <cp:lastModifiedBy>Erich Friedman</cp:lastModifiedBy>
  <dcterms:modified xsi:type="dcterms:W3CDTF">2020-08-27T14:48:21Z</dcterms:modified>
  <cp:revision>425</cp:revision>
  <dc:subject/>
  <dc:title>Slide 1</dc:title>
</cp:coreProperties>
</file>