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0A00-B60F-45A7-8E43-3854D321F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ED48-A4A6-46B7-B7FF-E9342B283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ACCD-714B-4C69-9EA0-947DCD05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C989-B685-40D2-92DF-C703C0DE0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080F-52E2-46A5-A0F9-20006DDB3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2A80-14D9-4D58-8DFD-97E861D19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E165-1FFE-430B-8769-9CA0D670F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32DF-DB31-44A0-8069-4E0A8DAAB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A4E4-6FE1-49F7-924A-3C417D273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910F-7630-41E1-AB18-8DDC72913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0746-0517-4443-9DFC-43E86D5EC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D10F-C605-4ADA-941F-753E339D1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BF50-62F3-425B-BA62-CC9740B3B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CC79-356B-4455-A643-4A3F2BC0F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4E1F-9C4D-4E2B-8293-F414372FA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0001-D170-4BF7-A8E8-F6FE26CA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D881-B041-4378-AA4F-35B8DC247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F812-A9FC-434B-A7EE-F813C2138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74D7-60FF-4B6E-90AD-1948CEFEF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4891-B61D-4A72-9FCD-85A34B2F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C4F4-49AB-4E3E-AAF4-5F7C37931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5F32-F036-4A2B-B3FB-74009BD71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4132-7557-4974-9264-2FEA95A55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TON VILLA FOOTBALL CLUB PLAYS IN WHAT BRITISH CITY, THE LARGEST OUTSIDE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GHT-COLORED, FINE-GRAINED VARIETY OF GYPSUM IS SO SOFT THAT IT IS OFTEN USED FOR CAR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U.S. PRESIDENT SOMETIMES CALLED "THE FATHER OF THE CONSTITU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DAM IN THE U.S. IS OROVILLE DAM, BUT WHAT DAM IS THE LARGEST MADE OF CONCRE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BUR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THE COLLEGE FOOTBALL CHAMPION IN 2010, BUT NOT SI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ARTIST ALEXANDER CALDER COIN FOR HIS DELICATELY BALANCED HANGING SCULP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8769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MARGE SIMPSON'S TWIN SISTERS OWNS A PET IGUANA NAMED JUB-J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THE NAME OF CAPTAIN KIRK'S SHIP IS THE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GHT-COLORED, FINE-GRAINED VARIETY OF GYPSUM IS SO SOFT THAT IT IS OFTEN USED FOR CARV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GOM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IS THE FIRST NAME OF THE ENGINEER "SCOT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MING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TON VILLA FOOTBALL CLUB PLAYS IN WHAT BRITISH CITY, THE LARGEST OUTSIDE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IN  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U.S. PRESIDENT SOMETIMES CALLED "THE FATHER OF THE CONSTITU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DAM IN THE U.S. IS OROVILLE DAM, BUT WHAT DAM IS THE LARGEST MADE OF CONCRE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THE COLLEGE FOOTBALL CHAMPION IN 2010, BUT NOT SI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ARTIST ALEXANDER CALDER COIN FOR HIS DELICATELY BALANCED HANGING SCULPTU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MARGE SIMPSON'S TWIN SISTERS OWNS A PET IGUANA NAMED JUB-J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THE NAME OF CAPTAIN KIRK'S SHIP I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IS THE FIRST NAME OF THE ENGINEER "SCOT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9:09:33Z</dcterms:created>
  <dc:creator>Jennifer Budzinski</dc:creator>
  <dc:description/>
  <dc:language>en-US</dc:language>
  <cp:lastModifiedBy>Erich Friedman</cp:lastModifiedBy>
  <dcterms:modified xsi:type="dcterms:W3CDTF">2020-08-27T14:48:21Z</dcterms:modified>
  <cp:revision>425</cp:revision>
  <dc:subject/>
  <dc:title>Slide 1</dc:title>
</cp:coreProperties>
</file>