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E715-BAC9-46D5-966C-325AE4A1F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E168-00B2-4B5C-80BC-B05C3E67F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8AC3-8634-4E95-B569-C1ACF23F0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CA70-283B-4051-8B23-D56C6F8D7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B32E-CBBB-4D36-9A35-E1F2EDD6F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EF0E-963B-4036-B1B1-9A4A2F056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2902-CE46-456D-9543-CA7470F84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DF67-55F6-456C-9D7B-D660B2D5B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E904-51DA-4176-B767-F301C7D60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4571-D6A7-4DFE-B0A9-D7D79E1E3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8C63-F3C1-4811-8199-7AA06AF98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27AD-ACDA-42C1-8060-49D3BB7B5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0B08-8476-4827-B1AF-2CF1529C9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F479-D80F-4E80-B03D-0B7191B87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C3E1-26CC-441E-A353-5EC513BF5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20AD-6583-4BB0-BD45-FB14FFCB8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3AE0-59C7-4275-8309-46FC6F3FB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5AC8-C37A-416C-817E-C8371CC59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8EAE-86BB-408F-B76D-11B3CA54F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3D84-9E64-4E42-B231-561A25E30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564B-330E-4E33-A316-B2B8049AB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992F-E991-4007-8EFD-E15182FB3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A840-5246-4372-B16B-D63DE8A68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TON VILLA FOOTBALL CLUB PLAYS IN WHAT BRITISH CITY, THE LARGEST OUTSIDE LOND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B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IGHT-COLORED, FINE-GRAINED VARIETY OF GYPSUM IS SO SOFT THAT IT IS OFTEN USED FOR CARV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AMES)  MAD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61800" y="762120"/>
            <a:ext cx="8420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U.S. PRESIDENT SOMETIMES CALLED "THE FATHER OF THE CONSTITU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DAM IN THE U.S. IS OROVILLE DAM, BUT WHAT DAM IS THE LARGEST MADE OF CONCRE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BUR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WAS THE COLLEGE FOOTBALL CHAMPION IN 2010, BUT NOT SI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B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ID ARTIST ALEXANDER CALDER COIN FOR HIS DELICATELY BALANCED HANGING SCULPTU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523880" y="487692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L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MARGE SIMPSON'S TWIN SISTERS OWNS A PET IGUANA NAMED JUB-J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TERP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STAR TREK", THE NAME OF CAPTAIN KIRK'S SHIP IS THE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IGHT-COLORED, FINE-GRAINED VARIETY OF GYPSUM IS SO SOFT THAT IT IS OFTEN USED FOR CARV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TGOM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STAR TREK", WHAT IS THE FIRST NAME OF THE ENGINEER "SCOT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MING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TON VILLA FOOTBALL CLUB PLAYS IN WHAT BRITISH CITY, THE LARGEST OUTSIDE LOND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876920"/>
            <a:ext cx="6705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IES  IN  ALA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24000" y="761760"/>
            <a:ext cx="849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U.S. PRESIDENT SOMETIMES CALLED "THE FATHER OF THE CONSTITU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DAM IN THE U.S. IS OROVILLE DAM, BUT WHAT DAM IS THE LARGEST MADE OF CONCRE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WAS THE COLLEGE FOOTBALL CHAMPION IN 2010, BUT NOT SI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ID ARTIST ALEXANDER CALDER COIN FOR HIS DELICATELY BALANCED HANGING SCULPTUR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MARGE SIMPSON'S TWIN SISTERS OWNS A PET IGUANA NAMED JUB-JU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STAR TREK", THE NAME OF CAPTAIN KIRK'S SHIP IS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STAR TREK", WHAT IS THE FIRST NAME OF THE ENGINEER "SCOT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7T19:09:33Z</dcterms:created>
  <dc:creator>Jennifer Budzinski</dc:creator>
  <dc:description/>
  <dc:language>en-US</dc:language>
  <cp:lastModifiedBy>Erich Friedman</cp:lastModifiedBy>
  <dcterms:modified xsi:type="dcterms:W3CDTF">2020-08-27T14:48:21Z</dcterms:modified>
  <cp:revision>425</cp:revision>
  <dc:subject/>
  <dc:title>Slide 1</dc:title>
</cp:coreProperties>
</file>