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18EA-A209-46AB-80AA-5E7FC67C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894D-2454-43F3-AAC1-74FDE7D6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97D3-1E17-4074-9522-32DA7A63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5BEA-0CA2-4095-AD1D-599E5E10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BF7-E6B3-4ACB-8A8F-B64EACF4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AFD-1AB4-4982-9198-479A1666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1FB4-B238-4BD5-AE65-D2683CB2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849-C522-4345-B642-3A39E0896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6A7-5556-4DD6-919D-2EE45F6C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DC70-20E8-4944-A511-C26B0FC8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241-1A10-4AAD-8796-BACC2B18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04F-656A-4682-AFCE-BF3CF81F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9428-0502-49E7-83BD-90C846CF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A27-96D9-4841-9B9F-0D001C03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FB94-6D97-46EB-B7A2-33CB4D8F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E739-F2E0-4D8C-BE8E-C882F7E3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B29-EA2B-4246-96F9-C06D5D24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BF8-56BE-4C08-BC4A-980EDFB0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3CA-3919-4BF2-83D8-F7655316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BED-8140-42EC-8086-AB949DB4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DDF-F568-4671-A196-04CB953C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345A-C6F5-4C65-81CC-D4F8D6036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E6B-1893-4535-8A95-4675ED38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676520" y="43434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, 1963        (OH  WHAT  A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371600" y="4800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9907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YEAR  25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1066680"/>
            <a:ext cx="5181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2:58:07Z</dcterms:created>
  <dc:creator>Jennifer Budzinski</dc:creator>
  <dc:description/>
  <dc:language>en-US</dc:language>
  <cp:lastModifiedBy>Erich Friedman</cp:lastModifiedBy>
  <dcterms:modified xsi:type="dcterms:W3CDTF">2020-08-27T14:50:02Z</dcterms:modified>
  <cp:revision>443</cp:revision>
  <dc:subject/>
  <dc:title>Slide 1</dc:title>
</cp:coreProperties>
</file>