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63D2-347A-4CAE-8934-C78B140D4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28C-6F82-4194-B5D2-2B95D9EB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41C5-DE62-4C63-ABD4-51E10118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E089-E199-448C-A15C-B8D3C18B4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7F4C-A564-409E-8860-95291A86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CE4A-F52B-4422-9462-D588E3AC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46C-B3EC-431F-9534-68897FB0F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9514-6A9C-48A0-B934-75B69CCA1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1191-D398-44A8-B899-DABBF9960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556-03D2-49AF-86BE-14B41EE7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1897-9206-4E96-9F41-FB0E83F0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22B1-238D-42F2-BE83-4C648D38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0DD-E933-4F34-BC6D-E684D441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329F-CCC0-4F23-AF74-F5861A93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F18F-EFDA-4C02-8547-EF94D7F0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3A7A-D118-429A-B218-7BA96A4E9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5D11-2CB2-4007-9BAD-2B4FD5A2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EA96-573C-4F68-AC7C-BF554C3E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742B-B44D-41E1-90F2-3DB3C8E04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1890-E1CA-4C5A-A95B-1311F940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505A-0260-42EA-AE12-F928795E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771E-55A0-42AF-8F3E-0130E85AC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BC3-6245-4D13-8410-8F074457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OHN CUSACK CHRONICLES THE END OF THE WORLD AS FORETOLD BY THE MAY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GEORGE ORWELL'S NOVEL ABOUT A DYSTOPIAN FUTURE, WHICH BECAME A BEST-SELLER AFTER TRUMP'S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FILM DIRECTED BY STANLEY KUBRICK FEATURED A COMPUTER NAMED "H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WLING FOR SOUP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RELEASED JUST BEFORE "PURPLE RAIN" FEATURED THE SONGS "DELIRIOUS" AND "LITTLE RED CORVETT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DIRECTED BY STEVEN SPIELBERG WAS ABOUT PANIC IN LOS ANGELES AFTER THE PEARL HARBOR BOMB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676520" y="43434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EMBER, 1963        (OH  WHAT  A  N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95280" y="762120"/>
            <a:ext cx="6553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R SEASONS #1 SONG WAS ABOUT BOB GAUDIO'S COURTSHIP OF HIS WIF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371600" y="4800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9907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RAND OF TEQUI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image__08154.1399306610.jpg"/>
          <p:cNvPicPr/>
          <p:nvPr/>
        </p:nvPicPr>
        <p:blipFill>
          <a:blip r:embed="rId1"/>
          <a:stretch/>
        </p:blipFill>
        <p:spPr>
          <a:xfrm>
            <a:off x="6095880" y="380880"/>
            <a:ext cx="262908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GEORGE ORWELL'S NOVEL ABOUT A DYSTOPIAN FUTURE, WHICH BECAME A BEST-SELLER AFTER TRUMP'S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YEAR  25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GER &amp; EVANS ARE THE ONLY GROUP TO HAVE A #1 SONG IN THE U.S. AND U.K. AND NEVER HAVE ANOTHER CHARTING SONG.  WHAT WAS THEIR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OHN CUSACK CHRONICLES THE END OF THE WORLD AS FORETOLD BY THE MAY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763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FILM DIRECTED BY STANLEY KUBRICK FEATURED A COMPUTER NAMED "H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WLING FOR SOUP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RELEASED JUST BEFORE "PURPLE RAIN" FEATURED THE SONGS "DELIRIOUS" AND "LITTLE RED CORVETT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DIRECTED BY STEVEN SPIELBERG WAS ABOUT PANIC IN LOS ANGELES AFTER THE PEARL HARBOR BOMB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R SEASONS #1 SONG WAS ABOUT BOB GAUDIO'S COURTSHIP OF HIS WIFE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1066680"/>
            <a:ext cx="5181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RAND OF TEQUI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image__08154.1399306610.jpg"/>
          <p:cNvPicPr/>
          <p:nvPr/>
        </p:nvPicPr>
        <p:blipFill>
          <a:blip r:embed="rId1"/>
          <a:stretch/>
        </p:blipFill>
        <p:spPr>
          <a:xfrm>
            <a:off x="6095880" y="380880"/>
            <a:ext cx="262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GER &amp; EVANS ARE THE ONLY GROUP TO HAVE A #1 SONG IN THE U.S. AND U.K. AND NEVER HAVE ANOTHER CHARTING SONG.  WHAT WAS THEIR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22:58:07Z</dcterms:created>
  <dc:creator>Jennifer Budzinski</dc:creator>
  <dc:description/>
  <dc:language>en-US</dc:language>
  <cp:lastModifiedBy>Erich Friedman</cp:lastModifiedBy>
  <dcterms:modified xsi:type="dcterms:W3CDTF">2020-08-27T14:50:02Z</dcterms:modified>
  <cp:revision>443</cp:revision>
  <dc:subject/>
  <dc:title>Slide 1</dc:title>
</cp:coreProperties>
</file>