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9BDF-C1B3-41D9-B540-26FF38A69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68B7-93C0-4654-B07B-5B88631C7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805-2C02-48E8-BD43-202FB511B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0AC4-106E-49DC-8697-231A906C5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FB1-55EA-42EB-9D97-8A2A1C0B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FFD2-8434-4D96-B68E-257CCEEF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A81-1FF4-49C5-B587-9538E2D7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FF2-5EF0-4369-A239-97CFBFA1B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06C-0DFD-413E-A7B6-8B8220AB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69AF-3CE2-4304-9082-B3201684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5CF0-6B65-4B42-82B5-318934B0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CAE0-345C-4A60-9DD9-4FEA9EF4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F619-E29A-44EA-B6DB-D428CABE5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7F58B-359A-4CFB-9D5D-1566BD5B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7E7F-DA18-4EC3-80FD-CEE8E36DF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A23B-060A-45AB-B5B1-33136DD0F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4DAA-0369-4250-933E-468AF105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B2B1-3064-426A-9B32-AF0F131D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3706-FC8A-4B34-AC32-912E88D0D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4206-ED9D-4933-A986-09CFC7C9D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527-436B-44C3-BF4A-F8A4C19C4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661F-5D37-4FAA-8C34-F299FB2E4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547-A7DD-466C-84D7-EBEA39F5B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OHN CUSACK CHRONICLES THE END OF THE WORLD AS FORETOLD BY THE MAY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GEORGE ORWELL'S NOVEL ABOUT A DYSTOPIAN FUTURE, WHICH BECAME A BEST-SELLER AFTER TRUMP'S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FILM DIRECTED BY STANLEY KUBRICK FEATURED A COMPUTER NAMED "H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WLING FOR SOUP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RELEASED JUST BEFORE "PURPLE RAIN" FEATURED THE SONGS "DELIRIOUS" AND "LITTLE RED CORVETT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DIRECTED BY STEVEN SPIELBERG WAS ABOUT PANIC IN LOS ANGELES AFTER THE PEARL HARBOR BOMB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676520" y="4343400"/>
            <a:ext cx="5790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EMBER, 1963        (OH  WHAT  A  N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95280" y="762120"/>
            <a:ext cx="6553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R SEASONS #1 SONG WAS ABOUT BOB GAUDIO'S COURTSHIP OF HIS WIF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371600" y="480060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990720"/>
            <a:ext cx="5181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RAND OF TEQUI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image__08154.1399306610.jpg"/>
          <p:cNvPicPr/>
          <p:nvPr/>
        </p:nvPicPr>
        <p:blipFill>
          <a:blip r:embed="rId1"/>
          <a:stretch/>
        </p:blipFill>
        <p:spPr>
          <a:xfrm>
            <a:off x="6095880" y="380880"/>
            <a:ext cx="2629080" cy="556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GEORGE ORWELL'S NOVEL ABOUT A DYSTOPIAN FUTURE, WHICH BECAME A BEST-SELLER AFTER TRUMP'S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YEAR  25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GER &amp; EVANS ARE THE ONLY GROUP TO HAVE A #1 SONG IN THE U.S. AND U.K. AND NEVER HAVE ANOTHER CHARTING SONG.  WHAT WAS THEIR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OHN CUSACK CHRONICLES THE END OF THE WORLD AS FORETOLD BY THE MAY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763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FILM DIRECTED BY STANLEY KUBRICK FEATURED A COMPUTER NAMED "H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WLING FOR SOUP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RELEASED JUST BEFORE "PURPLE RAIN" FEATURED THE SONGS "DELIRIOUS" AND "LITTLE RED CORVETT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DIRECTED BY STEVEN SPIELBERG WAS ABOUT PANIC IN LOS ANGELES AFTER THE PEARL HARBOR BOMB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R SEASONS #1 SONG WAS ABOUT BOB GAUDIO'S COURTSHIP OF HIS WIFE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1066680"/>
            <a:ext cx="51818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RAND OF TEQUI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image__08154.1399306610.jpg"/>
          <p:cNvPicPr/>
          <p:nvPr/>
        </p:nvPicPr>
        <p:blipFill>
          <a:blip r:embed="rId1"/>
          <a:stretch/>
        </p:blipFill>
        <p:spPr>
          <a:xfrm>
            <a:off x="6095880" y="380880"/>
            <a:ext cx="262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GER &amp; EVANS ARE THE ONLY GROUP TO HAVE A #1 SONG IN THE U.S. AND U.K. AND NEVER HAVE ANOTHER CHARTING SONG.  WHAT WAS THEIR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22:58:07Z</dcterms:created>
  <dc:creator>Jennifer Budzinski</dc:creator>
  <dc:description/>
  <dc:language>en-US</dc:language>
  <cp:lastModifiedBy>Erich Friedman</cp:lastModifiedBy>
  <dcterms:modified xsi:type="dcterms:W3CDTF">2020-08-27T14:50:02Z</dcterms:modified>
  <cp:revision>443</cp:revision>
  <dc:subject/>
  <dc:title>Slide 1</dc:title>
</cp:coreProperties>
</file>