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4B64-FE52-48ED-8A9B-57C886C18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D1A1-3C49-4915-A83B-855B696E5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1331-5BE7-42C1-88F3-41FFEF77F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B2CB-7AE7-4254-9766-B7E39880D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24F7-5BD6-4EAA-9B3D-0AFA5983B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CB00-726A-4673-88F1-A36890211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3475-5E04-4331-9849-1F2A4881C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1F01-184E-489D-B5E8-2ACE2B9E5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33D1-4C3F-4D83-9D1F-B3644DD5A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E020-A295-4991-9484-ABFE1711C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F147-0C85-4E77-8468-9CDF82888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66D9-98E8-4EF3-89A3-6825DC566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E99F0-9285-4F52-AA3B-56661DE2E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2884-A171-48AF-8562-B9108E1D2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1234-4E91-48DC-8D74-6317D629F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A8E6-4A9F-4F69-8CF0-B13EFC600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38254-7D80-4F31-B18F-11C019F87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2AEF-78DC-48A0-8B44-3ACF25063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240F-6891-452E-B42B-3170AC537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937F-537E-4444-99E1-355E4F848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E097-1F6B-4316-BF81-EF39BF840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DE26-2581-4A48-9D0D-682F14CD7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F3B67-21AF-426C-975D-B3E87BF7E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COMPETITIVE SWIMMER JOHNNY WEISSMULLER PLAY IN 12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  ON  THE  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SONG OF KANSAS, SINCE THE STATE'S HERDS OF BUFFALO, DEER, AND ANTELOPE INSPIRED ITS WRI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NOSA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, MEANING "THUNDER LIZARD," DID RICHARD OWEN COIN IN 184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C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621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TIMES, THE ROCK OF GIBRALTAR AND MOROCCO'S JEBEL MUSA WERE KNOWN AS THE "PILLARS OF" WHAT MYTHICAL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NT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I BELIEVE" USED THE LAST NAME BARRINO WHEN SHE WON "AMERICAN ID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TYPE OF FASTENER, A UNIT OF FABRIC, OR AMMUNITION FOR A CROSSB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CAHO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ENSIVE NICKNAME DOES DONALD TRUMP HAVE FOR SENATOR ELIZABETH WAR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  IN   WON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ANTASY ADVENTURE FILM STARRED JOHNNY DEPP AS THE MAD HA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SONG OF KANSAS, SINCE THE STATE'S HERDS OF BUFFALO, DEER, AND ANTELOPE INSPIRED ITS WRI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KEN  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FOLK TALE, SOMETIMES CALLED "HENNY PENNY", WAS NOT TRANSLATED INTO ENGLISH UNTIL 185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Z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COMPETITIVE SWIMMER JOHNNY WEISSMULLER PLAY IN 12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34340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ANIMATED  DISNEY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, MEANING "THUNDER LIZARD," DID RICHARD OWEN COIN IN 184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TIMES, THE ROCK OF GIBRALTAR AND MOROCCO'S JEBEL MUSA WERE KNOWN AS THE "PILLARS OF" WHAT MYTHICAL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I BELIEVE" USED THE LAST NAME BARRINO WHEN SHE WON "AMERICAN ID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TYPE OF FASTENER, A UNIT OF FABRIC, OR AMMUNITION FOR A CROSSB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ENSIVE NICKNAME DOES DONALD TRUMP HAVE FOR SENATOR ELIZABETH WAR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ANTASY ADVENTURE FILM STARRED JOHNNY DEPP AS THE MAD HA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FOLK TALE, SOMETIMES CALLED "HENNY PENNY", WAS NOT TRANSLATED INTO ENGLISH UNTIL 185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12:36:23Z</dcterms:created>
  <dc:creator>Jennifer Budzinski</dc:creator>
  <dc:description/>
  <dc:language>en-US</dc:language>
  <cp:lastModifiedBy>Erich Friedman</cp:lastModifiedBy>
  <dcterms:modified xsi:type="dcterms:W3CDTF">2020-08-27T14:51:25Z</dcterms:modified>
  <cp:revision>430</cp:revision>
  <dc:subject/>
  <dc:title>Slide 1</dc:title>
</cp:coreProperties>
</file>