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EA11B-1827-4CBC-9AAC-725A690F59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07883-1859-42C8-A65E-F55D6FBDD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7320F-B07E-4827-930A-FE199084C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21CD3-718B-4E05-8006-9818695E4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97C0A-9423-42CC-A1D7-A150EE97A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CFE0A-0D20-401F-9FE3-DD8CFFBCA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62820-CA99-4447-96D3-33705D313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08C18-DE97-4FDE-9273-BE13D544A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0617C-242D-46AC-BF6B-15A491A57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3B470-93A4-4477-9ECB-F07AA420E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BD530-15AF-403B-8FD5-829E08119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5656F-0F68-4640-9BF4-6DCCC3051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7563B-EFA0-4F55-841D-2326ED4B3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7AB3B-5DD2-4756-A0D5-70234E3C0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8987-751B-4405-9E03-0FDA7C273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EAFA5-55DC-46BE-B575-B1C773D0A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A4C0B-360C-4896-97D3-0811BCE14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B0837-3F62-44DB-A139-0E471BA4D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9AF82-F5AA-4FC3-81A2-6F8FD6035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52D4-79AC-4471-85BE-F067C5836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9BFCB-901C-47EA-8F81-7D1C90A2D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B31C9-13D4-44A0-8B1D-59C2ED86D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A3FBF-C130-436B-8764-CA0F7B1CF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ARACTER DID COMPETITIVE SWIMMER JOHNNY WEISSMULLER PLAY IN 12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ME  ON  THE  R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FFICIAL SONG OF KANSAS, SINCE THE STATE'S HERDS OF BUFFALO, DEER, AND ANTELOPE INSPIRED ITS WRIT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NOSA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19040" y="762120"/>
            <a:ext cx="8305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, MEANING "THUNDER LIZARD," DID RICHARD OWEN COIN IN 184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RCU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43080" y="762120"/>
            <a:ext cx="84582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NCIENT TIMES, THE ROCK OF GIBRALTAR AND MOROCCO'S JEBEL MUSA WERE KNOWN AS THE "PILLARS OF" WHAT MYTHICAL CHARAC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NTAS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OF "I BELIEVE" USED THE LAST NAME BARRINO WHEN SHE WON "AMERICAN IDO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A TYPE OF FASTENER, A UNIT OF FABRIC, OR AMMUNITION FOR A CROSSB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95280" y="4876920"/>
            <a:ext cx="6553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CAHON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FFENSIVE NICKNAME DOES DONALD TRUMP HAVE FOR SENATOR ELIZABETH WARR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371600" y="487692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ICE  IN   WONDER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0 FANTASY ADVENTURE FILM STARRED JOHNNY DEPP AS THE MAD HAT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FFICIAL SONG OF KANSAS, SINCE THE STATE'S HERDS OF BUFFALO, DEER, AND ANTELOPE INSPIRED ITS WRIT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CKEN  LIT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04920" y="762120"/>
            <a:ext cx="8534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UROPEAN FOLK TALE, SOMETIMES CALLED "HENNY PENNY", WAS NOT TRANSLATED INTO ENGLISH UNTIL 185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RZ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ARACTER DID COMPETITIVE SWIMMER JOHNNY WEISSMULLER PLAY IN 12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219320" y="4343400"/>
            <a:ext cx="6705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ANIMATED  DISNEY  FIL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, MEANING "THUNDER LIZARD," DID RICHARD OWEN COIN IN 184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04920" y="762120"/>
            <a:ext cx="85341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NCIENT TIMES, THE ROCK OF GIBRALTAR AND MOROCCO'S JEBEL MUSA WERE KNOWN AS THE "PILLARS OF" WHAT MYTHICAL CHARAC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OF "I BELIEVE" USED THE LAST NAME BARRINO WHEN SHE WON "AMERICAN IDO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A TYPE OF FASTENER, A UNIT OF FABRIC, OR AMMUNITION FOR A CROSSB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FFENSIVE NICKNAME DOES DONALD TRUMP HAVE FOR SENATOR ELIZABETH WARR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0 FANTASY ADVENTURE FILM STARRED JOHNNY DEPP AS THE MAD HAT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UROPEAN FOLK TALE, SOMETIMES CALLED "HENNY PENNY", WAS NOT TRANSLATED INTO ENGLISH UNTIL 185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9T12:36:23Z</dcterms:created>
  <dc:creator>Jennifer Budzinski</dc:creator>
  <dc:description/>
  <dc:language>en-US</dc:language>
  <cp:lastModifiedBy>Erich Friedman</cp:lastModifiedBy>
  <dcterms:modified xsi:type="dcterms:W3CDTF">2020-08-27T14:51:25Z</dcterms:modified>
  <cp:revision>430</cp:revision>
  <dc:subject/>
  <dc:title>Slide 1</dc:title>
</cp:coreProperties>
</file>