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BC98-D21E-48B1-B0BC-0B0AB6DDF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4256-D28F-4B43-A90D-D9F8EE48F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7617-D017-4737-B897-A9C959BD0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E786-71D0-41B8-8F70-3173F2D8E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779A-4322-422B-9881-838821176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BCED-F99C-43A1-BBB1-004D09086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79C1-BEBC-4A6F-865C-3528B7700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802E-F8AC-4FB5-A37D-C3D76A279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E3C6-C8AD-41F0-B2E6-09457821A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CB7F-3D99-475D-BADA-950BD4A08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CB7F-0DDC-4C20-A234-89E5CC16A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DB2C-CB62-451B-A58B-282B7BE3F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5D02-FE80-4B49-B2FA-13D3C8F09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9B3E-D230-4B8C-833C-7654BC383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A5C9-C910-4800-9855-21037032B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CF03-EE3C-456C-9B31-8990F1A90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583B-B351-4879-9CE6-063062816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6224-8DD0-4E8C-9D01-2EB14CFC5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516C-598B-4740-B960-49F1EF2E3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C292-B949-4B0E-8C9D-E6579C2C8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25D8-8D20-4F9D-97A1-843ED5E82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3687-EB88-4F65-996E-5C76D64FD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75D0-66B8-40E9-A137-836C5D93D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COMPETITIVE SWIMMER JOHNNY WEISSMULLER PLAY IN 12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  ON  THE  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SONG OF KANSAS, SINCE THE STATE'S HERDS OF BUFFALO, DEER, AND ANTELOPE INSPIRED ITS WRI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NOSA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, MEANING "THUNDER LIZARD," DID RICHARD OWEN COIN IN 184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C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3080" y="762120"/>
            <a:ext cx="8458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CIENT TIMES, THE ROCK OF GIBRALTAR AND MOROCCO'S JEBEL MUSA WERE KNOWN AS THE "PILLARS OF" WHAT MYTHICAL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NT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I BELIEVE" USED THE LAST NAME BARRINO WHEN SHE WON "AMERICAN ID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TYPE OF FASTENER, A UNIT OF FABRIC, OR AMMUNITION FOR A CROSSB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CAHO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FFENSIVE NICKNAME DOES DONALD TRUMP HAVE FOR SENATOR ELIZABETH WAR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CE  IN   WOND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ANTASY ADVENTURE FILM STARRED JOHNNY DEPP AS THE MAD HA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SONG OF KANSAS, SINCE THE STATE'S HERDS OF BUFFALO, DEER, AND ANTELOPE INSPIRED ITS WRI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KEN  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FOLK TALE, SOMETIMES CALLED "HENNY PENNY", WAS NOT TRANSLATED INTO ENGLISH UNTIL 185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Z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COMPETITIVE SWIMMER JOHNNY WEISSMULLER PLAY IN 12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34340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ANIMATED  DISNEY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, MEANING "THUNDER LIZARD," DID RICHARD OWEN COIN IN 184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CIENT TIMES, THE ROCK OF GIBRALTAR AND MOROCCO'S JEBEL MUSA WERE KNOWN AS THE "PILLARS OF" WHAT MYTHICAL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I BELIEVE" USED THE LAST NAME BARRINO WHEN SHE WON "AMERICAN ID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TYPE OF FASTENER, A UNIT OF FABRIC, OR AMMUNITION FOR A CROSSB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FFENSIVE NICKNAME DOES DONALD TRUMP HAVE FOR SENATOR ELIZABETH WAR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ANTASY ADVENTURE FILM STARRED JOHNNY DEPP AS THE MAD HAT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FOLK TALE, SOMETIMES CALLED "HENNY PENNY", WAS NOT TRANSLATED INTO ENGLISH UNTIL 185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12:36:23Z</dcterms:created>
  <dc:creator>Jennifer Budzinski</dc:creator>
  <dc:description/>
  <dc:language>en-US</dc:language>
  <cp:lastModifiedBy>Erich Friedman</cp:lastModifiedBy>
  <dcterms:modified xsi:type="dcterms:W3CDTF">2020-08-27T14:51:25Z</dcterms:modified>
  <cp:revision>430</cp:revision>
  <dc:subject/>
  <dc:title>Slide 1</dc:title>
</cp:coreProperties>
</file>