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90F3-5E98-457E-9CFA-5BC33B73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4EB-20DC-42E7-B6E9-F0F420FB1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A30F-B19B-4D9A-B42D-D303F510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C7A-9414-4F6B-9F1B-D04DDDD4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C7EB-8CBD-4224-831D-0FA1BEA6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DA1-7468-44AE-8D3C-97E5DF5B9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794-857B-453A-83E7-A2631187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9DC-2FC7-496C-B8DC-3BB9E38D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B60-B96C-44CC-8AAC-EAB03F2C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32CA-71FB-48FD-8F77-E834E829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276E-5C53-4647-9741-2A2B42D8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B7D-B45B-4037-BD18-1BB0EB02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0235-C822-4021-B022-19E079E0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C31-3CD1-4039-9021-33EED340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186-3D10-477E-AA57-143A45B1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3D6-5F2A-4C8B-B920-5BCF09ED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2E6-55CC-4FA7-911C-89ACE9C3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3FBD-8A83-4282-9552-21F5E7F1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02C-D9F5-4BA6-8DF1-D0A25709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4E7-ACE7-457C-B28C-76C3CC36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385-EDDE-42E4-8BB3-491DED56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8388-E5AA-490A-B407-ACB81D67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B240-46D6-490C-B572-B688C790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P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QU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866960" y="43434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IN  THE  SKY  WITH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IWINK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4000" y="4876920"/>
            <a:ext cx="849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AN  (MAGENTA,  YELLOW,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'S 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HADES  OF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40:17Z</dcterms:created>
  <dc:creator>Jennifer Budzinski</dc:creator>
  <dc:description/>
  <dc:language>en-US</dc:language>
  <cp:lastModifiedBy>Erich Friedman</cp:lastModifiedBy>
  <dcterms:modified xsi:type="dcterms:W3CDTF">2020-08-23T20:31:00Z</dcterms:modified>
  <cp:revision>324</cp:revision>
  <dc:subject/>
  <dc:title>Slide 1</dc:title>
</cp:coreProperties>
</file>