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56F8-3760-408F-9EB2-52C256283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2848-97BF-4920-87D9-5E7A48BB8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451C-C78B-4117-AF43-86BE805FA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D1C3-24E5-472A-989B-FCE8CBF6F5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1556-6FCA-45D6-814A-0FCE07B48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243E-F0B1-4A10-B7C0-F06059FF3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2860-947D-4627-8245-FFE828CE1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AF992-BB63-478F-A50F-D56D7F4D2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D1AD-385B-4883-AA73-7B10937E2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83F5-F85B-4D63-B70A-2E634616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0ED2-F492-434D-B79A-EC7AEE44B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709A3-B9E7-45C0-8C92-E99F7EAD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86E7-E2A3-415C-AC6D-561446E57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6B12-2D84-443F-B2D5-5FE19C995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41CAA-0A65-4E90-B4D2-E11324FA23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59C2-420A-4F4D-91C8-06E21C2B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D5E7-7061-448D-820F-BE6891AF9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304F-B436-4619-B8ED-A0ED84CA2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E543-8298-4C47-B455-31863D55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2122-9F09-41BA-8B9C-8EEB1B062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83FE-1543-45BA-AD4C-2E52EA7AA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992D0-A916-499F-AEAA-AD6153A16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0DB9-586A-481D-86EB-E2B0C8333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LO GUTHRIE'S POPULAR 18- MINUTE SONG OFF THE ALBUM OF THE SAM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419040" y="4876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PPH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380880" y="762120"/>
            <a:ext cx="83822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EPTEMBER'S BIRTHST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URQUO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ERAL WAS NAMED AFTER THE COUNTRY FROM WHICH IT WAS IMPORTED INTO EUROPE FROM PERSIAN MIN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1866960" y="4343400"/>
            <a:ext cx="5410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IN  THE  SKY  WITH  DIAM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THOUGHT TO BE ABOUT LS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DIGO 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LOSER TO FI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RMY-NAVY FOOTBALL GAME EVERY YEAR FROM 2002 TO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RIWINK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ING PLANT IS ALSO THE NAME OF AN EDIBLE SEA SNAI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24000" y="4876920"/>
            <a:ext cx="849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YAN  (MAGENTA,  YELLOW,  BLACK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71600" y="762120"/>
            <a:ext cx="6400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CMYK", WHAT DOES THE "C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EPTEMBER'S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RTHST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ANSAS CITY'S PROFESSIONAL BASEBALL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419040" y="4876920"/>
            <a:ext cx="8305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ICE'S  RESTAUR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95360" y="76212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ARLO GUTHRIE'S POPULAR 18- MINUTE SONG OFF THE ALBUM OF THE SAM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SHADES  OF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INERAL WAS NAMED AFTER THE COUNTRY FROM WHICH IT WAS IMPORTED INTO EUROPE FROM PERSIAN MIN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THOUGHT TO BE ABOUT LS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LOSER TO FI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2396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ARMY-NAVY FOOTBALL GAME EVERY YEAR FROM 2002 TO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LOWERING PLANT IS ALSO THE NAME OF AN EDIBLE SEA SNAI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23920" y="761760"/>
            <a:ext cx="6896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"CMYK", WHAT DOES THE "C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KANSAS CITY'S PROFESSIONAL BASEBALL TEAM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4T12:40:17Z</dcterms:created>
  <dc:creator>Jennifer Budzinski</dc:creator>
  <dc:description/>
  <dc:language>en-US</dc:language>
  <cp:lastModifiedBy>Erich Friedman</cp:lastModifiedBy>
  <dcterms:modified xsi:type="dcterms:W3CDTF">2020-08-23T20:31:00Z</dcterms:modified>
  <cp:revision>324</cp:revision>
  <dc:subject/>
  <dc:title>Slide 1</dc:title>
</cp:coreProperties>
</file>