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D5CB-25E4-4A75-9700-08413EE9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3E0D-A0FB-4EA1-AFBA-DDD52C44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2359-5F4B-4390-97D1-95FFB217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B5DB-AEFF-4F15-A583-63159AC9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C0AA-11B0-403C-AB7D-5F03B740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70E1-3C7A-4FFC-A258-3DDC191A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B1B6-DC2F-48E5-AC82-2FC86678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03B3-55F2-42CF-817F-993B2B54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017A-9982-4F22-9139-E3FE11462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4D2A-8D9C-4551-A941-D906B906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9F26-57CE-4F1F-A41E-D53CE73F9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4B6-73CD-45C6-BBCC-09D5CA811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5ABC-7D43-46BB-AA0F-5ABFFB45E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C12F-7CD5-4A45-A29F-3D0E7639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95A3-AAC2-404F-9C41-89299E77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7406-74FE-458E-BF49-802A58B66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71B9-DC72-4831-B182-B0D763D5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5402-163E-4202-93B4-EA01534C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D1A7-343D-4131-9B4B-AD99D003D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D8E9-73C2-46EA-BA3A-6DE099500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AFD7-840A-4ED2-AD17-53A549CF0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2433-A2F1-4E5D-AE5E-914FD414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6709-4292-44F2-A0B4-D7617554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LO GUTHRIE'S POPULAR 18- MINUTE SONG OFF THE ALBU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19040" y="4876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PP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PTEMBER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QU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ERAL WAS NAMED AFTER THE COUNTRY FROM WHICH IT WAS IMPORTED INTO EUROPE FROM PERSIAN M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866960" y="4343400"/>
            <a:ext cx="5410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IN  THE  SKY  WITH  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THOUGHT TO BE ABOUT LS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GO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LOSER TO F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RMY-NAVY FOOTBALL GAME EVERY YEAR FROM 2002 TO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IWINK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ING PLANT IS ALSO THE NAME OF AN EDIBLE SEA SNA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24000" y="4876920"/>
            <a:ext cx="849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AN  (MAGENTA,  YELLOW,  BLA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CMYK", WHAT DOES THE "C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PTEMBER'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TH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ANSAS CITY'S PROFESSIONAL BASEBALL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19040" y="4876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'S  RESTAU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LO GUTHRIE'S POPULAR 18- MINUTE SONG OFF THE ALBU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SHADES  OF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ERAL WAS NAMED AFTER THE COUNTRY FROM WHICH IT WAS IMPORTED INTO EUROPE FROM PERSIAN M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THOUGHT TO BE ABOUT LS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LOSER TO F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RMY-NAVY FOOTBALL GAME EVERY YEAR FROM 2002 TO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ING PLANT IS ALSO THE NAME OF AN EDIBLE SEA SNA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CMYK", WHAT DOES THE "C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ANSAS CITY'S PROFESSIONAL BASEBALL TEAM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2:40:17Z</dcterms:created>
  <dc:creator>Jennifer Budzinski</dc:creator>
  <dc:description/>
  <dc:language>en-US</dc:language>
  <cp:lastModifiedBy>Erich Friedman</cp:lastModifiedBy>
  <dcterms:modified xsi:type="dcterms:W3CDTF">2020-08-23T20:31:00Z</dcterms:modified>
  <cp:revision>324</cp:revision>
  <dc:subject/>
  <dc:title>Slide 1</dc:title>
</cp:coreProperties>
</file>