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9088-B75C-48FA-A85A-F3D3DF32B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CC6B-0208-4547-A718-C6C12534B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1F2-43B4-48C1-B386-2C2443CC7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73BB-436A-41D7-BD84-2C7F4AF6E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7239-8256-42EC-BCB0-2E4403B20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2257-1637-462B-894E-5C5820EC8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9EDE-CCDD-44FD-90DA-C3FB3FBA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6A45-FC86-40C5-B630-9C941AE2C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A1F7-FFC6-487E-B2EE-430D226F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B1EC-1E8D-4246-A8EE-A0D9B434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0E44-7217-4C15-AF11-0446603B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FBD-7E73-4459-B259-87DBE8CE3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5950-898F-4397-B22A-6E9A6A66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9B60-B4CD-47E0-8B1D-76A8256A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AAC3-2A0F-406A-858B-F30C43F4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B00-3095-4DA2-B6A7-201AD6EB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A58A-4A75-422A-ABF9-B8DB7E110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2E32-7BA5-43A8-A07E-287BB9BE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AB0C-BFEE-4522-B95B-B9D9D1F26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EB7E-6D86-40E8-8047-EA154AA8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3D4-6849-472D-978C-F780BA9C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AE96-A696-4BA9-986D-5A7EE6C9F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A8F0-B4DD-44FC-B5EE-956F1698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BOSS OF A MAFIA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SPY HAD PARTNER NATASH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N AWARD IS GIVEN TO PERFORMERS IN WHAT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70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LLMAN BROTHER WAS KILLED IN A MOTORCYCLE ACCIDENT IN 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398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 OF NEW YORK GOVERNOR MARIO CUOMO ALSO BECAME GOVERNOR OF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COMEDY FILM DIRECTED BY GRETA GERWIG WON A GOLDEN GLOBE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685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TLE BOY IN THE COMICS HAS A STUFFED TIGER NAMED HOBB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SPY HAD PARTNER NATASH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I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LOOMY BIBLICAL PROPHET OF DOOM IS ALSO CREDITED WITH WRITING THE BOOK OF LAMEN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BOSS OF A MAFIA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N AWARD IS GIVEN TO PERFORMERS IN WHAT 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LLMAN BROTHER WAS KILLED IN A MOTORCYCLE ACCIDENT IN 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 OF NEW YORK GOVERNOR MARIO CUOMO ALSO BECAME GOVERNOR OF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COMEDY FILM DIRECTED BY GRETA GERWIG WON A GOLDEN GLOBE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TLE BOY IN THE COMICS HAS A STUFFED TIGER NAMED HOBB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LOOMY BIBLICAL PROPHET OF DOOM IS ALSO CREDITED WITH WRITING THE BOOK OF LAMENT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23:13:15Z</dcterms:created>
  <dc:creator>Jennifer Budzinski</dc:creator>
  <dc:description/>
  <dc:language>en-US</dc:language>
  <cp:lastModifiedBy>Erich Friedman</cp:lastModifiedBy>
  <dcterms:modified xsi:type="dcterms:W3CDTF">2020-08-27T14:52:50Z</dcterms:modified>
  <cp:revision>420</cp:revision>
  <dc:subject/>
  <dc:title>Slide 1</dc:title>
</cp:coreProperties>
</file>