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047-3A97-489D-8691-80E07D4B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FCAE-36B6-4648-9930-510BE2BE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715-DC55-4060-9FF8-1CF9DB111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B729-4583-4A4A-B785-E0B5C557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629-A412-407B-8F5F-0E8933D0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945-CA9E-4B00-AA26-E8B2F093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EF0-4134-444D-BA09-B1C87207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5A2F-6E81-4B62-9D63-957B25F9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9BBE-C41B-43C4-8D03-621ADDF7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F77B-9CF7-44EA-B4E8-CB25FEC0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E825-4966-4684-BB82-4F5ECF76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A4D2-1D72-41B8-B910-D202ACB07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CCF8-A13A-45BE-85EE-D70CB5E7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72E-B6C6-4B31-8190-0E66EA36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043-F368-4A15-BE7D-BCF3E43B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C11-0EE3-4D2B-9113-C80EAF61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452-CEDB-4312-B59D-DBE279B41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AD2C-7E22-4BA4-AE59-5FF1EABB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031-EDBF-4421-B8E0-D8D0D79C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2D74-0150-4A71-A0A5-ED5BF3A7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1448-E665-4612-8C48-A3A14DCA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BCCF-F699-4C8C-A201-CC7D52CE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713-C4C0-4772-A665-F8D5D49C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70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39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685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I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13:15Z</dcterms:created>
  <dc:creator>Jennifer Budzinski</dc:creator>
  <dc:description/>
  <dc:language>en-US</dc:language>
  <cp:lastModifiedBy>Erich Friedman</cp:lastModifiedBy>
  <dcterms:modified xsi:type="dcterms:W3CDTF">2020-08-27T14:52:50Z</dcterms:modified>
  <cp:revision>420</cp:revision>
  <dc:subject/>
  <dc:title>Slide 1</dc:title>
</cp:coreProperties>
</file>