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4F6-F1CF-4FAD-A78A-D014DA4E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9126-E611-4F6E-BA2D-A930596B3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D8FF-DC89-4F96-8875-3F971EA3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FF1-60C6-4602-9741-F6993C44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7B9E-0060-49BD-A348-94DBF516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4AD-B2C5-4E19-84A1-12EF0033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16BB-53F4-4879-B6FB-879D2D390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A32E-994A-4FBB-8587-C1698CAC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0FC9-5F58-4CF6-A2E4-D99649F4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8013-87F7-4E1D-814D-D4C4438D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A993-536F-42ED-A689-035B8DBBD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3B9-F69C-41FA-8207-D6C080A7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5244-7563-427E-8459-A22248B7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C73-B7CA-43DF-BB6C-233D58B6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1E9-C23A-47AD-BC97-41194F7C4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3CDF-A03A-4958-986C-F06AC70E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20E5-259D-4AAB-AAED-297B4CBA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91F8-3CE2-4D52-B021-28CF9FE6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FB1-B21C-4FD5-ADB5-2C53FD9F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6121-ADF1-4E05-817F-F3F564EB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AAE-EA7B-4A98-ABFB-14006683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77BB-9428-427C-B9FD-EB84353C2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3E29-7C84-42AF-AA39-DBEB293D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BOSS OF A MAFIA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SPY HAD PARTNER NATASH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N AWARD IS GIVEN TO PERFORMERS IN WHAT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70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LLMAN BROTHER WAS KILLED IN A MOTORCYCLE ACCIDENT IN 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398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 OF NEW YORK GOVERNOR MARIO CUOMO ALSO BECAME GOVERNOR OF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COMEDY FILM DIRECTED BY GRETA GERWIG WON A GOLDEN GLOBE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685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TLE BOY IN THE COMICS HAS A STUFFED TIGER NAMED HOBB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SPY HAD PARTNER NATASH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I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LOOMY BIBLICAL PROPHET OF DOOM IS ALSO CREDITED WITH WRITING THE BOOK OF LAM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BOSS OF A MAFIA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N AWARD IS GIVEN TO PERFORMERS IN WHAT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LLMAN BROTHER WAS KILLED IN A MOTORCYCLE ACCIDENT IN 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 OF NEW YORK GOVERNOR MARIO CUOMO ALSO BECAME GOVERNOR OF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COMEDY FILM DIRECTED BY GRETA GERWIG WON A GOLDEN GLOBE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TLE BOY IN THE COMICS HAS A STUFFED TIGER NAMED HOBB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LOOMY BIBLICAL PROPHET OF DOOM IS ALSO CREDITED WITH WRITING THE BOOK OF LAMEN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23:13:15Z</dcterms:created>
  <dc:creator>Jennifer Budzinski</dc:creator>
  <dc:description/>
  <dc:language>en-US</dc:language>
  <cp:lastModifiedBy>Erich Friedman</cp:lastModifiedBy>
  <dcterms:modified xsi:type="dcterms:W3CDTF">2020-08-27T14:52:50Z</dcterms:modified>
  <cp:revision>420</cp:revision>
  <dc:subject/>
  <dc:title>Slide 1</dc:title>
</cp:coreProperties>
</file>