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D29C-241D-4C95-8F13-C18F64B35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9A79-16AE-404E-BC44-750F6FA35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FF4B-5D3F-4240-B2EA-BCB5C04AC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C8F9-0E25-451B-82B3-AA43AFE75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F6BF-B567-444E-986D-0E6C1DA0B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F2D1-390B-4E36-B9FC-EEF13E7BA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14F8-2ACD-4937-A2EE-11E629505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4B11-2743-4DB8-9F6F-6A077A0C8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3DCE-9242-4639-9BB3-EEF169B4F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78B2-8813-48A9-95B8-2DE712123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25AF-FB43-4831-AC1B-D62AAB918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2ABA-95DF-4C72-94D0-44D3BAA05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AD90-FB82-4D34-84F0-F2F004CD6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7690-C8DD-4197-A500-13D535EE1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973D-A234-4328-A47F-95D2D23ED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74E9-32E5-4AB4-9905-25F0C8F18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8BB8-3F44-47A5-96E0-57BEA6EA1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A18A-9290-4E7E-A7AF-E4D3CE151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F083-EDD6-4653-B392-3809733CA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689A-4E76-4404-9C5D-8CA4FD9A7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796B-9906-4E59-BA5A-2D78D77B8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D29B-5E19-4A9C-A243-F0F073843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008D-415B-412A-917C-4D17AA538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-1994 POINT GUARD FOR THE DETROIT PISTONS STILL HOLDS THE PISTONS' RECORD FOR POINTS, STEALS, AND ASSIST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S  IS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64-ACRE AMUSEMENT PARK LOCATED NEAR CINCINNATI CONTAINS A ONE-THIRD SCALE REPLICA OF THE EIFFEL TOW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UEL  AL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PLACED SANDRA DAY O'CONNOR ON THE U.S. SUPREME COU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04920" y="762120"/>
            <a:ext cx="8534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CK GROUP FEATURED PETER GABRIEL AND PHIL COLLINS AS LEAD SING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HUA  TREE  NATIONAL  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PARK IS DUE EAST OF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TH  WESTHEI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5420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SEX THERAPIST AND TALK SHOW HOST WROTE OVER 40 BOOKS ON SEXUAL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2005-2010 TV  SERIES DID A MATHEMATICAL PRODIGY HELP THE FBI SOLVE CR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RI  A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OF "FROM THE CHOIRGIRL HOTEL" AND "BOYS FOR PELE" WAS ADMITTED AT AGE 5 TO THE PEABODY INSTIT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64-ACRE AMUSEMENT PARK LOCATED NEAR CINCINNATI CONTAINS A ONE-THIRD SCALE REPLICA OF THE EIFFEL TOW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AH 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SUPPORTING ACTOR FOR BOTH "MONEYBALL" AND "THE WOLF OF WALL STRE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IAH 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-1994 POINT GUARD FOR THE DETROIT PISTONS STILL HOLDS THE PISTONS' RECORD FOR POINTS, STEALS, AND ASSIS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523880" y="4343400"/>
            <a:ext cx="6096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BOOKS  OF  THE  OLD  TESTA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PLACED SANDRA DAY O'CONNOR ON THE U.S. SUPREME COU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CK GROUP FEATURED PETER GABRIEL AND PHIL COLLINS AS LEAD SING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PARK IS DUE EAST OF LOS ANGE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SEX THERAPIST AND TALK SHOW HOST WROTE OVER 40 BOOKS ON SEXUAL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2005-2010 TV  SERIES DID A MATHEMATICAL PRODIGY HELP THE FBI SOLVE CR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OF "FROM THE CHOIRGIRL HOTEL" AND "BOYS FOR PELE" WAS ADMITTED AT AGE 5 TO THE PEABODY INSTITU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SUPPORTING ACTOR FOR BOTH "MONEYBALL" AND "THE WOLF OF WALL STRE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6T19:31:58Z</dcterms:created>
  <dc:creator>Jennifer Budzinski</dc:creator>
  <dc:description/>
  <dc:language>en-US</dc:language>
  <cp:lastModifiedBy>Erich Friedman</cp:lastModifiedBy>
  <dcterms:modified xsi:type="dcterms:W3CDTF">2020-08-27T19:47:48Z</dcterms:modified>
  <cp:revision>451</cp:revision>
  <dc:subject/>
  <dc:title>Slide 1</dc:title>
</cp:coreProperties>
</file>