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1518-D178-4A26-A1E6-1E029FDE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68BA-296D-4798-A8EB-D696D417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6898-9DB3-4DDF-B74F-4719302D2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201-0ED4-4ED4-9947-6F394E043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C545-395B-4A96-8106-6233D5C93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1356-DE7F-4B4D-9DBA-0B9B041BB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F317-CD46-4A3B-8D01-368869C42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1C9F-BD77-4688-A5A0-E05D6A3A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5166-7358-41CE-915F-79ACD19A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47EB-E347-4873-9F2B-8E9A0D6B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16C9-4408-4D34-81FC-650C8541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312B-0B2F-4BD4-9FF1-655A5B56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A730-AB63-4289-9EA9-B86CD66FC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A9C3-784D-48DD-890B-6AFECEAC6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7C6E-F7E7-413A-8FB6-DAA8DC342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ADA5-D1E2-4AC4-8264-C3AA39529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2F15-CEEE-4986-B6C7-BFF46E96B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048C-C213-42E6-8085-A3D8FA6F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F902-F0B0-4E40-B7CC-EE659AB35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2ACC-7ADD-4518-9112-D7B4613B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5947-4D06-4A87-9C99-7AD7449E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379A-7A29-491C-9FEB-78AB4B22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6B7A-EE9A-4CA0-BD32-35023E050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-1994 POINT GUARD FOR THE DETROIT PISTONS STILL HOLDS THE PISTONS' RECORD FOR POINTS, STEALS, AND ASSIS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S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64-ACRE AMUSEMENT PARK LOCATED NEAR CINCINNATI CONTAINS A ONE-THIRD SCALE REPLICA OF THE EIFFEL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L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SANDRA DAY O'CONNOR ON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FEATURED PETER GABRIEL AND PHIL COLLINS AS LEAD S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HUA  TREE  NATIONAL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DUE EAST OF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  WESTHE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420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X THERAPIST AND TALK SHOW HOST WROTE OVER 40 BOOKS ON SEXU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0 TV  SERIES DID A MATHEMATICAL PRODIGY HELP THE FBI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I  A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ROM THE CHOIRGIRL HOTEL" AND "BOYS FOR PELE" WAS ADMITTED AT AGE 5 TO THE PEABODY INSTIT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64-ACRE AMUSEMENT PARK LOCATED NEAR CINCINNATI CONTAINS A ONE-THIRD SCALE REPLICA OF THE EIFFEL T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BOTH "MONEYBALL" AND "THE WOLF OF WALL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IAH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-1994 POINT GUARD FOR THE DETROIT PISTONS STILL HOLDS THE PISTONS' RECORD FOR POINTS, STEALS, AND ASSIS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OKS  OF  THE  OLD  TESTA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SANDRA DAY O'CONNOR ON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FEATURED PETER GABRIEL AND PHIL COLLINS AS LEAD S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DUE EAST OF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X THERAPIST AND TALK SHOW HOST WROTE OVER 40 BOOKS ON SEXU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0 TV  SERIES DID A MATHEMATICAL PRODIGY HELP THE FBI SOLVE CR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ROM THE CHOIRGIRL HOTEL" AND "BOYS FOR PELE" WAS ADMITTED AT AGE 5 TO THE PEABODY INSTITU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BOTH "MONEYBALL" AND "THE WOLF OF WALL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6T19:31:58Z</dcterms:created>
  <dc:creator>Jennifer Budzinski</dc:creator>
  <dc:description/>
  <dc:language>en-US</dc:language>
  <cp:lastModifiedBy>Erich Friedman</cp:lastModifiedBy>
  <dcterms:modified xsi:type="dcterms:W3CDTF">2020-08-27T19:47:48Z</dcterms:modified>
  <cp:revision>451</cp:revision>
  <dc:subject/>
  <dc:title>Slide 1</dc:title>
</cp:coreProperties>
</file>