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D05-CD05-40C9-9433-45BA9D5F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3CF-0BDA-4D09-A710-0D812B5D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F9B-D4EE-473F-9E49-F821EC04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A5F7-F0B8-44FD-AE25-5EE56966C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E4E-7551-4728-AED7-2265FC2FC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C135-A98C-4983-86C6-25F963AC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B81C-FC1D-4537-B6A7-88D50570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CCD2-7DFC-4EB3-9283-96A98973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1EA3-B416-4EAF-AA69-5A172567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E7F-D34E-4CA2-BA8D-240C935B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4CD-0027-499B-ADF3-0B63BC4B9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20A-5E30-4F86-A4EE-A337D4D6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CCC-0DB4-4541-A9E8-4737D722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08DE-C5DA-4A35-988A-336BC4A1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E78-1600-40E2-84CD-4FEB78A3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97F5-A782-466C-931C-33C8EA19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C484-0A68-42B3-AA52-52813BD1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9F41-7F30-46B3-BA4C-1EAAD9A1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C0C8-E046-4765-BA71-793EEDA1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3C39-93AD-4F15-97D0-344F3D1E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BBE-1BDF-49C8-BC08-B9E6E6C9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CC1E-5F3C-4080-A9EF-39E4D310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4C2-1A9C-4F00-AC93-2AE2D3AF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HUA  TREE  NATION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WEST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I  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AH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OLD  TESTA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9:31:58Z</dcterms:created>
  <dc:creator>Jennifer Budzinski</dc:creator>
  <dc:description/>
  <dc:language>en-US</dc:language>
  <cp:lastModifiedBy>Erich Friedman</cp:lastModifiedBy>
  <dcterms:modified xsi:type="dcterms:W3CDTF">2020-08-27T19:47:48Z</dcterms:modified>
  <cp:revision>451</cp:revision>
  <dc:subject/>
  <dc:title>Slide 1</dc:title>
</cp:coreProperties>
</file>