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7548-CE39-49BD-BA56-CE3865363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E43-CAE1-436F-916C-E47566279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C28A-00C0-436B-B7CA-D6784FA85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BF9B-6D7E-4F47-A88A-E7526F9A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D54E-2D45-4BC7-9847-B8C0E15B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B77C-C447-4A7F-A13F-4EC651C8A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E163-E73C-4E40-91B0-C298070BF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C596-5A3F-4049-B897-A8BD77B9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7A14-AF98-47C4-BE80-904AEFF1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F00F-3BC4-4CC3-9DAC-CCECF1B9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CF5E-99C9-473B-A2DF-1632C8C0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83D0-D5B4-4FEA-B5D4-EB4F7A8F0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C9B1-F527-4D36-8F28-11D9634C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431A-A00E-4919-A7D6-086556EEB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12A7-0277-4C91-92B6-0046031D8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FB71-BC09-4F6E-A58D-07BD0117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2D32-4F36-4B07-957A-B6259D7DF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5699-6B99-4394-91BB-379DFBC4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935-E208-4668-9CC4-10F38F9FB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BA1F-C8FC-4A3E-9E96-7B8D53DD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3D4C-10F0-4EAA-A960-F3071F91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BA7-4D35-4E52-8640-9B49B853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D0F4-A5D1-4B44-965E-7B3B4ACA3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76200" y="1066680"/>
            <a:ext cx="6591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92320" y="761760"/>
            <a:ext cx="6757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U.S. FORCES IN VIETNAM DURING THE VIETNAM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LINDBE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ERSON TO FLY A PLANE SOLO NON-STOP ACROSS THE ATLANT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ATM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39720" y="762120"/>
            <a:ext cx="7862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WHEN PROHIBITION EN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E  SELA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MPEROR OF ETHIOPIA 1930-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ANG  KAI–SH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97000" y="762120"/>
            <a:ext cx="8550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IDELY RECOGNIZED AS THE LEADER OF THE REPUBLIC OF CHINA 1928-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1280" y="762120"/>
            <a:ext cx="8461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'S BIRTH NAME WAS IOSEB BESARIONIS DZE JUGHASHVI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AND SECRETARY OF DEFENSE UNDER PRESIDENT TRUMAN WON THE NOBEL PEACE PRIZE IN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ERSON TO FLY A PLANE SOLO NON-STOP ACROSS THE ATLANT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URRENTLY THE LONGEST REIGNING WORLD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ESTMO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U.S. FORCES IN VIETNAM DURING THE VIETNAM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68160" y="4876920"/>
            <a:ext cx="780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TIME"  PERSONS  OF  THE 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WHEN PROHIBITION EN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MPEROR OF ETHIOPIA 1930-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IDELY RECOGNIZED AS THE LEADER OF THE REPUBLIC OF CHINA 1928-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'S BIRTH NAME WAS IOSEB BESARIONIS DZE JUGHASHVI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AND SECRETARY OF DEFENSE UNDER PRESIDENT TRUMAN WON THE NOBEL PEACE  PRIZE IN 19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7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URRENTLY THE LONGEST REIGNING WORLD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7T19:49:55Z</dcterms:modified>
  <cp:revision>423</cp:revision>
  <dc:subject/>
  <dc:title>Slide 1</dc:title>
</cp:coreProperties>
</file>