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BDFD-2503-466E-A25C-F6B421BCF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4AFD-22DA-44A4-9F40-7D91FE5B6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3441-038C-4831-A170-28BA16B95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9766-7EF5-402E-A825-210CACE76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80B8-290F-42D5-A525-1DD55C072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C09B-B992-45A7-86D2-FB95DA33C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85BC-D465-41EA-BCBD-C8C7940E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FEAD-1697-43DB-A0C9-084D969B8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B47C-CE6B-4FAB-AD1B-4A768C839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2FF3-7D9C-49EA-9AF0-CAC2CC868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521F-9BF3-4DB1-B4DD-FB3D06962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97F2-7D46-4A50-AE76-3F27829D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0640-2F2C-48ED-839F-2941E0E12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6F9F-F0CE-41C8-89E5-1AF3CC437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40D5-0E28-45CD-AAD8-B56A86C53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DDDC-979F-4DAC-B327-88582642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CB60-615C-4062-8F15-0E4D27958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E07C-C9A5-48FD-BE72-9F6585EF8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247B-648F-49C3-8CD9-B2B417C64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D8EB-602A-4CA4-AF36-9BE1821A2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C5DB-D12B-4C6A-8C09-B73EF9A27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C921-1231-4D0B-97F5-747B5460D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07E7-C309-4E6C-ACD3-B154AF7A1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76200" y="1066680"/>
            <a:ext cx="6591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92320" y="761760"/>
            <a:ext cx="6757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OF THE U.S. FORCES IN VIETNAM DURING THE VIETNAM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40976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LINDBER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ERSON TO FLY A PLANE SOLO NON-STOP ACROSS THE ATLANTIC OC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HATMA  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INDIAN INDEPENDENCE MOVEMENT AGAINST BRITISH RU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 D.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39720" y="762120"/>
            <a:ext cx="7862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PRESIDENT WHEN PROHIBITION EN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LE  SELAS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3280" y="762120"/>
            <a:ext cx="813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EMPEROR OF ETHIOPIA 1930-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ANG  KAI–SH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97000" y="762120"/>
            <a:ext cx="8550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WIDELY RECOGNIZED AS THE LEADER OF THE REPUBLIC OF CHINA 1928-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1280" y="762120"/>
            <a:ext cx="8461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LEADER'S BIRTH NAME WAS IOSEB BESARIONIS DZE JUGHASHVI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MARS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RETARY OF STATE AND SECRETARY OF DEFENSE UNDER PRESIDENT TRUMAN WON THE NOBEL PEACE PRIZE IN 19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ERSON TO FLY A PLANE SOLO NON-STOP ACROSS THE ATLANTIC OC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ELIZABETH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URRENTLY THE LONGEST REIGNING WORLD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ESTMO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OF THE U.S. FORCES IN VIETNAM DURING THE VIETNAM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68160" y="4876920"/>
            <a:ext cx="780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TIME"  PERSONS  OF  THE 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INDIAN INDEPENDENCE MOVEMENT AGAINST BRITISH RU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PRESIDENT WHEN PROHIBITION EN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EMPEROR OF ETHIOPIA 1930-197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WIDELY RECOGNIZED AS THE LEADER OF THE REPUBLIC OF CHINA 1928-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LEADER'S BIRTH NAME WAS IOSEB BESARIONIS DZE JUGHASHVI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RETARY OF STATE AND SECRETARY OF DEFENSE UNDER PRESIDENT TRUMAN WON THE NOBEL PEACE  PRIZE IN 195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3400" y="762120"/>
            <a:ext cx="6937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URRENTLY THE LONGEST REIGNING WORLD LEA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7T19:49:55Z</dcterms:modified>
  <cp:revision>423</cp:revision>
  <dc:subject/>
  <dc:title>Slide 1</dc:title>
</cp:coreProperties>
</file>