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5C00-217F-49CD-B8B9-D4563573B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C575-EA4A-49E9-AED8-8F2CF3657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2647-0144-438C-BE57-09E4C36A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B302-B044-45D9-B4DB-75B7E9082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EA29-86C3-4975-B744-F440CAD04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F567-09DE-4EAC-A51C-E71854B19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E46A-CBC1-456C-8F4A-278685D5C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4169-F3CA-4609-821D-D72533D18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94EA-0FF1-4EE2-A101-E8DEA8D85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9CAB-7B0C-48CE-A33B-CD0DCF0CF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DE78-E2C7-4689-AEAB-862A2AD3C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C4E1F-D230-4DC3-A90D-A11E3788A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0252-3BA8-43A0-AADE-3A9D64904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A3F9-B75D-4B5F-B79B-EA8BC601D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5403-7F2F-463D-A868-C5C793FC7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E8EE7-68E7-44F2-9496-A0804578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E0D5-DB29-424F-BF9B-7A3B44475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6120-F601-45E0-AD41-E4AF88AC7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F47A-8808-4ACB-A5D7-BAEBF70FC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A37E-5C1F-479D-8D1D-05CFE517C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973B-5CC8-49D2-8E8D-A18047665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D083-38B0-42CA-BC25-054B3230C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4AC6-7F71-4BA9-AAD0-4942ACF1D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76200" y="1066680"/>
            <a:ext cx="6591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92320" y="761760"/>
            <a:ext cx="67579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OF THE U.S. FORCES IN VIETNAM DURING THE VIETNAM W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409760" y="4876920"/>
            <a:ext cx="6324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LINDBER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ERSON TO FLY A PLANE SOLO NON-STOP ACROSS THE ATLANTIC OC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HATMA  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INDIAN INDEPENDENCE MOVEMENT AGAINST BRITISH RU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LIN   D.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39720" y="762120"/>
            <a:ext cx="7862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PRESIDENT WHEN PROHIBITION EN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LE  SELASS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03280" y="762120"/>
            <a:ext cx="81374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EMPEROR OF ETHIOPIA 1930-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ANG  KAI–SH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297000" y="762120"/>
            <a:ext cx="8550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WIDELY RECOGNIZED AS THE LEADER OF THE REPUBLIC OF CHINA 1928-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1280" y="762120"/>
            <a:ext cx="8461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LEADER'S BIRTH NAME WAS IOSEB BESARIONIS DZE JUGHASHVI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MARS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RETARY OF STATE AND SECRETARY OF DEFENSE UNDER PRESIDENT TRUMAN WON THE NOBEL PEACE PRIZE IN 19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ERSON TO FLY A PLANE SOLO NON-STOP ACROSS THE ATLANTIC OC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ELIZABETH 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URRENTLY THE LONGEST REIGNING WORLD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WESTMO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OF THE U.S. FORCES IN VIETNAM DURING THE VIETNAM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68160" y="4876920"/>
            <a:ext cx="7807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TIME"  PERSONS  OF  THE 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ED THE INDIAN INDEPENDENCE MOVEMENT AGAINST BRITISH RU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PRESIDENT WHEN PROHIBITION EN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EMPEROR OF ETHIOPIA 1930-197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WIDELY RECOGNIZED AS THE LEADER OF THE REPUBLIC OF CHINA 1928-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LEADER'S BIRTH NAME WAS IOSEB BESARIONIS DZE JUGHASHVIL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RETARY OF STATE AND SECRETARY OF DEFENSE UNDER PRESIDENT TRUMAN WON THE NOBEL PEACE  PRIZE IN 195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3400" y="762120"/>
            <a:ext cx="6937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CURRENTLY THE LONGEST REIGNING WORLD LEA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27T19:49:55Z</dcterms:modified>
  <cp:revision>423</cp:revision>
  <dc:subject/>
  <dc:title>Slide 1</dc:title>
</cp:coreProperties>
</file>