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1FB8-FB35-4A8B-B058-7482FFD33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422C-D26D-4193-AE9C-05ACA2FC4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9852-B66E-4562-BB30-723573028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617A-20A2-4525-B58D-D0C1E7660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6715-C415-4689-81B8-F7A66F0DB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B328-9F1E-47D6-81DE-7453BFB4F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65BCF-5A2B-4E89-B517-03394A012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A521-88BB-4DD6-9D5F-B7433CB68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E16E-EEAD-45E8-A59D-2F5C8F8FF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FAFE-6978-4574-82A0-AA7E56D65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A146-19C2-49A5-AD37-307D98E4D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CD2F-E53C-44CB-B161-8A7A70823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426F-A22C-4CA3-BCD9-B5B5DB47B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7E5B-A2AC-4323-B581-1B333A475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2BDA-C4F0-4F25-8427-C5C42E46B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268F-F48D-4D74-80BD-23F1E2CE8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0148-2AF9-4E56-82EC-87F698A33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6557-94C4-4703-8D0B-476132BDA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259C-6995-40BE-A6D5-45796591A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CAFC-4B1C-488F-83D3-5CED59CB8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1DCF-3AFC-48B1-A350-1EA07F97E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5140-CE55-47F8-B2B8-1D71CDE6B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4E53-23D9-4BB1-9C86-C672618CC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RYSTALLINE FORM OF MERCURY SULFIDE BETTER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AT ABOUT US", "JUST GIVE ME A REASON", AND "RAISE YOUR GLA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OON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NE MORE NIGHT", "MAKES ME WONDER", AND "MOVES LIKE JAG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5 "CARDINAL   GEMS" ARE AMETHYST, DIAMOND, EMERALD, SAPPHIR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43000" y="75888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FOOD OF ALASKAN BEARS DURING AUGU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MSON  T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5240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SUBMARINE FILM STARRED GENE HACKMAN AND DENZEL WASH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CARLET  L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NOVEL WRITTEN BY NATHANIEL HAWTHOR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FORD  CARD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GE ATHLETICS PROGRAM HAS BEEN          THE MOST SUCCESSFUL  OVERALL IN EACH OF THE LAST 24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HAT ABOUT US", "JUST GIVE ME A REASON", AND "RAISE YOUR GLA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OTTLE  OF  W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TAKES ABOUT 2.5 POUNDS OF GRAPES TO MAK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NNAB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RYSTALLINE FORM OF MERCURY SULFIDE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SHADES  OF 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NE MORE NIGHT", "MAKES ME WONDER", AND "MOVES LIKE JAG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09760" y="76212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5 "CARDINAL  GEMS" ARE AMETHYST, DIAMOND, EMERALD, SAPPHIR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FOOD OF ALASKAN BEARS DURING AUGU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SUBMARINE FILM STARRED GENE HACKMAN AND DENZEL WASHING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NOVEL WRITTEN BY NATHANIEL HAWTHOR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LEGE ATHLETICS PROGRAM HAS BEEN          THE MOST SUCCESSFUL OVERALL IN EACH OF THE LAST 24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TAKES ABOUT 2.5 POUNDS OF GRAPES TO MAK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9T13:17:08Z</dcterms:created>
  <dc:creator>Jennifer Budzinski</dc:creator>
  <dc:description/>
  <dc:language>en-US</dc:language>
  <cp:lastModifiedBy>Erich Friedman</cp:lastModifiedBy>
  <dcterms:modified xsi:type="dcterms:W3CDTF">2020-08-27T19:51:15Z</dcterms:modified>
  <cp:revision>429</cp:revision>
  <dc:subject/>
  <dc:title>Slide 1</dc:title>
</cp:coreProperties>
</file>