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9007-17CB-4C9F-85F0-95B7D5B5E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49B6-D97E-45C4-8509-79337297A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F10B-D916-4A93-AAFE-5953D7745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5D91-EC78-40A0-9033-C115FFC69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34B7-C89C-4B63-AC03-9528277ED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81FE-604D-4365-A883-61662A125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FC53-F22F-42D4-BE97-8DCA7657B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A9A0-FAB4-47D7-AB29-4526DCD43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7E14-6FF1-423C-ABE4-EB3A31EBD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BCD8-F8FD-43EC-BB4F-D2FB2AB7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80DF-DFD9-417C-9415-E5625F057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CF79-921F-4925-93E5-03B2726AB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A23F-1567-4CBE-96EE-FA50086FB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1641-18AE-452E-835C-EA1AC0E6D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0392-5E33-4ED0-8296-77622BCF9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1B73-F290-49D7-83E6-515FC5368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0252-AABB-4D17-BB2C-A88B62116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E24D-6185-41AE-8B7D-DE0FBDF6D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1B75-CDD8-4ED9-BF89-B661FA09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C6C9-FDB6-4F4B-A7F0-771F1CA52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6EE8-E67C-4647-9E36-33752FD18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1FD5-EBBA-4448-9E76-3E51EFA66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E816-39D0-4585-AAED-B901DC2CC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RYSTALLINE FORM OF MERCURY SULFIDE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AT ABOUT US", "JUST GIVE ME A REASON", AND "RAISE YOUR G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O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NE MORE NIGHT", "MAKES ME WONDER", AND "MOVES LIKE JAG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5 "CARDINAL   GEMS" ARE AMETHYST, DIAMOND, EMERALD, SAPPHIR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43000" y="75888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FOOD OF ALASKAN BEARS DURING AUGU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MSON  T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5240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SUBMARINE FILM STARRED GENE HACKMAN AND DENZEL WAS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CARLET  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NOVEL WRITTEN BY NATHANIEL HAWTHOR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FORD  CARD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GE ATHLETICS PROGRAM HAS BEEN          THE MOST SUCCESSFUL  OVERALL IN EACH OF THE LAST 24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AT ABOUT US", "JUST GIVE ME A REASON", AND "RAISE YOUR GL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OTTLE  OF  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TAKES ABOUT 2.5 POUNDS OF GRAPES TO MAK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NAB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RYSTALLINE FORM OF MERCURY SULFIDE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SHADES  OF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NE MORE NIGHT", "MAKES ME WONDER", AND "MOVES LIKE JAG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09760" y="76212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5 "CARDINAL  GEMS" ARE AMETHYST, DIAMOND, EMERALD, SAPPHIR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FOOD OF ALASKAN BEARS DURING AUGU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SUBMARINE FILM STARRED GENE HACKMAN AND DENZEL WAS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NOVEL WRITTEN BY NATHANIEL HAWTHOR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GE ATHLETICS PROGRAM HAS BEEN          THE MOST SUCCESSFUL OVERALL IN EACH OF THE LAST 24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TAKES ABOUT 2.5 POUNDS OF GRAPES TO MAK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3:17:08Z</dcterms:created>
  <dc:creator>Jennifer Budzinski</dc:creator>
  <dc:description/>
  <dc:language>en-US</dc:language>
  <cp:lastModifiedBy>Erich Friedman</cp:lastModifiedBy>
  <dcterms:modified xsi:type="dcterms:W3CDTF">2020-08-27T19:51:15Z</dcterms:modified>
  <cp:revision>429</cp:revision>
  <dc:subject/>
  <dc:title>Slide 1</dc:title>
</cp:coreProperties>
</file>