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3FE6-C99C-4923-80C3-387F34EA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B200-0415-4ED4-8D08-13976911B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440-8348-4D65-8D1D-F85498DB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95E-DF25-454B-AD3A-95A872B5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4B2-ABAC-4415-A162-5F2258D8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06F5-8B81-465B-B444-0DF26213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BD2C-2369-4799-887F-502F7A48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BF4C-1FAD-4245-AAB5-1E9ED202B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C868-278D-4A4E-BB89-E4DA1A6A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700-C77F-45E1-A7EB-C2DEC85B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C46F-5F26-43D7-A8EB-B45823428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294-FA5E-4531-994A-BCEE69F9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F7DF-B7C5-47AD-94F2-D09B8266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4625-2A84-468B-8F99-E1A1541E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EF9-97C1-4C32-8804-CFCE414D4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BDED-F73B-4A42-BCAA-4C25D955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91A7-AC84-4B4F-A3C6-B6F6EADD7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F4CD-6E22-465C-80C7-3A42FA5E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24EA-95A3-43E6-9864-56C6BE081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9058-D879-41B5-9ED7-E1B0EEB7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62F8-0C0D-4400-931C-30EF660E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D8DF-4748-4582-8564-33040715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4C4-BE5D-4E69-A62E-255F7EA9B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RYSTALLINE FORM OF MERCURY SULFIDE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 ABOUT US", "JUST GIVE ME A REASON", AND "RAISE YOUR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MAKES ME WONDER", AND "MOVES LIKE JAG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"CARDINAL   GEMS" ARE AMETHYST, DIAMOND, EMERALD, SAPPHIR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588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524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SUBMARINE FILM STARRED GENE HACKMAN AND DENZEL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LET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NOVEL WRITTEN BY NATHANIEL HAWTHOR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FORD  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ATHLETICS PROGRAM HAS BEEN          THE MOST SUCCESSFUL  OVERALL IN EACH OF THE LAST 2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 ABOUT US", "JUST GIVE ME A REASON", AND "RAISE YOUR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OTTLE  OF  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TAKES ABOUT 2.5 POUNDS OF GRAPES TO MAK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NA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RYSTALLINE FORM OF MERCURY SULFID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SHADES  OF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MAKES ME WONDER", AND "MOVES LIKE JAG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"CARDINAL  GEMS" ARE AMETHYST, DIAMOND, EMERALD, SAPPHIR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SUBMARINE FILM STARRED GENE HACKMAN AND DENZEL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NOVEL WRITTEN BY NATHANIEL HAWTHOR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ATHLETICS PROGRAM HAS BEEN          THE MOST SUCCESSFUL OVERALL IN EACH OF THE LAST 2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TAKES ABOUT 2.5 POUNDS OF GRAPES TO MAK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3:17:08Z</dcterms:created>
  <dc:creator>Jennifer Budzinski</dc:creator>
  <dc:description/>
  <dc:language>en-US</dc:language>
  <cp:lastModifiedBy>Erich Friedman</cp:lastModifiedBy>
  <dcterms:modified xsi:type="dcterms:W3CDTF">2020-08-27T19:51:15Z</dcterms:modified>
  <cp:revision>429</cp:revision>
  <dc:subject/>
  <dc:title>Slide 1</dc:title>
</cp:coreProperties>
</file>