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EAEE-C0EE-4E86-9A79-9BFFED835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31AE-871C-4B2F-95F8-B2CAA3CFC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2C55-06EC-468E-9205-346F84468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F62B-722A-49D1-8B7C-299D582C9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20B1-9BEA-48E1-BE06-69E496A33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AA70-8F2D-4686-98C6-D3B816ED9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800D-7284-4AC8-A294-A141EA322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E67B-E412-4B22-9819-439CA31F6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2A16-29CC-4B47-93D9-A817DB61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DAD0-6F1D-4969-8BFD-82B6791D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B4AA-92E5-4857-A40E-7A2C62230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4B11-DFF4-452E-8DFB-2F7073109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31A3-7A8C-4AE3-B04D-EB874E90B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5F39-0EBF-4E2D-AA6E-A268D9805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9BD7-6569-47B3-82DE-02F17D703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47D8-6C12-4EC1-9182-4823623E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9405-2A46-4DAA-81F7-5DB9BE277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32F8-28FB-40D1-9C42-0FDDA47AD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63B8-3780-40DB-AB05-684A329F7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5A3F-0515-47C6-B48A-12C975465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B199-C33A-4404-820C-24D24BB4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79A9-7740-4C66-B9CB-404D0ED76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EC42-ABCD-4EC9-B85D-D76F5DF21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CCIDENT HAPPENED FOR THE FIRST TIME IN 1891 IN OH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MAKER OF MICROCARS TOOK ITS NAME FROM ITS ORIGINS AS A PARTNERSHIP BETWEEN SWATCH AND MERCE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DISASTER LED ONE CRITIC TO WRITE, "MARIAH CAREY HAS THE VOICE OF A DOVE, BUT…THE ACTING RANGE OF A PARAK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66760" y="762120"/>
            <a:ext cx="8610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REE DID PARSON WEEMS ADD TO THE LEGEND OF GEORGE WASHINGTON IN HIS 1800 BESTSELLER "THE  LIFE OF WASHINGT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52280" y="762120"/>
            <a:ext cx="883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NK FLOYD SONG BEGINS WITH A LONG PASSAGE OF CLOCKS CHIMING THAT THEY BORROWED FROM AN ALAN PARSONS SOUND T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SLEAZY BAR OR TO DROP SUDDEN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2629080" y="483084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19280" y="990720"/>
            <a:ext cx="4495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   IS THIS IN AMERICAN SIGN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F.jpg"/>
          <p:cNvPicPr/>
          <p:nvPr/>
        </p:nvPicPr>
        <p:blipFill>
          <a:blip r:embed="rId1"/>
          <a:stretch/>
        </p:blipFill>
        <p:spPr>
          <a:xfrm>
            <a:off x="6248520" y="609480"/>
            <a:ext cx="2286000" cy="464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371600" y="4800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 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86080" y="762120"/>
            <a:ext cx="61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O" STAND FOR IN "HB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MAKER OF MICROCARS TOOK ITS NAME FROM ITS ORIGINS AS A PARTNERSHIP BETWEEN SWATCH AND MERCE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38360"/>
            <a:ext cx="624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UBSTANCE IN THE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CCIDENT HAPPENED FOR THE FIRST TIME IN 1891 IN OH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71600" y="42670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THE  WORD  "BOMB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DISASTER LED ONE CRITIC TO WRITE, "MARIAH CAREY HAS THE VOICE OF A DOVE, BUT…THE ACTING RANGE OF A PARAK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REE DID PARSON WEEMS ADD TO THE LEGEND OF GEORGE WASHINGTON IN HIS 1800 BESTSELLER "THE  LIFE OF WASHINGT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NK FLOYD SONG BEGINS WITH A LONG PASSAGE OF CLOCKS CHIMING THAT THEY BORROWED FROM AN ALAN PARSONS SOUND T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SLEAZY BAR OR TO DROP SUDDEN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160" y="909720"/>
            <a:ext cx="472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   IS THIS IN AMERICAN SIGN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3" descr="F.jpg"/>
          <p:cNvPicPr/>
          <p:nvPr/>
        </p:nvPicPr>
        <p:blipFill>
          <a:blip r:embed="rId1"/>
          <a:stretch/>
        </p:blipFill>
        <p:spPr>
          <a:xfrm>
            <a:off x="6248520" y="609480"/>
            <a:ext cx="2286000" cy="464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O" STAND FOR IN "HB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UBSTANCE IN THE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17:32:08Z</dcterms:created>
  <dc:creator>Jennifer Budzinski</dc:creator>
  <dc:description/>
  <dc:language>en-US</dc:language>
  <cp:lastModifiedBy>Erich Friedman</cp:lastModifiedBy>
  <dcterms:modified xsi:type="dcterms:W3CDTF">2020-08-27T19:53:24Z</dcterms:modified>
  <cp:revision>433</cp:revision>
  <dc:subject/>
  <dc:title>Slide 1</dc:title>
</cp:coreProperties>
</file>