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AC14-FAFA-46C2-91AF-D6154C258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6310-341C-488E-A213-BB2694611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8A37-89B6-4024-AEF1-28C3302B1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B999-EDBA-43A3-BE4E-790FA5232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F70F-516B-496E-A517-66E0E41B7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07FD-990E-4E59-AE19-583917FE5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BC44-8044-4299-8110-CD980714A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DE62-2B02-40AA-97CE-8D64DBA55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20AC-3E38-4BF1-9857-35785D751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8C30-D49D-48F3-A506-0C04CFA97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2621-8083-4057-BD87-2A2814A0F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F11F-A95C-4292-B2D3-0D1DB13B5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2729-1203-4DC4-A518-6B8C85F1A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990E-6EF5-4B7F-88A7-E23A918E4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E3BD-20FA-4DF1-8277-90B0CF746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CC3E-5728-42CC-8BDA-C25C97D9A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B9F2-8422-4D82-BC6F-0929E6062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2B62-6B76-4F0A-8130-3B0AB807D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9E07-3195-41A4-97D9-8318B0647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C9E6-70E7-40FC-B893-848715A7F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1198-C2EE-4A83-9B03-D8E7B1297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940A-47A2-4EBE-8D27-2AEB6E2B0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C0CD-05E6-47F7-B162-019C89098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CCIDENT HAPPENED FOR THE FIRST TIME IN 1891 IN OH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MAKER OF MICROCARS TOOK ITS NAME FROM ITS ORIGINS AS A PARTNERSHIP BETWEEN SWATCH AND MERCE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DISASTER LED ONE CRITIC TO WRITE, "MARIAH CAREY HAS THE VOICE OF A DOVE, BUT…THE ACTING RANGE OF A PARAK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66760" y="762120"/>
            <a:ext cx="8610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REE DID PARSON WEEMS ADD TO THE LEGEND OF GEORGE WASHINGTON IN HIS 1800 BESTSELLER "THE  LIFE OF WASHINGT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52280" y="762120"/>
            <a:ext cx="883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NK FLOYD SONG BEGINS WITH A LONG PASSAGE OF CLOCKS CHIMING THAT THEY BORROWED FROM AN ALAN PARSONS SOUND T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SLEAZY BAR OR TO DROP SUDDEN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2629080" y="483084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19280" y="990720"/>
            <a:ext cx="4495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   IS THIS IN AMERICAN SIGN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F.jpg"/>
          <p:cNvPicPr/>
          <p:nvPr/>
        </p:nvPicPr>
        <p:blipFill>
          <a:blip r:embed="rId1"/>
          <a:stretch/>
        </p:blipFill>
        <p:spPr>
          <a:xfrm>
            <a:off x="6248520" y="609480"/>
            <a:ext cx="2286000" cy="464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371600" y="4800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 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86080" y="762120"/>
            <a:ext cx="6172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O" STAND FOR IN "HB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MAKER OF MICROCARS TOOK ITS NAME FROM ITS ORIGINS AS A PARTNERSHIP BETWEEN SWATCH AND MERCE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38360"/>
            <a:ext cx="6248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UBSTANCE IN THE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CCIDENT HAPPENED FOR THE FIRST TIME IN 1891 IN OH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71600" y="42670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THE  WORD  "BOMB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DISASTER LED ONE CRITIC TO WRITE, "MARIAH CAREY HAS THE VOICE OF A DOVE, BUT…THE ACTING RANGE OF A PARAK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REE DID PARSON WEEMS ADD TO THE LEGEND OF GEORGE WASHINGTON IN HIS 1800 BESTSELLER "THE  LIFE OF WASHINGT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NK FLOYD SONG BEGINS WITH A LONG PASSAGE OF CLOCKS CHIMING THAT THEY BORROWED FROM AN ALAN PARSONS SOUND T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SLEAZY BAR OR TO DROP SUDDEN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160" y="909720"/>
            <a:ext cx="472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   IS THIS IN AMERICAN SIGN LANGU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3" descr="F.jpg"/>
          <p:cNvPicPr/>
          <p:nvPr/>
        </p:nvPicPr>
        <p:blipFill>
          <a:blip r:embed="rId1"/>
          <a:stretch/>
        </p:blipFill>
        <p:spPr>
          <a:xfrm>
            <a:off x="6248520" y="609480"/>
            <a:ext cx="2286000" cy="46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O" STAND FOR IN "HB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UBSTANCE IN THE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17:32:08Z</dcterms:created>
  <dc:creator>Jennifer Budzinski</dc:creator>
  <dc:description/>
  <dc:language>en-US</dc:language>
  <cp:lastModifiedBy>Erich Friedman</cp:lastModifiedBy>
  <dcterms:modified xsi:type="dcterms:W3CDTF">2020-08-27T19:53:24Z</dcterms:modified>
  <cp:revision>433</cp:revision>
  <dc:subject/>
  <dc:title>Slide 1</dc:title>
</cp:coreProperties>
</file>