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58FA-BC7D-4F8B-BA5A-E03B895EC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4E7-F561-4F67-9287-D507B603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99E2-919D-4827-BAEA-0D226FE7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354-3590-4A33-ABC4-67CC7FB7C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8C5-3F5B-46F4-9143-21124540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598-5022-4508-90D4-D9F520B0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7954-B36E-49A8-B1B6-79DA1230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395-DED1-4F4E-AF74-95983E27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B4BF-8628-4D0C-8161-EFDDCCFF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5139-1624-4D0E-8711-929B5A03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CC6-0AAF-4E4D-A72F-7A9A5179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84B-B7A8-4587-AE4E-8F2DCABF4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627-0D50-4919-AD1A-35C6718A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6B2-60A4-4B87-8327-E7AC2BAE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F84-D033-4E1C-ADD9-A3A05A42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20F0-488A-4A1B-A74D-7A58674F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141-8B1B-4551-B248-18202F51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4ED1-8A41-4D74-A576-6AA1DC16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ED0E-2412-43C3-B7FD-C04399549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D200-8754-47E2-A220-384DFF3E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4F5F-6FCA-480F-A988-EDA1C4277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71AE-74D3-4455-B2CB-2289CD2B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19A0-E9A5-4E3A-9F6D-E98724A9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IDENT HAPPENED FOR THE FIRST TIME IN 1891 IN OH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MAKER OF MICROCARS TOOK ITS NAME FROM ITS ORIGINS AS A PARTNERSHIP BETWEEN SWATCH AND MERCE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DISASTER LED ONE CRITIC TO WRITE, "MARIAH CAREY HAS THE VOICE OF A DOVE, BUT…THE ACTING RANGE OF A PARAK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REE DID PARSON WEEMS ADD TO THE LEGEND OF GEORGE WASHINGTON IN HIS 1800 BESTSELLER "THE  LIFE OF WASHING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SONG BEGINS WITH A LONG PASSAGE OF CLOCKS CHIMING THAT THEY BORROWED FROM AN ALAN PARSONS SOUND T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SLEAZY BAR OR TO DROP SUDDEN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629080" y="483084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19280" y="99072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   IS THIS IN AMERICAN SIGN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F.jpg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371600" y="4800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O" STAND FOR IN "HB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MAKER OF MICROCARS TOOK ITS NAME FROM ITS ORIGINS AS A PARTNERSHIP BETWEEN SWATCH AND MERCE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3836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IDENT HAPPENED FOR THE FIRST TIME IN 1891 IN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267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THE  WORD  "BOMB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DISASTER LED ONE CRITIC TO WRITE, "MARIAH CAREY HAS THE VOICE OF A DOVE, BUT…THE ACTING RANGE OF A PARAK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REE DID PARSON WEEMS ADD TO THE LEGEND OF GEORGE WASHINGTON IN HIS 1800 BESTSELLER "THE  LIFE OF WASHING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SONG BEGINS WITH A LONG PASSAGE OF CLOCKS CHIMING THAT THEY BORROWED FROM AN ALAN PARSONS SOUND T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SLEAZY BAR OR TO DROP SUDDEN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160" y="90972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   IS THIS IN AMERICAN SIGN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3" descr="F.jpg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O" STAND FOR IN "HB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7:32:08Z</dcterms:created>
  <dc:creator>Jennifer Budzinski</dc:creator>
  <dc:description/>
  <dc:language>en-US</dc:language>
  <cp:lastModifiedBy>Erich Friedman</cp:lastModifiedBy>
  <dcterms:modified xsi:type="dcterms:W3CDTF">2020-08-27T19:53:24Z</dcterms:modified>
  <cp:revision>433</cp:revision>
  <dc:subject/>
  <dc:title>Slide 1</dc:title>
</cp:coreProperties>
</file>