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75B-1590-430A-A7A4-A21DAADED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5AEB-A078-46EC-9CB9-54CFA226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197-4525-46D1-9317-6338D90D5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C6F-3755-4769-88DA-B671B85F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8943-4A58-40EE-93AA-F0F99775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FD25-EB95-48C5-9AE8-3A19EAC0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4B2-C53A-463E-A427-33AE8AD6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868-C2DD-4B53-A6A2-79EC6905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72AE-EB47-4BBA-B32C-D41F94C4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D3A0-C85A-43B9-8779-BF6A56913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55D-3199-43F1-98FE-5502707E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E4ED-AA34-49AB-ADFD-6BBBDBB7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AC0-BFA7-4FD2-90D8-89F1A416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CE5B-A8D7-4B3C-9580-276C38A1D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5601-3FCA-489D-9294-564D98B1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2577-F09A-457A-8482-D8E829F6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540F-6392-4B68-8A6C-A96504A13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B5D1-1F80-4777-B86E-F1196CFE0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C169-58E3-4EA4-8C2E-496D43E8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AD6-8FF3-4A78-B1AD-BD349B7E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9DA-B015-4205-AB12-69AA8500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A56E-CBFC-4A5C-9A52-762190CF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7455-2179-4853-A9AA-2E04FEC71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ROUP OF 8 BONES IN THE SKU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AN TRAGEDY IS ABOUT A MOORISH GENERAL AND HIS UNFAITHFUL ENSIGN I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KET  TO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500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TARTS "I THINK I'M GONNA BE SAD,   I THINK IT'S TODAY, YEA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Y LAMONTAGNE SONG APPEARED IN AN AD FOR TRAVELERS INSURANCE ABOUT A DOG CONCERNED OVER    THE SECURITY OF HIS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6212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TERM FOR AN ORDERED INFINITE LIST OF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55640"/>
            <a:ext cx="716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A FINANCIAL TERM FOR DANGER OR EXPOS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ALONG WITH "BE" AND "DO", IS THE SHORTEST IRREGULAR ENGLISH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AN TRAGEDY IS ABOUT A MOORISH GENERAL AND HIS UNFAITHFUL ENSIGN I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M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CRIME DRAMA FILM STARS ZACH GALIFIANAKIS, OWEN WILSON, KRISTEN WIIG, KATE MCKINNON, LESLIE JONES, AND JASON SUDEIK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3880" y="762120"/>
            <a:ext cx="6096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ROUP OF 8 BONES IN THE SK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OARD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TARTS "I THINK I'M GONNA BE SAD,    I THINK IT'S TODAY, YEA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Y LAMONTAGNE SONG APPEARED IN AN AD FOR TRAVELERS INSURANCE ABOUT A DOG CONCERNED OVER    THE SECURITY OF HIS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TERM FOR AN ORDERED INFINITE LIST OF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A FINANCIAL TERM FOR DANGER OR EXPOSU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ALONG WITH "BE" AND "DO", IS THE SHORTEST IRREGULAR ENGLISH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CRIME DRAMA FILM STARS ZACH GALIFIANAKIS, OWEN WILSON, KRISTEN WIIG, KATE MCKINNON, LESLIE JONES, AND JASON SUDEIK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08-27T20:14:52Z</dcterms:modified>
  <cp:revision>337</cp:revision>
  <dc:subject/>
  <dc:title>Slide 1</dc:title>
</cp:coreProperties>
</file>