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8B47-8955-483E-B55C-153A883E0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3B235-0276-4B9E-BE75-33051CEE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C12B-ABC6-44CE-90CA-C5CC04957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D611-AA4A-40FA-8D05-54E28AF7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ACC6-B5CB-4B82-8A81-44E97271D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4D2D-87B5-4A20-A4F4-B73DA49B4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34C5-4C9A-44EC-8E2A-E95A1F08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78D2-CF56-4BBC-86E0-67BC51B9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88EA-8838-4058-8599-A62E85E9C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7C5A-AB9F-4AE2-AB45-7C4A993A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BF21-9138-4245-9B7A-7A6337C69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EBDE-7B79-47DD-92CE-D66CDF43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0747-090F-4FAC-9197-5B90B779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4674-59B7-41EC-8E09-ABC8F995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4E5-489A-4DCF-920C-2A876B3FD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A6F1-5557-4EFC-8276-4E7CA621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9038-D70E-46FE-8613-DC9D1D314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0855-2BAC-4ACE-BEAA-3CE12D2E2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8A37-72C1-4172-BCB2-F138B6ACB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5130-1914-433D-BC99-EF7219A3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F2D9-D164-4DCE-8B58-83EAC45E6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25CB-3FAB-473D-A926-9B295ED4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605D-B6F1-497D-A868-AD45CB322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ROUP OF 8 BONES IN THE SKU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AN TRAGEDY IS ABOUT A MOORISH GENERAL AND HIS UNFAITHFUL ENSIGN I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CKET  TO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5000"/>
            <a:ext cx="7925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TARTS "I THINK I'M GONNA BE SAD,   I THINK IT'S TODAY, YEA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Y LAMONTAGNE SONG APPEARED IN AN AD FOR TRAVELERS INSURANCE ABOUT A DOG CONCERNED OVER    THE SECURITY OF HIS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4880" y="762120"/>
            <a:ext cx="773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TERM FOR AN ORDERED INFINITE LIST OF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55640"/>
            <a:ext cx="7162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A FINANCIAL TERM FOR DANGER OR EXPOSU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ALONG WITH "BE" AND "DO", IS THE SHORTEST IRREGULAR ENGLISH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AN TRAGEDY IS ABOUT A MOORISH GENERAL AND HIS UNFAITHFUL ENSIGN I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M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CRIME DRAMA FILM STARS ZACH GALIFIANAKIS, OWEN WILSON, KRISTEN WIIG, KATE MCKINNON, LESLIE JONES, AND JASON SUDEIK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23880" y="762120"/>
            <a:ext cx="6096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ROUP OF 8 BONES IN THE SK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OARD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TARTS "I THINK I'M GONNA BE SAD,    I THINK IT'S TODAY, YEA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Y LAMONTAGNE SONG APPEARED IN AN AD FOR TRAVELERS INSURANCE ABOUT A DOG CONCERNED OVER    THE SECURITY OF HIS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TERM FOR AN ORDERED INFINITE LIST OF NU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2396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A FINANCIAL TERM FOR DANGER OR EXPOSU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ALONG WITH "BE" AND "DO", IS THE SHORTEST IRREGULAR ENGLISH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CRIME DRAMA FILM STARS ZACH GALIFIANAKIS, OWEN WILSON, KRISTEN WIIG, KATE MCKINNON, LESLIE JONES, AND JASON SUDEIK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0-08-27T20:14:52Z</dcterms:modified>
  <cp:revision>337</cp:revision>
  <dc:subject/>
  <dc:title>Slide 1</dc:title>
</cp:coreProperties>
</file>