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6DFF-3F8C-43A8-AB9C-9D2590289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1B92-F7A9-4034-AFB5-6B6792E3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6858-B1F1-4D9D-9467-0C26FB4C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F448-92AC-41BD-872F-00369B33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A63B-A3C4-47C0-AF14-D1F01C86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BC96-4B0E-41D7-B586-552F532E2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21B8-9FA5-4CEA-B99E-039D91BA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B3D6-27B8-4AE1-8BC7-FD9487C77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62BF-F1FF-4CBE-BD0C-CB4A3FAE5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550E-75AC-4C39-8D7B-8A56ED31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B60-84D5-4CE1-B6B0-FE6737787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65DA-9E23-4284-BCDD-09E7642CE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CCFB-7FA7-4D75-8FD1-6891D2BA8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DB4F-55AA-4378-9747-15170DED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7884-0AD7-48D8-B174-2BDCFF60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A0C4-B02D-466B-86C3-53C8C06EF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341C-C26C-430B-A95A-1B4B4524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CF26-B303-4CED-9DE4-E9E26184A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2BA3-F872-4959-A405-4EF7ADA6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0210-62FE-45AF-BBC6-1FD01C76C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7EEF-826E-4891-9CD3-65186F960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6DE4-834B-4B4E-9A32-F3C3BD5A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9C4D-53CD-4FF3-831B-80B81305D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ROUP OF 8 BONES IN THE SKU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AN TRAGEDY IS ABOUT A MOORISH GENERAL AND HIS UNFAITHFUL ENSIGN I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CKET  TO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5000"/>
            <a:ext cx="7925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TARTS "I THINK I'M GONNA BE SAD,   I THINK IT'S TODAY, YEA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Y LAMONTAGNE SONG APPEARED IN AN AD FOR TRAVELERS INSURANCE ABOUT A DOG CONCERNED OVER    THE SECURITY OF HIS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4880" y="762120"/>
            <a:ext cx="773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TERM FOR AN ORDERED INFINITE LIST OF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55640"/>
            <a:ext cx="716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A FINANCIAL TERM FOR DANGER OR EXPOSU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ALONG WITH "BE" AND "DO", IS THE SHORTEST IRREGULAR ENGLISH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AN TRAGEDY IS ABOUT A MOORISH GENERAL AND HIS UNFAITHFUL ENSIGN I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M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CRIME DRAMA FILM STARS ZACH GALIFIANAKIS, OWEN WILSON, KRISTEN WIIG, KATE MCKINNON, LESLIE JONES, AND JASON SUDEIK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23880" y="762120"/>
            <a:ext cx="6096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ROUP OF 8 BONES IN THE SK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OARD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TARTS "I THINK I'M GONNA BE SAD,    I THINK IT'S TODAY, YEA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Y LAMONTAGNE SONG APPEARED IN AN AD FOR TRAVELERS INSURANCE ABOUT A DOG CONCERNED OVER    THE SECURITY OF HIS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TERM FOR AN ORDERED INFINITE LIST OF NU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2396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A FINANCIAL TERM FOR DANGER OR EXPOSU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ALONG WITH "BE" AND "DO", IS THE SHORTEST IRREGULAR ENGLISH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CRIME DRAMA FILM STARS ZACH GALIFIANAKIS, OWEN WILSON, KRISTEN WIIG, KATE MCKINNON, LESLIE JONES, AND JASON SUDEIK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0-08-27T20:14:52Z</dcterms:modified>
  <cp:revision>337</cp:revision>
  <dc:subject/>
  <dc:title>Slide 1</dc:title>
</cp:coreProperties>
</file>