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8C2C-6AEF-49B4-A91D-D18E41393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8003-1450-41AF-8632-280223A2F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9BE7-FE49-40B6-8A2C-77CFCDE3F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A28C-F785-4C3B-B9EA-A04D7280C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D83E-3A36-49B2-83D4-F14BE255B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7181-1817-4143-BFF2-34F220490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6EA7-3F56-4443-ACDA-EA4714316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2665-F3CD-4852-8B88-75BE95F94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AF08-1752-41A8-8F92-677453FB1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16C3-42A8-4B09-B5A8-D084D62BA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0C81-47FA-499C-AE5A-41A07D078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A870-E296-4D43-B577-10EE72C78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D9F4-7922-4F51-8108-5547B0399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FD09-5D4D-4C89-955A-4CE38D7A8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B408-C5BD-468B-885B-A40A09F0D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B211-A39B-4744-91B0-B56FAF881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2296-BF17-4A94-841E-C8C73E7BF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82BF-883A-42DD-8F92-FDD3969DE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0AA4-96F0-410C-B59F-3CBA7F244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0F8A-CE3C-44F7-BFF1-A25E1002A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7B32-27A8-4D1F-82E3-A3BBCA1BE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5733-98C0-4062-AFA3-FF909AB52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3C77-B40F-4BD4-B9B0-5CA97D652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IRECTION IS ATLANTA FROM MIAM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B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SLEEPLESS IN SEATTLE", IN WHAT DID TOM HANK'S CHARACTER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O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ABOUT THE LIFE AND MURDER OF THE RAPPER KNOWN AS "BIGG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NAME  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INO" STAND FOR IN THE ACRONYM "RI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AME  BUTTER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19320" y="75564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PUCCINI OPERA IS SET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CE  UPON  A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-2018 FANTASY TV SERIES GOT ITS NAME FROM THE OPENING WORDS OF MANY FAIRY T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NGA  D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DYARD KIPLING POEM SET IN BRITISH INDIA ENDS WITH "YOU'RE A BETTER MAN THAN I 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  IN  WON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 ANIMATED DISNEY FILM IS BASED ON TWO BOOKS BY LEWIS CARRO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SLEEPLESS IN SEATTLE", IN WHAT DID TOM HANK'S CHARACTER L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KEY 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IRONIC NAME OF THE YACHT ON WHICH GARY HART WAS PHOTOGRAPHED WITH DONNA R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BY  NORTH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IRECTION IS ATLANTA FROM MIAM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ARY  GRANT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ABOUT THE LIFE AND MURDER OF THE RAPPER KNOWN AS "BIGG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INO" STAND FOR IN THE ACRONYM "RI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PUCCINI OPERA IS SET IN JA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-2018 FANTASY TV SERIES GOT ITS NAME FROM THE OPENING WORDS OF MANY FAIRY T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DYARD KIPLING POEM SET IN BRITISH INDIA ENDS WITH "YOU'RE A BETTER MAN THAN I 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 ANIMATED DISNEY FILM IS BASED ON TWO BOOKS BY LEWIS CARRO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IRONIC NAME OF THE YACHT ON WHICH GARY HART WAS PHOTOGRAPHED WITH DONNA R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00:36:00Z</dcterms:created>
  <dc:creator>Jennifer Budzinski</dc:creator>
  <dc:description/>
  <dc:language>en-US</dc:language>
  <cp:lastModifiedBy>Erich Friedman</cp:lastModifiedBy>
  <dcterms:modified xsi:type="dcterms:W3CDTF">2020-08-27T20:16:46Z</dcterms:modified>
  <cp:revision>414</cp:revision>
  <dc:subject/>
  <dc:title>Slide 1</dc:title>
</cp:coreProperties>
</file>