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895-1F3C-4A06-B0A5-65316A795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9D03-1FA0-4129-9B93-35BBCD06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F04A-C8C8-4E3A-9FEA-97B647FD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022-965B-4F2A-97DC-A9A67D7A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1858-2AA0-443D-9152-02B7B69E2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D8E5-D640-402E-8FA7-7ED1385C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46ED-DF7B-4B40-B435-52FE5B46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DCDA-A9C5-4507-B75E-9B29F165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DC2B-B325-41D1-91AA-CFC1E26D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FA67-6BD9-40B2-80CD-31BB9B300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8828-4426-4A76-9D1E-C4432474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223A-C17A-4424-B5F7-9EC54C8A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FBEB-A166-410A-A6E9-AD3BFBEE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9415-6C32-45A6-9D48-59139E79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FF16-794E-4F39-B99C-6A222F79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96B6-7CFF-4A6A-A7F8-12EE0CB14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2D88-171D-4FCC-B28D-1B94C0BDE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6576-0517-42B2-A5F0-B80657DA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1EFD-C320-4689-A892-7E2EE5E6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CA21-49F1-4148-B918-C126E348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CE70-725C-4F2D-8CC5-4CC29D0AE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824B-40E3-4C3F-B136-CB2CA0BD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3471-A443-43B9-908C-B92E9163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LEEPLESS IN SEATTLE", IN WHAT DID TOM HANK'S CHARACTER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ABOUT THE LIFE AND MURDER OF THE RAPPER KNOWN AS "BIG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NAME 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INO" STAND FOR IN THE ACRONYM "R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AME 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5564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UCCINI OPERA IS SET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CE  UPON  A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8 FANTASY TV SERIES GOT ITS NAME FROM THE OPENING WORDS OF MANY FAIRY T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GA  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DYARD KIPLING POEM SET IN BRITISH INDIA ENDS WITH "YOU'RE A BETTER MAN THAN I 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IS BASED ON TWO BOOKS BY LEWIS CAR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LEEPLESS IN SEATTLE", IN WHAT DID TOM HANK'S CHARACTER 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RONIC NAME OF THE YACHT ON WHICH GARY HART WAS PHOTOGRAPHED WITH DONNA 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ARY  GRANT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ABOUT THE LIFE AND MURDER OF THE RAPPER KNOWN AS "BIG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INO" STAND FOR IN THE ACRONYM "R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UCCINI OPERA IS SET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8 FANTASY TV SERIES GOT ITS NAME FROM THE OPENING WORDS OF MANY FAIRY T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DYARD KIPLING POEM SET IN BRITISH INDIA ENDS WITH "YOU'RE A BETTER MAN THAN I 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IS BASED ON TWO BOOKS BY LEWIS CAR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RONIC NAME OF THE YACHT ON WHICH GARY HART WAS PHOTOGRAPHED WITH DONNA 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00:36:00Z</dcterms:created>
  <dc:creator>Jennifer Budzinski</dc:creator>
  <dc:description/>
  <dc:language>en-US</dc:language>
  <cp:lastModifiedBy>Erich Friedman</cp:lastModifiedBy>
  <dcterms:modified xsi:type="dcterms:W3CDTF">2020-08-27T20:16:46Z</dcterms:modified>
  <cp:revision>414</cp:revision>
  <dc:subject/>
  <dc:title>Slide 1</dc:title>
</cp:coreProperties>
</file>