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7755-489A-400B-9F6B-2A0A430EC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57F6-D1B4-4676-BB60-C4AA73C4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C1CA-2B6A-467A-8520-7A567D519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AA6B-2AA7-40A4-BBE1-C00F5AB0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9602-22CD-480D-A295-5A3721FE5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8A86-EC77-446A-87D3-2D544B92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A33A-3629-4E12-A9E6-77AAE3643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64F4-2EE3-4073-A386-D9C013458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FE05-57C9-4D7F-81DF-798FC06E3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E7FB-03AB-429D-9AC5-0322C0427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1820-07DE-408D-AC69-C9E2F341B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7878-8EBD-4E17-A8AC-BCA8D751D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9C25-6B81-4FFE-B25A-929D66831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20D6-6592-4A51-8DDD-54C4B2A6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47870-0EB0-4966-A1AB-0CC3BDDE2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6196-B0DD-486D-9021-832C7DBA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8051-958F-46F6-808E-FBE4AB01D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E923-145D-4899-AA54-06949CD2B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8FC0-CCEA-42AF-A395-3EFABEA37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212A-9B3C-4417-AEAF-87224FF1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D1D4-4B7B-40F9-BAB4-F1B237C4E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AB74-88C3-4AF6-979E-9D787EED7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DC5C-F51E-479A-8283-5EF09E96B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LEEPLESS IN SEATTLE", IN WHAT DID TOM HANK'S CHARACTER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O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ABOUT THE LIFE AND MURDER OF THE RAPPER KNOWN AS "BIGG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NAME 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INO" STAND FOR IN THE ACRONYM "RI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AME  BUTTER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5564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UCCINI OPERA IS SET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CE  UPON  A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8 FANTASY TV SERIES GOT ITS NAME FROM THE OPENING WORDS OF MANY FAIRY T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GA  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DYARD KIPLING POEM SET IN BRITISH INDIA ENDS WITH "YOU'RE A BETTER MAN THAN I 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IS BASED ON TWO BOOKS BY LEWIS CARR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LEEPLESS IN SEATTLE", IN WHAT DID TOM HANK'S CHARACTER L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 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RONIC NAME OF THE YACHT ON WHICH GARY HART WAS PHOTOGRAPHED WITH DONNA 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BY 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ARY  GRANT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ABOUT THE LIFE AND MURDER OF THE RAPPER KNOWN AS "BIGG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INO" STAND FOR IN THE ACRONYM "RI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UCCINI OPERA IS SET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8 FANTASY TV SERIES GOT ITS NAME FROM THE OPENING WORDS OF MANY FAIRY T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DYARD KIPLING POEM SET IN BRITISH INDIA ENDS WITH "YOU'RE A BETTER MAN THAN I 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IS BASED ON TWO BOOKS BY LEWIS CARR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RONIC NAME OF THE YACHT ON WHICH GARY HART WAS PHOTOGRAPHED WITH DONNA 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00:36:00Z</dcterms:created>
  <dc:creator>Jennifer Budzinski</dc:creator>
  <dc:description/>
  <dc:language>en-US</dc:language>
  <cp:lastModifiedBy>Erich Friedman</cp:lastModifiedBy>
  <dcterms:modified xsi:type="dcterms:W3CDTF">2020-08-27T20:16:46Z</dcterms:modified>
  <cp:revision>414</cp:revision>
  <dc:subject/>
  <dc:title>Slide 1</dc:title>
</cp:coreProperties>
</file>