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9B7C-09C2-4F43-82CE-30079244E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BC5-9E2E-44F1-87B0-F923BFB28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648-DE3A-4B2D-8873-4BCFC38A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27F0-D114-4F4D-8772-1780EEFC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AC65-5853-41E4-9020-BA1073CA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764-2844-45BF-9417-7A5E6310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4FC1-958F-458D-94F8-C82F3545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6D67-EE90-4605-8D18-9621F356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FAD-AB27-4F72-93B8-3F71FBDD0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856-E311-4AEE-A644-22617FA5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F7C-F3D2-4285-AF5A-0BDFDCB8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29C-542B-4406-9742-8D42B196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CAA5-C9DB-4B6B-AAA5-31494C7B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50B-6EC8-4C4E-AA8F-7E8045C7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9FD0-298B-4667-9351-1779A15B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F8E-C1DC-4841-AC0B-66EBBE89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C55-FD90-4FA3-90A6-B639B193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61FA-EDEF-4107-B4FF-643CFFB6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07C-56EE-40CD-BBBE-760DEBDE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302-0F06-4AF9-BF38-BF7B8860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5A86-8FF9-4E7B-A39C-0A957A86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7AB8-67EA-4A8D-8A1E-9B156290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4F3-025B-4EDA-AF74-2B8B9809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,  PLACE,  AND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9:09:59Z</dcterms:created>
  <dc:creator>Jennifer Budzinski</dc:creator>
  <dc:description/>
  <dc:language>en-US</dc:language>
  <cp:lastModifiedBy>Erich Friedman</cp:lastModifiedBy>
  <dcterms:modified xsi:type="dcterms:W3CDTF">2020-10-01T12:09:30Z</dcterms:modified>
  <cp:revision>430</cp:revision>
  <dc:subject/>
  <dc:title>Slide 1</dc:title>
</cp:coreProperties>
</file>