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5EE2-AE8D-428A-A0CD-F9750EA74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5F27-B40F-4DC1-B684-6C1B401B9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62ED-B1B8-4F09-AF84-29A0D7FF6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EDC2-8E89-499F-B3B7-05D092045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EC60-2A33-44E3-A286-7CA8710E5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AB70-85CF-4F7E-8BDA-872E7DAF2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A5FA-7112-49EC-BC96-DDCC6FBCE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D15F-236D-4AB4-894E-7D0D2CEE4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C774-5BD0-4AD4-86A1-78ED5EA2F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D2A9-27CC-4B4B-967B-61370F69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E6DD-3273-4D23-BBE6-778E9668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50EC-0E2F-45B8-B73E-6062422B2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6E19-F975-4B5F-98C8-EE027680B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E16E-D374-45CD-9253-9E7AD1934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994D-56DB-493E-8869-4183315D4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8924-3A62-4A42-8AB6-83A8A6598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00DD-55AA-41EC-B477-BC433BADE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D471-DF26-4AE4-B717-4BACBE099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3BC2-4742-4085-A073-78F13F209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B5D5-5325-4556-972F-4EDF4F554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DC00-27EA-4195-856D-F0D948C28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E5D3-374F-4E78-9D74-70ABFB7FE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CD99-BF9A-45C6-9A36-7EF031A46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PLURAL NOUN IN ENGLISH THAT BECOMES SINGULAR OF THE LETTER "C" IS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EBRUARY 2005, BHUTAN BECAME THE FIRST COUNTRY TO BAN WHAT ACTIVITY NATIONW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 ABOUT SCANDAL AT A CATHOLIC PARISH WON A TONY AND PULITZER FOR JOHN PATRICK SHAN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KE  COOK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2, HILLARY CLINTON CONTROVERSIALLY TOLD A REPORTER SHE REFUSED TO STAY HOME AND PERFORM WHAT MOTHERLY TA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SUBTITLED "A LA LA LA LA LONG", WAS THE ONLY #1 HIT OF THE REGGAE GROUP INNER CIR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,  PLACE,  AND 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HORSERACING BETS FORM THE NAME OF A RECENT HORSERACING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TEVIE)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AL ARTIST WHO SANG "SIGNED, SEALED, DELIVERED I'M Y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RIANA GRANDE'S BIGGEST HIT SONG, SELLING 9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EBRUARY 2005, BHUTAN BECAME THE FIRST COUNTRY TO BAN WHAT ACTIVITY NATIONW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TIME SHOW STARS JIM CARREY AS A MR. ROGERS CHARACTER WITH A DYSFUNCTIONAL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PLURAL NOUN IN ENGLISH THAT BECOMES SINGULAR OF THE LETTER "C"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NO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 ABOUT SCANDAL AT A CATHOLIC PARISH WON A TONY AND PULITZER FOR JOHN PATRICK SHANL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2, HILLARY CLINTON CONTROVERSIALLY TOLD A REPORTER SHE REFUSED TO STAY HOME AND PERFORM WHAT MOTHERLY TA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SUBTITLED "A LA LA LA LA LONG", WAS THE ONLY #1 HIT OF THE REGGAE GROUP INNER CIR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HORSERACING BETS FORM THE NAME OF A RECENT HORSERACING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AL ARTIST WHO SANG "SIGNED, SEALED, DELIVERED I'M Y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RIANA GRANDE'S BIGGEST HIT SONG, SELLING 9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TIME SHOW STARS JIM CARREY AS A MR. ROGERS CHARACTER WITH A DYSFUNCTIONAL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8T19:09:59Z</dcterms:created>
  <dc:creator>Jennifer Budzinski</dc:creator>
  <dc:description/>
  <dc:language>en-US</dc:language>
  <cp:lastModifiedBy>Erich Friedman</cp:lastModifiedBy>
  <dcterms:modified xsi:type="dcterms:W3CDTF">2020-10-01T12:09:30Z</dcterms:modified>
  <cp:revision>430</cp:revision>
  <dc:subject/>
  <dc:title>Slide 1</dc:title>
</cp:coreProperties>
</file>