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EA3D-AB1F-4D7F-91A1-6A666807C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7440-119B-466A-9E2C-DDFF9D636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A276-E1E5-48DE-AC4C-8E0DCE0D3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DAA9-0CB9-4391-86B3-0A64338C2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0390-F134-47F5-ABBA-40521EDB2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3353-56A8-46EB-B33A-F60E2E8C0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D7B7-1B23-4978-A10E-F6BF37A1E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6281-585B-4885-87B8-1A952FF74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F0F2-1457-4635-8156-988056479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C6FD-FEA2-4C63-AF05-61542FE79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9B46-BED3-4A72-8DD3-F64905F64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CDA8-2716-4A23-AA05-E336EE76E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2A51-7CFE-4BE3-B5FE-7ADAA7CC4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C106-D4B8-4FA7-B6AA-833E769E8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A129-7E41-4E63-85B0-99276FBC6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7FA9-B097-43DD-A21F-0DFD85956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2DC16-5C65-481C-ADAC-D569CB6B0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181F-7B01-4D25-A505-D53B33404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64F1-6865-4C69-BEBA-47EC2AD32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2C6B-A6DB-4E6D-9EAC-F067F5AE3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2143-6301-48CA-8DA3-AB1723274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2145-6D98-4977-BA05-8BB316D46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C34F-4B19-401E-BAB3-0AA7D05B8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PLURAL NOUN IN ENGLISH THAT BECOMES SINGULAR OF THE LETTER "C" IS REMOV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MO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EBRUARY 2005, BHUTAN BECAME THE FIRST COUNTRY TO BAN WHAT ACTIVITY NATIONWI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UB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Y ABOUT SCANDAL AT A CATHOLIC PARISH WON A TONY AND PULITZER FOR JOHN PATRICK SHANL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KE  COOK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33520" y="762120"/>
            <a:ext cx="80769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2, HILLARY CLINTON CONTROVERSIALLY TOLD A REPORTER SHE REFUSED TO STAY HOME AND PERFORM WHAT MOTHERLY TAS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, SUBTITLED "A LA LA LA LA LONG", WAS THE ONLY #1 HIT OF THE REGGAE GROUP INNER CIRC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,  PLACE,  AND  S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HORSERACING BETS FORM THE NAME OF A RECENT HORSERACING GAME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95280" y="4876920"/>
            <a:ext cx="6553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STEVIE)  WO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MUSICAL ARTIST WHO SANG "SIGNED, SEALED, DELIVERED I'M YOU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ARIANA GRANDE'S BIGGEST HIT SONG, SELLING 9 MILLION COP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EBRUARY 2005, BHUTAN BECAME THE FIRST COUNTRY TO BAN WHAT ACTIVITY NATIONW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0484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OWTIME SHOW STARS JIM CARREY AS A MR. ROGERS CHARACTER WITH A DYSFUNCTIONAL FAMI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PLURAL NOUN IN ENGLISH THAT BECOMES SINGULAR OF THE LETTER "C" IS REMOV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19320" y="4876920"/>
            <a:ext cx="670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NO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Y ABOUT SCANDAL AT A CATHOLIC PARISH WON A TONY AND PULITZER FOR JOHN PATRICK SHANL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2, HILLARY CLINTON CONTROVERSIALLY TOLD A REPORTER SHE REFUSED TO STAY HOME AND PERFORM WHAT MOTHERLY TAS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, SUBTITLED "A LA LA LA LA LONG", WAS THE ONLY #1 HIT OF THE REGGAE GROUP INNER CIRC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HORSERACING BETS FORM THE NAME OF A RECENT HORSERACING GAME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MUSICAL ARTIST WHO SANG "SIGNED, SEALED, DELIVERED I'M YOU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ARIANA GRANDE'S BIGGEST HIT SONG, SELLING 9 MILLION COP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OWTIME SHOW STARS JIM CARREY AS A MR. ROGERS CHARACTER WITH A DYSFUNCTIONAL FAMI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8T19:09:59Z</dcterms:created>
  <dc:creator>Jennifer Budzinski</dc:creator>
  <dc:description/>
  <dc:language>en-US</dc:language>
  <cp:lastModifiedBy>Erich Friedman</cp:lastModifiedBy>
  <dcterms:modified xsi:type="dcterms:W3CDTF">2020-10-01T12:09:30Z</dcterms:modified>
  <cp:revision>430</cp:revision>
  <dc:subject/>
  <dc:title>Slide 1</dc:title>
</cp:coreProperties>
</file>