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93E2-0840-4B7D-951B-94CCA840C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C8D7-9F4E-4611-A348-9741ADDFA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AC04-2E37-496E-B2E1-5908BC701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8AA7-94A2-4C70-9044-B693E4529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98A0-790B-4096-BA4A-AFA4B5F5B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32BF-C6CA-4140-B723-38C4EE979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5CAB-F0B3-4390-936F-1B50CC489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13DA-6B79-40B0-B6C4-3B1768403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D5CD-4EB8-4141-A515-3306A955B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DF1E-F277-4339-8B80-A83FA7D0A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35D0-BF7E-4CA5-9DD7-9080C1D6C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7020-D231-4DCE-BCC1-89EC739ED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7595-39B5-490B-BB7D-1C8DB177F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3F2A-FF4B-4CFE-B945-46DE14C8F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A4F4-7A12-448C-9562-848197E66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45E0-04F9-4B3B-A95C-615040559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171E-DB34-4A1D-82DA-7DCE106DF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2E0B-7C7C-4FDF-9FAB-84BA3213C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7453-7114-4195-9031-8CB50ADA4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0591-3FAE-4C63-926C-3B95AFC55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CC23-5599-49DE-A102-F23FF9D4E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E337-9971-4590-865F-D8E9DFE04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B389-196C-459C-9F5E-35E1AB9DE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OAR", "RISE", AND "I KISSED A GIR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0060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DUE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95280" y="762120"/>
            <a:ext cx="6553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HOOL'S SPORTS TEAMS ARE THE BOILERMAK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SY  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257480" y="77004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PORTEDLY MADE THE FIRST U.S.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CA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THE TONIGHT SHOW" FOR THE LON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SEN  RA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S ARE THE PRIMARY MEASUREMENT OF HOW OFTEN TV PROGRAMS ARE WATCH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006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LLEY  BLUE 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OMOTIVE WEBSITE CAN BE FOUND AT "KBB.COM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HA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2120" y="762120"/>
            <a:ext cx="76197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AUTOBIOGRAPHY OF MALCOLM X" AND "ROOT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124080" y="480060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828800" y="762120"/>
            <a:ext cx="5486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0 OF WHAT MAKE A BRITISH P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14360" y="762120"/>
            <a:ext cx="6515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HOOL'S SPORTS TEAMS ARE THE BOILERMAK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ONIN  SC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REME COURT JUSTICE DIED ON FEBRUARY 13,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Y  P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OAR", "RISE", AND "I KISSED A GIR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52600" y="3733920"/>
            <a:ext cx="8057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PEOPLE  WHO  HAVE SERVED  IN  PRESIDENT  TRUMP'S  CABI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PORTEDLY MADE THE FIRST U.S.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THE TONIGHT SHOW" FOR THE LON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S ARE THE PRIMARY MEASUREMENT OF HOW OFTEN TV PROGRAMS ARE WATCH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OMOTIVE WEBSITE CAN BE FOUND AT "KBB.CO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AUTOBIOGRAPHY OF MALCOLM X" AND "ROOT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905120" y="761760"/>
            <a:ext cx="53337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0 OF WHAT MAKE A BRITISH P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REME COURT JUSTICE DIED ON FEBRUARY 13,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0T16:35:46Z</dcterms:created>
  <dc:creator>Jennifer Budzinski</dc:creator>
  <dc:description/>
  <dc:language>en-US</dc:language>
  <cp:lastModifiedBy>Erich Friedman</cp:lastModifiedBy>
  <dcterms:modified xsi:type="dcterms:W3CDTF">2020-08-27T20:23:55Z</dcterms:modified>
  <cp:revision>338</cp:revision>
  <dc:subject/>
  <dc:title>Slide 1</dc:title>
</cp:coreProperties>
</file>