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1F1A-24EE-40D9-A968-467E0083D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B74A-86B8-48BA-818D-C7CED851A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9A11-02E4-43DC-B165-2E50B572A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3243-052F-4CC9-A114-5E6AA602A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A6B5-2E1C-4891-9B86-866B835C6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85D5-BE1F-4622-AEAF-EDC7F4833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A9BE-CF93-498C-B290-C26FB767A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6C5A-828E-43A6-91B0-3B50D3E67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5E0F-F462-40AE-92F0-5776681FD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2699-C67E-4471-AE3C-ACB0E6BC2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3EBF-54F6-491C-BCB9-8C23CA6BB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D6DE-22AC-4AB5-9F73-ACC584D43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C5D6-7BBE-4052-8DA4-C89266115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55DA-7F6C-4EAA-948D-B774F854F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21DF-C17C-4578-A9A8-E7DE50A04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FEAE-2F13-4F7B-A7E6-1AD5F3053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1495-CAB8-47E7-98ED-3210BC39E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0AFF-C65A-4840-B0C7-93283CEBD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EB1C-7BB8-4E32-83AE-2830DC812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3086-1E9C-4634-825C-D26570C33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8AD0-233D-4A73-A7F3-26618C677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0A22-801B-4C70-B8AB-8E9E46677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F764-ED20-4609-AF01-80953D473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OAR", "RISE", AND "I KISSED A GIR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0060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DUE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295280" y="762120"/>
            <a:ext cx="6553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HOOL'S SPORTS TEAMS ARE THE BOILERMAK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SY  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257480" y="77004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PORTEDLY MADE THE FIRST U.S.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CA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THE TONIGHT SHOW" FOR THE LON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SEN  RA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S ARE THE PRIMARY MEASUREMENT OF HOW OFTEN TV PROGRAMS ARE WATCH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0060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LLEY  BLUE 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OMOTIVE WEBSITE CAN BE FOUND AT "KBB.COM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HA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62120" y="762120"/>
            <a:ext cx="76197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AUTOBIOGRAPHY OF MALCOLM X" AND "ROOT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124080" y="480060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828800" y="762120"/>
            <a:ext cx="5486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0 OF WHAT MAKE A BRITISH P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14360" y="762120"/>
            <a:ext cx="6515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HOOL'S SPORTS TEAMS ARE THE BOILERMAK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ONIN  SC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REME COURT JUSTICE DIED ON FEBRUARY 13,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Y  P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OAR", "RISE", AND "I KISSED A GIR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52600" y="3733920"/>
            <a:ext cx="8057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PEOPLE  WHO  HAVE SERVED  IN  PRESIDENT  TRUMP'S  CABI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PORTEDLY MADE THE FIRST U.S.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THE TONIGHT SHOW" FOR THE LON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S ARE THE PRIMARY MEASUREMENT OF HOW OFTEN TV PROGRAMS ARE WATCH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OMOTIVE WEBSITE CAN BE FOUND AT "KBB.CO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AUTOBIOGRAPHY OF MALCOLM X" AND "ROOT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905120" y="761760"/>
            <a:ext cx="53337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0 OF WHAT MAKE A BRITISH P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REME COURT JUSTICE DIED ON FEBRUARY 13,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0T16:35:46Z</dcterms:created>
  <dc:creator>Jennifer Budzinski</dc:creator>
  <dc:description/>
  <dc:language>en-US</dc:language>
  <cp:lastModifiedBy>Erich Friedman</cp:lastModifiedBy>
  <dcterms:modified xsi:type="dcterms:W3CDTF">2020-08-27T20:23:55Z</dcterms:modified>
  <cp:revision>338</cp:revision>
  <dc:subject/>
  <dc:title>Slide 1</dc:title>
</cp:coreProperties>
</file>