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A057-5EF4-4022-9A00-9F702EDDC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E06F-A8EC-4419-B6A3-D169E303F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79CD-B808-43CA-BD36-745FA7387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19F7-F5B2-4C18-952B-A58FC84C4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27E9-52ED-4A24-8F2E-9A384EE7C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EAAB-B13A-4B18-AC40-07BD5E365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A7CB-DA91-41B5-A50E-2A20BFBE4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AF57-706A-41DF-95EA-FACAC2A71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B367-5195-4F13-A929-0DBD07061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EEEC-83C5-49C9-B0F7-3D06CDA24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EFFF-17A3-47DA-B9BE-C7F6F6B98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E7E5-8EED-4C00-BED2-2ABC54FE2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FB9D-40CD-4E4F-A8DD-DD66F9416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76C6-000F-4921-9D70-CA1D2DD94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8685-0BB6-4EF8-AF92-3506B868E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15D6-A89F-430A-9E6D-B26D8C4DA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3EF2-2C09-4062-AE43-4D262C429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95D3-A644-466B-B13E-D2C1E3F2C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60F8-7C46-4065-BB3A-131BCFDDB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81AF-C113-49EA-A646-DECBED83B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F684-B08D-4796-8651-8C28A9379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365A-222D-4B88-9FB6-CB71C1A7B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172B-5918-4E0B-9BB9-64DE2B609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OAR", "RISE", AND "I KISSED A GIR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0060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DUE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95280" y="762120"/>
            <a:ext cx="6553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HOOL'S SPORTS TEAMS ARE THE BOILERMAK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SY  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257480" y="770040"/>
            <a:ext cx="6629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PORTEDLY MADE THE FIRST U.S.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CA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THE TONIGHT SHOW" FOR THE LON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SEN  RA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S ARE THE PRIMARY MEASUREMENT OF HOW OFTEN TV PROGRAMS ARE WATCH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0060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LLEY  BLUE  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OMOTIVE WEBSITE CAN BE FOUND AT "KBB.COM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HA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2120" y="762120"/>
            <a:ext cx="76197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AUTOBIOGRAPHY OF MALCOLM X" AND "ROOT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124080" y="4800600"/>
            <a:ext cx="2971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828800" y="762120"/>
            <a:ext cx="5486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0 OF WHAT MAKE A BRITISH POU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14360" y="762120"/>
            <a:ext cx="6515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HOOL'S SPORTS TEAMS ARE THE BOILERMAK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ONIN  SC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REME COURT JUSTICE DIED ON FEBRUARY 13,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Y  P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OAR", "RISE", AND "I KISSED A GIR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52600" y="3733920"/>
            <a:ext cx="8057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LAST  NAMES  OF  PEOPLE  WHO  HAVE SERVED  IN  PRESIDENT  TRUMP'S  CABI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PORTEDLY MADE THE FIRST U.S.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"THE TONIGHT SHOW" FOR THE LON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S ARE THE PRIMARY MEASUREMENT OF HOW OFTEN TV PROGRAMS ARE WATCH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OMOTIVE WEBSITE CAN BE FOUND AT "KBB.CO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AUTOBIOGRAPHY OF MALCOLM X" AND "ROOT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905120" y="761760"/>
            <a:ext cx="53337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0 OF WHAT MAKE A BRITISH POU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REME COURT JUSTICE DIED ON FEBRUARY 13,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0T16:35:46Z</dcterms:created>
  <dc:creator>Jennifer Budzinski</dc:creator>
  <dc:description/>
  <dc:language>en-US</dc:language>
  <cp:lastModifiedBy>Erich Friedman</cp:lastModifiedBy>
  <dcterms:modified xsi:type="dcterms:W3CDTF">2020-08-27T20:23:55Z</dcterms:modified>
  <cp:revision>338</cp:revision>
  <dc:subject/>
  <dc:title>Slide 1</dc:title>
</cp:coreProperties>
</file>