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2B8D-B03B-47F5-81EC-7D55B1FF8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D6FC-CA4C-4BA4-8B51-3F7F04370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85E0-E15B-4BAF-9D21-F58353A26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F897-EF76-43AD-9A91-765222219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B620-6163-4EBB-BF09-6340F0225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CB29-BC90-40D6-B054-B70A02ECB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3334-190E-44E2-BFCF-6648F3A52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7E36-FC35-4FF5-BB16-059F8B15E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C3C6-5021-4935-8921-A027F769D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D59E-F69B-417F-9F12-99F89FA8B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FD20-EDDA-417C-AEEB-5D0FBE400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A206-6B56-4D4B-9939-B21969143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86B4-CAB7-430B-87BA-7460FD84E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6000-C726-4A90-9D35-F9DF536A6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F618-EED3-44F7-B3E1-CD7E8355F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FD44-05B6-4792-8D8F-CDAF0C286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271B-9F7B-46D2-A23C-331314A92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37E2-09A8-43D0-B531-30825CD60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602E-4986-491F-B887-DA6FCAB91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880C-BEFA-4F73-AC0C-61C53862E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32B8-3494-4208-B4D2-DF0511046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4322-3F43-458A-AD1F-53EBABA03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6369-96E1-4393-8BEF-81C58F604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NIGHTWEAR JUMPSUITS FOR BABIE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AND  MARY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MOST COMMON MALE AND FEMALE NAMES IN THE LAST 500 YEARS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METRICAL OBJECT HAS SURFACE AREA 4π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5564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HEMATICIAN FROM ALEXANDRIA WAS THE GREATEST EXPERIMENTER OF ANTIQU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824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ANTHONY BOURDAIN'S PROFESSION BEFORE BEING THE HOST OF A TRAVEL PROGR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K  T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COMIC STRIP WAS CREATED BY CHESTER GOUL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1508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TYPE OF PUNCH IN BOXING, AND A TYPE OF SHOT IN BASKETBAL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GATHA  (CHRISTI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76280" y="762120"/>
            <a:ext cx="8191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WOMAN WHO WROTE THE BEST-SELLING MYSTERY NOVEL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MOST COMMON MALE AND FEMALE NAMES IN THE LAST 500 YEARS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NNY  (KRAVITZ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81200" y="747720"/>
            <a:ext cx="758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 OF THE SINGER OF "AGAIN",     "I BELONG TO YOU", AND "FLY A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EE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NIGHTWEAR JUMPSUITS FOR BABI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00280" y="4876920"/>
            <a:ext cx="7543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STIN  HOFFMAN  MOV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METRICAL OBJECT HAS SURFACE AREA 4π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HEMATICIAN FROM ALEXANDRIA WAS THE GREATEST EXPERIMENTER OF ANTIQU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ANTHONY BOURDAIN'S PROFESSION BEFORE BEING THE HOST OF A TRAVEL PROGR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COMIC STRIP WAS CREATED BY CHESTER GOUL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TYPE OF PUNCH IN BOXING, AND A TYPE OF SHOT IN BASKETB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WOMAN WHO WROTE THE BEST-SELLING MYSTERY NOVEL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 OF THE SINGER OF "AGAIN",     "I BELONG TO YOU", AND "FLY A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1T20:43:42Z</dcterms:created>
  <dc:creator>Jennifer Budzinski</dc:creator>
  <dc:description/>
  <dc:language>en-US</dc:language>
  <cp:lastModifiedBy>Erich Friedman</cp:lastModifiedBy>
  <dcterms:modified xsi:type="dcterms:W3CDTF">2020-08-27T21:52:00Z</dcterms:modified>
  <cp:revision>339</cp:revision>
  <dc:subject/>
  <dc:title>Slide 1</dc:title>
</cp:coreProperties>
</file>