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5658-A68E-4DBD-AF1B-9CC7580EF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1ADD-FAF7-496E-AFCD-F52CA2C35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6469-DBCC-482C-BDB3-5E10AA4F2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A859-E7E0-4CDE-80E3-5F57DD077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8CFD-6992-4F11-AA89-EFC4EDB36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45AC-07F3-448F-9D3A-90BDA67BA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0DDF-0419-4330-A79A-88F1455DC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0D57-B673-4A3B-B82B-2F80076D1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2576-A7B2-4009-B671-B633772F1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20ED-73ED-4325-9F1A-7C17E3F84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354E-E03B-4434-8C9C-C52B29BBF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0F7F-0FEE-4D8B-BCED-3D5F22139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3792-D6E4-4454-B465-FFA5FF855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B042-4AFD-40A7-9A43-7301617EB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D32A-DB3F-4974-B7B1-4A7CE5FA9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7279-0943-4520-A39D-98E143E00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D0A0-580E-4CF4-A73A-AAA61D0A6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23C6-48C2-448A-9512-647247530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E662-6DAF-43C6-B451-ECA29E799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5345-C8C9-45D7-AEFA-6DD00F8A8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59BF-F3AD-4ADF-B64C-659869FDE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FE3C-06BA-4669-BA16-A75D9418E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4DD5-C37D-41E8-8256-D240DF574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NIGHTWEAR JUMPSUITS FOR BABI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AND  MARY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MOST COMMON MALE AND FEMALE NAMES IN THE LAST 500 YEAR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METRICAL OBJECT HAS SURFACE AREA 4π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5564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HEMATICIAN FROM ALEXANDRIA WAS THE GREATEST EXPERIMENTER OF ANTIQU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824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ANTHONY BOURDAIN'S PROFESSION BEFORE BEING THE HOST OF A TRAVEL PROGR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  T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COMIC STRIP WAS CREATED BY CHESTER GOUL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1508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TYPE OF PUNCH IN BOXING, AND A TYPE OF SHOT IN BASKETBAL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THA  (CHRISTI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76280" y="762120"/>
            <a:ext cx="8191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WOMAN WHO WROTE THE BEST-SELLING MYSTERY NOVEL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MOST COMMON MALE AND FEMALE NAMES IN THE LAST 500 YEARS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NNY  (KRAVITZ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81200" y="7477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 OF THE SINGER OF "AGAIN",     "I BELONG TO YOU", AND "FLY A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E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NIGHTWEAR JUMPSUITS FOR BABI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00280" y="487692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STIN  HOFFMAN  MOV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METRICAL OBJECT HAS SURFACE AREA 4π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HEMATICIAN FROM ALEXANDRIA WAS THE GREATEST EXPERIMENTER OF ANTIQU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ANTHONY BOURDAIN'S PROFESSION BEFORE BEING THE HOST OF A TRAVEL PROGR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COMIC STRIP WAS CREATED BY CHESTER GOUL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TYPE OF PUNCH IN BOXING, AND A TYPE OF SHOT IN BASKET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WOMAN WHO WROTE THE BEST-SELLING MYSTERY NOVEL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 OF THE SINGER OF "AGAIN",     "I BELONG TO YOU", AND "FLY A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1T20:43:42Z</dcterms:created>
  <dc:creator>Jennifer Budzinski</dc:creator>
  <dc:description/>
  <dc:language>en-US</dc:language>
  <cp:lastModifiedBy>Erich Friedman</cp:lastModifiedBy>
  <dcterms:modified xsi:type="dcterms:W3CDTF">2020-08-27T21:52:00Z</dcterms:modified>
  <cp:revision>339</cp:revision>
  <dc:subject/>
  <dc:title>Slide 1</dc:title>
</cp:coreProperties>
</file>