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3405-2051-401B-B136-4A9DC9F32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B10A-9E11-40C1-AA8F-6AF1D68FB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B1FB-7BCD-430A-8BBF-37E40383E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64EF-0737-48C7-AC99-3AE728F7A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291A-AC10-4A32-BF29-CAC139CDE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FFF0-4D1D-41E3-B2AE-A24C3764B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80FB-07C1-4249-B7EA-59D1F9727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F393-84B5-41E5-BB4A-A30ED7C8E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DF47-BD57-498B-8A2E-CCD7EC9CA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9E71-EDF4-4F2E-A9CC-6DDCC8B32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FBDB-A69C-46A9-8D31-019A0DD00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8A2A-9B1C-464C-9D46-EF5DBE208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2748-86AB-4918-BAE8-820F5DAEC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E88A-DCB2-4C07-BFDB-7221F4C98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B346-0B47-4225-BA64-87B6732A8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4B9A-86B9-459B-9FDD-1742CBE73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BC2C-5DBA-4EA9-8BAE-9350C6A17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72CB-086C-4B33-B99F-AC5555B65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2E63-DD2F-4B07-B027-E2F1FB767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7D76-8257-4291-9398-4C2BDD883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EB8C-38D0-4AB2-9023-78B491D56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5E0F-10DE-4448-B0E3-4F87071DE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1AAE-143A-4333-977C-37B92579F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NIGHTWEAR JUMPSUITS FOR BABI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AND  MARY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MOST COMMON MALE AND FEMALE NAMES IN THE LAST 500 YEAR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METRICAL OBJECT HAS SURFACE AREA 4π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5564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EMATICIAN FROM ALEXANDRIA WAS THE GREATEST EXPERIMENTER OF ANTIQU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824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ANTHONY BOURDAIN'S PROFESSION BEFORE BEING THE HOST OF A TRAVEL PROGR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T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COMIC STRIP WAS CREATED BY CHESTER GOU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1508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TYPE OF PUNCH IN BOXING, AND A TYPE OF SHOT IN BASKETBAL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THA  (CHRISTI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76280" y="762120"/>
            <a:ext cx="8191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WOMAN WHO WROTE THE BEST-SELLING MYSTERY NOVEL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MOST COMMON MALE AND FEMALE NAMES IN THE LAST 500 YEAR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NY  (KRAVITZ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81200" y="7477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OF THE SINGER OF "AGAIN",     "I BELONG TO YOU", AND "FLY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NIGHTWEAR JUMPSUITS FOR BABI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00280" y="48769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STIN  HOFFMAN 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METRICAL OBJECT HAS SURFACE AREA 4π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EMATICIAN FROM ALEXANDRIA WAS THE GREATEST EXPERIMENTER OF ANTIQU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ANTHONY BOURDAIN'S PROFESSION BEFORE BEING THE HOST OF A TRAVEL PROGR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COMIC STRIP WAS CREATED BY CHESTER GOUL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TYPE OF PUNCH IN BOXING, AND A TYPE OF SHOT IN BASKET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WOMAN WHO WROTE THE BEST-SELLING MYSTERY NOVEL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OF THE SINGER OF "AGAIN",     "I BELONG TO YOU", AND "FLY A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1T20:43:42Z</dcterms:created>
  <dc:creator>Jennifer Budzinski</dc:creator>
  <dc:description/>
  <dc:language>en-US</dc:language>
  <cp:lastModifiedBy>Erich Friedman</cp:lastModifiedBy>
  <dcterms:modified xsi:type="dcterms:W3CDTF">2020-08-27T21:52:00Z</dcterms:modified>
  <cp:revision>339</cp:revision>
  <dc:subject/>
  <dc:title>Slide 1</dc:title>
</cp:coreProperties>
</file>