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553E4-096A-471D-837F-9F4E8C743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B3D6-BE1A-4AEE-BEE0-F9E03DDB4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624D-F422-4EA1-A3A9-24C9EC038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861F-FFC6-45C8-A63F-54D27156CE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6F41F-3D90-4527-90E1-313516094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AAE4-F1F8-4FFA-9686-F864CA67C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85A6-A53D-4E6F-9EAA-ABF408807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5DFA-44FB-4954-9FDC-2AEE72368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1587-39FB-4CA4-931E-988E81C322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6D9E-9524-4471-A5EE-F2E6ABD38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DAC5-0D47-41BD-A13D-95B363031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3955-E35B-4E5C-A889-8F9C6CAE3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2062-3CE3-4EAC-9C1C-1583CCD76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FBD7-E430-4310-9FCA-070A122C1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7FBE-BA9B-40CF-A813-3CA3BF9E3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4EA2-EC16-4FDD-A734-73206D0A4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8B3E-DCC9-41B8-9D72-CF82EF91F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1748-9BF4-4E22-A8AB-61E400094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9425-D379-4E04-BD70-90280EC68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8D7A-54E3-41EE-9FAD-E27A8A93E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267F-E81C-43AA-A222-7B231EC08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43AFD-E2EB-46D3-8B1C-32E63A8A0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F747-8107-463D-891C-DC5E2CCB5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00200" y="1066680"/>
            <a:ext cx="5943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       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371600" y="76176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457200" y="762120"/>
            <a:ext cx="82296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ATSY  C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571680" y="762120"/>
            <a:ext cx="8001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WALKIN' AFTER MIDNIGHT"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KENNED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50960"/>
            <a:ext cx="72388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LMOST 3 YEARS OLD WHEN HIS FATHER THE PRESIDENT WAS ASSASSIN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380880" y="4884840"/>
            <a:ext cx="838224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UDDY  HOL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GGY SUE" AND "THAT'LL BE THE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ES  HO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990720" y="76212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S FOR "TITANIC" AND "AVATA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143000" y="4876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IM  CRO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304920" y="750960"/>
            <a:ext cx="85341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IME IN A BOTTL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Y  HALLA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09480" y="762120"/>
            <a:ext cx="79250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LY PITCHER THREW TWO NO-HITTERS IN 2010, INCLUDING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HISTORY IN THE PLAYOFF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TIS  R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914400" y="762120"/>
            <a:ext cx="73152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(SITTIN' ON) THE DOCK OF THE B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CRAZY" AND "WALKIN' AFTER MIDNIGHT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80880" y="4876920"/>
            <a:ext cx="8382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NNIE  VAN  Z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YNYRD SKYNYRD IN THE 70'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OHN  DEN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447920" y="762120"/>
            <a:ext cx="62481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LEAVING ON A JET PLAN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800280" y="4343400"/>
            <a:ext cx="7543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Y  WERE  ALL  KILLED  IN  AIRPLANE  ACCID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PEOPLE HAVE IN COMM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ALMOST 3 YEARS OLD WHEN HIS FATHER THE PRESIDENT WAS ASSASSINATED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38080" y="762120"/>
            <a:ext cx="7467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PEGGY SUE" AND "THAT'LL BE THE DA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ROTE THE FILM SCORES FOR "TITANIC" AND "AVATA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52280" y="7621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TIME IN A BOTTL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ILLY PITCHER THREW TWO NO-HITTERS IN 2010, INCLUDING ONLY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IN HISTORY IN THE PLAYOFF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14400" y="761760"/>
            <a:ext cx="7315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ANG "(SITTIN' ON) THE DOCK OF THE BA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LYNYRD SKYNYRD IN THE 70'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9T23:24:42Z</dcterms:created>
  <dc:creator>Jennifer Budzinski</dc:creator>
  <dc:description/>
  <dc:language>en-US</dc:language>
  <cp:lastModifiedBy>Erich Friedman</cp:lastModifiedBy>
  <dcterms:modified xsi:type="dcterms:W3CDTF">2020-08-24T01:44:21Z</dcterms:modified>
  <cp:revision>376</cp:revision>
  <dc:subject/>
  <dc:title>Slide 1</dc:title>
</cp:coreProperties>
</file>