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FBA9-DD70-40D9-87FC-36529EDAC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B9C-4F69-441F-BB20-FD22F6A35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5C46-20DF-4671-BADF-AE7A95FD3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6F56-E548-4091-A1F9-8FE6F967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1859-C7AB-41A9-BB02-5CCD702C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797-12C1-4EDD-A8AD-A7B39B12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F43-B7C2-4718-A394-EB31A556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52CB-C819-4261-9B02-E584E7B37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765A-8921-4C94-AA2F-DA0A62733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722-21B8-4BE3-A068-FB9AD2910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F296-53BE-4F01-9F8A-AC887765E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2C4-C1A8-492A-986F-EBC85483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792F-F84D-41B2-8205-2EADF596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4B9E-20E4-4EA5-A323-C3615555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A7BC-E430-4203-897F-FE424EE9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8257-2EEA-4EF8-B0D3-885A06E4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3062-2BC0-497C-8E38-E2B03CF2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C874-CC18-4F58-8090-1D4060149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6153-42F7-4E9C-95FA-E46B2C92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E1B-0087-4177-8DA6-5B9A06693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191-34F5-4DB4-A4DC-E928C9DE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629C-FB58-4100-A09F-40FD4E7C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B12-18D0-4ED6-BDBE-3DF050FC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SY  C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WALKIN' AFTER MIDNIGH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KENNED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50960"/>
            <a:ext cx="7238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LMOST 3 YEARS OLD WHEN HIS FATHER THE PRESIDENT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H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"TITANIC"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RO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5096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HALLA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LY PITCHER THREW TWO NO-HITTERS IN 2010, INCLUDING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HISTORY IN THE PLAY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IS  R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(SITTIN' ON) THE DOCK OF THE B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WALKIN' AFTER MIDNIGH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VAN  Z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YNYRD SKYNYRD IN THE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3434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ALL  KILLED  IN  AIRPLANE 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LMOST 3 YEARS OLD WHEN HIS FATHER THE PRESIDENT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"TITANIC"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LY PITCHER THREW TWO NO-HITTERS IN 2010, INCLUDING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HISTORY IN THE PLAY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(SITTIN' ON) THE DOCK OF THE B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YNYRD SKYNYRD IN THE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23:24:42Z</dcterms:created>
  <dc:creator>Jennifer Budzinski</dc:creator>
  <dc:description/>
  <dc:language>en-US</dc:language>
  <cp:lastModifiedBy>Erich Friedman</cp:lastModifiedBy>
  <dcterms:modified xsi:type="dcterms:W3CDTF">2020-08-24T01:44:21Z</dcterms:modified>
  <cp:revision>376</cp:revision>
  <dc:subject/>
  <dc:title>Slide 1</dc:title>
</cp:coreProperties>
</file>