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6107-55AF-4D98-ADF6-C49ACD750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03C6-EF74-4BFC-93F7-FB8AA5BBD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71DB-426D-469D-A73E-068158359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417D-A0F0-4CF8-8480-1F847FF0F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8516-DBC3-47ED-8A6A-F8A996815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7B9B-37DA-493F-9A46-D51276EF3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76B6-820F-4424-A943-ACBB8112A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0505-E20D-4C36-B56D-2539206C1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60F0-DF75-4FEB-AF7F-114B69DB4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5998-5B49-4551-83CF-BEE040F86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A9EB-86D1-457F-B8EC-3F8730889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C77A-9709-47CA-A5D5-7B599D59F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C000-D416-4EAC-8106-73DE0E1FF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358F-7515-45EA-9E2D-00803F671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AD1C-4E27-403F-996E-1112E4150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B526-A572-48DA-9A08-AB2D5D7E8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AE8D-B269-490C-A97E-A1B36BC18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8043-ED69-4FC9-9A20-C2AE124D6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E083-9166-47FC-BFE8-B651241CB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62BF-7C44-4710-8887-4EF3B2AC5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7858-D456-4790-97AD-10BC38597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E784-8E2C-4AA3-A357-08EE600CA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1895-A6E8-41A6-8B09-4DF2DF0FE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0666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LEAVING ON A JET PLA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SY  C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RAZY" AND "WALKIN' AFTER MIDNIGHT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KENNEDY  J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52560" y="750960"/>
            <a:ext cx="72388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ALMOST 3 YEARS OLD WHEN HIS FATHER THE PRESIDENT WAS ASSASSIN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8484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DDY  HO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PEGGY SUE" AND "THAT'LL BE THE D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HO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FILM SCORES FOR "TITANIC" AND "AVATA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CRO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04920" y="75096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IME IN A BOTT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Y  HALLA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ILLY PITCHER THREW TWO NO-HITTERS IN 2010, INCLUDING ONLY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N HISTORY IN THE PLAYOFF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TIS  RE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(SITTIN' ON) THE DOCK OF THE B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RAZY" AND "WALKIN' AFTER MIDNIGHT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NNIE  VAN  Z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LYNYRD SKYNYRD IN THE 7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DEN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447920" y="762120"/>
            <a:ext cx="6248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LEAVING ON A JET PLA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00280" y="4343400"/>
            <a:ext cx="7543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WERE  ALL  KILLED  IN  AIRPLANE  ACCI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ALMOST 3 YEARS OLD WHEN HIS FATHER THE PRESIDENT WAS ASSASSIN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PEGGY SUE" AND "THAT'LL BE THE D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FILM SCORES FOR "TITANIC" AND "AVATA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IME IN A BOTT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ILLY PITCHER THREW TWO NO-HITTERS IN 2010, INCLUDING ONLY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N HISTORY IN THE PLAYOFF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(SITTIN' ON) THE DOCK OF THE B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LYNYRD SKYNYRD IN THE 7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9T23:24:42Z</dcterms:created>
  <dc:creator>Jennifer Budzinski</dc:creator>
  <dc:description/>
  <dc:language>en-US</dc:language>
  <cp:lastModifiedBy>Erich Friedman</cp:lastModifiedBy>
  <dcterms:modified xsi:type="dcterms:W3CDTF">2020-08-24T01:44:21Z</dcterms:modified>
  <cp:revision>376</cp:revision>
  <dc:subject/>
  <dc:title>Slide 1</dc:title>
</cp:coreProperties>
</file>