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91941-3977-448D-A35D-C42799A86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7C8AA-1D0E-4FB0-84E8-7072B0306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5157D-8C3A-43CC-AE37-14A72FC14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03AC6-D812-40AD-BC2C-F7584FC9E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DF826-7EB4-4921-BFE3-3AE2B1227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FDD82-13FB-4988-9ECE-5BAA28FB9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85124-9EA1-46FF-8A21-B092A0CFC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661A1-2748-4B1F-A207-5348951D9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FF9E0-7C49-468D-9908-76D64D9E2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84F7D-E72E-418A-8CB7-7A5376116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0A643-5886-4C73-ABAE-19E332484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248B2-A2CC-46BD-9F46-BD1009365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3D959-9E82-4C49-B1EF-F42E9538D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A2BB9-F65F-4351-A2B8-D10E46B46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406FB-8EF7-4E1D-8608-AE718D16F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77969-5ED4-4B3B-BC3A-90C5FFEA7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1533C-6E15-4BEC-A1B9-23B13E87B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8EAF2-BF0E-47B7-93AD-A7F7303D2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50F50-2784-4688-BF91-58D08ACF1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9422A-2709-4C40-A205-5415BFC26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68422-CAE7-49CA-8999-E84979501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F1C50-83B0-4E27-BC7E-D1C8A3553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C6104-9D3B-415D-88C3-12EB603A2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VOLLEYBALL IN "CAST AWAY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ST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09640" y="762120"/>
            <a:ext cx="7524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NORMAN CONQUEST OF ENGLAND IN 1066 BEGAN NEAR WHAT T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S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19000" y="762120"/>
            <a:ext cx="7506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OIL WAS USED FOR DECADES TO PUNISH CHILDREN, AND IS STILL USED TO INDUCE LABOR AND AS A LAXAT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1904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LT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19040" y="762120"/>
            <a:ext cx="8344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GENRE WERE JOHANN STRAUSS SR. AND JR. FAMOUS FOR COMPOS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EDDIE)  MUR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23960" y="75888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OR WHO STARRED IN "BEVERLY HILLS COP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914400" y="487692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NOAH)  WEB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UTHOR WHOSE BOOKS TAUGHT 5 GENERATIONS OF U.S. CHILDREN HOW TO SPELL AND RE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333440" y="4876920"/>
            <a:ext cx="6477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76280" y="762120"/>
            <a:ext cx="81914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A LARGE SAILING SHIP, WHAT ARE "FORE", "MAIN", AND "MIZZEN" TYPES O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00600"/>
            <a:ext cx="5867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JAMES)  BUCHANAN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10484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ERVED AS U.S. PRESIDENT JUST BEFORE  LINCOL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18640" y="761760"/>
            <a:ext cx="7486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NORMAN CONQUEST OF ENGLAND IN 1066 BEGAN NEAR WHAT TOW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MICKEY)  ROO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0028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OR WHO PLAYED ANDY HARDY IN NO LESS THAN 16 FILMS 1937-195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VOLLEYBALL IN "CAST AWAY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47640" y="3809880"/>
            <a:ext cx="78487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marL="229680" indent="-229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ST  NAMES  OF  FLORIDA  MEMBERS  OF  THE  U.S.  HOUSE  OF  REPRESENTA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OIL WAS USED FOR DECADES TO PUNISH CHILDREN, AND IS STILL USED TO INDUCE LABOR AND AS A LAXATIV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38120" y="762120"/>
            <a:ext cx="826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GENRE WERE JOHANN STRAUSS SR. AND JR. FAMOUS FOR COMPOS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OR WHO STARRED IN "BEVERLY HILLS COP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UTHOR WHOSE BOOKS TAUGHT 5 GENERATIONS OF U.S. CHILDREN HOW TO SPELL AND REA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76280" y="761760"/>
            <a:ext cx="8191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A LARGE SAILING SHIP, WHAT ARE "FORE", "MAIN", AND "MIZZEN" TYPES O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276200" y="761760"/>
            <a:ext cx="6591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ERVED AS U.S. PRESIDENT JUST BEFORE LINCOL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OR WHO PLAYED ANDY HARDY IN NO LESS THAN 16 FILMS 1937-195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14:07:52Z</dcterms:created>
  <dc:creator>Jennifer Budzinski</dc:creator>
  <dc:description/>
  <dc:language>en-US</dc:language>
  <cp:lastModifiedBy>Erich Friedman</cp:lastModifiedBy>
  <dcterms:modified xsi:type="dcterms:W3CDTF">2020-08-27T21:53:15Z</dcterms:modified>
  <cp:revision>477</cp:revision>
  <dc:subject/>
  <dc:title>Slide 1</dc:title>
</cp:coreProperties>
</file>