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43FF-9E5B-451B-BBC8-06EFBBB4A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E88D-3F20-4A2B-AC10-C9E70AD56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709D-E61B-4FB3-BE36-CD66110F5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BA62-B7D7-4952-9CC9-4D775A9E0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B2C9-A418-48B4-8FB4-2D2CF11D4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9BC4-AD72-4679-903A-5C0AEDEC6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47A7-5ACD-4C85-8CF8-AEAFD8F3E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9E3A-7A5A-498F-94EF-AAF9FA71E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CAEA-3514-4142-81D3-A80A29845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3407-C8DD-4010-9BDF-B78BFBDB2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58DC-A6AB-4015-902E-6773B62D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D777-C8CF-4A84-AA1E-73F0F1A92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794B-8DE1-41D5-B9A1-997BCD842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53EB-6090-488D-B65D-A20E1B183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884A-A586-4691-9B0A-89915C0E0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E2AF-F94E-4273-9A4A-5755F81EB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A36A-83D8-445D-A7CE-D4923CEA3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044A-21A2-4A8C-8405-C390977D4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DE6D-3D8B-4ABC-85FD-891DF05B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8DEC-FCBB-47AD-9A7F-98F51AF10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5665-7437-462A-BD15-7890B7CE2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9D9B-B5BC-4E71-96D1-3F121EA75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9249-C624-4476-A63C-983F11D37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VOLLEYBALL IN "CAST AWA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S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MAN CONQUEST OF ENGLAND IN 1066 BEGAN NEAR WHAT T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OIL WAS USED FOR DECADES TO PUNISH CHILDREN, AND IS STILL USED TO INDUCE LABOR AND AS A LAX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4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ENRE WERE JOHANN STRAUSS SR. AND JR. FAMOUS FOR COMPO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DDIE)  MUR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5888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BEVERLY HILLS C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OAH)  WEB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SE BOOKS TAUGHT 5 GENERATIONS OF U.S. CHILDREN HOW TO SPELL AND 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76280" y="762120"/>
            <a:ext cx="8191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LARGE SAILING SHIP, WHAT ARE "FORE", "MAIN", AND "MIZZEN" TYPES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BUCHANA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PRESIDENT JUST BEFORE  LINCOL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18640" y="761760"/>
            <a:ext cx="748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MAN CONQUEST OF ENGLAND IN 1066 BEGAN NEAR WHAT T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ICKEY)  R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ANDY HARDY IN NO LESS THAN 16 FILMS 1937-195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VOLLEYBALL IN "CAST AWA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3809880"/>
            <a:ext cx="7848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FLORIDA  MEMBERS  OF  THE  U.S.  HOUSE  OF  REPRESENT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OIL WAS USED FOR DECADES TO PUNISH CHILDREN, AND IS STILL USED TO INDUCE LABOR AND AS A LAXA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ENRE WERE JOHANN STRAUSS SR. AND JR. FAMOUS FOR COMPO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BEVERLY HILLS C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SE BOOKS TAUGHT 5 GENERATIONS OF U.S. CHILDREN HOW TO SPELL AND R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LARGE SAILING SHIP, WHAT ARE "FORE", "MAIN", AND "MIZZEN" TYPES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76200" y="761760"/>
            <a:ext cx="6591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PRESIDENT JUST BEFORE LINCOL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ANDY HARDY IN NO LESS THAN 16 FILMS 1937-195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14:07:52Z</dcterms:created>
  <dc:creator>Jennifer Budzinski</dc:creator>
  <dc:description/>
  <dc:language>en-US</dc:language>
  <cp:lastModifiedBy>Erich Friedman</cp:lastModifiedBy>
  <dcterms:modified xsi:type="dcterms:W3CDTF">2020-08-27T21:53:15Z</dcterms:modified>
  <cp:revision>477</cp:revision>
  <dc:subject/>
  <dc:title>Slide 1</dc:title>
</cp:coreProperties>
</file>