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1F54-E915-4AFC-A637-71E9EBFC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677E4-8F04-4908-8DB0-D632DEC4C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6D8D-2F34-41FF-B21E-AA44D4FF5D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B047-45FB-48F2-9CD1-2A13B523B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0CD5-FA24-42F0-A568-EEC3DD787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966-2107-4DE4-A345-B680B1E60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FFF4C-0244-417C-8DEA-BFFB66BF2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DC7B-8D87-431C-9949-3C4B96B51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2180-96B0-4031-A703-D338CDE3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68AE-C847-489E-B081-85A58B308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8AC0-09AB-40EB-AB2E-CE5EB9486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90802-31E2-4137-9AAA-83D4A2413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50CA-E3A8-452E-AA8A-A06095AFB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10B0-4C89-41E0-80DB-6DED18F5C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9498-62A8-4EF0-9EFA-CEDC9E04C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F8FF-AE43-420F-99BE-68E3F0DD7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794A-44D0-4815-BC41-0D6AE2D94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D223-BD14-4BBF-8C34-C2C25AB7E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BD68-922E-481E-B8E0-A250F412F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66A2-3AAC-4E33-B706-08D1B88E5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DAA-E3EB-4EB0-9C06-7C53AB0D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CB20A-57E0-42D3-B40E-DBC390EE8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C3EA-662A-4740-A1A4-BAD1A06B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"CAST AWA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ST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9640" y="762120"/>
            <a:ext cx="7524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MAN CONQUEST OF ENGLAND IN 1066 BEGAN NEAR WHAT TOW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19000" y="762120"/>
            <a:ext cx="7506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IL WAS USED FOR DECADES TO PUNISH CHILDREN, AND IS STILL USED TO INDUCE LABOR AND AS A LAXATI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19040" y="762120"/>
            <a:ext cx="83440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ENRE WERE JOHANN STRAUSS SR. AND JR.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EDDIE)  MUR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5888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BEVERLY HILLS C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15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OAH)  WEB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SE BOOKS TAUGHT 5 GENERATIONS OF U.S. CHILDREN HOW TO SPELL AND RE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76280" y="762120"/>
            <a:ext cx="8191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LARGE SAILING SHIP, WHAT ARE "FORE", "MAIN", AND "MIZZEN" TYPES O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00200" y="4800600"/>
            <a:ext cx="586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AMES)  BUCHANAN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JUST BEFORE  LINCOL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18640" y="761760"/>
            <a:ext cx="7486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NORMAN CONQUEST OF ENGLAND IN 1066 BEGAN NEAR WHAT TOW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ICKEY)  R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ANDY HARDY IN NO LESS THAN 16 FILMS 1937-195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THE VOLLEYBALL IN "CAST AWA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47640" y="3809880"/>
            <a:ext cx="78487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ST  NAMES  OF  FLORIDA  MEMBERS  OF  THE  U.S.  HOUSE  OF  REPRESENT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RT OF OIL WAS USED FOR DECADES TO PUNISH CHILDREN, AND IS STILL USED TO INDUCE LABOR AND AS A LAXATI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38120" y="762120"/>
            <a:ext cx="8267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GENRE WERE JOHANN STRAUSS SR. AND JR. FAMOUS FOR COMPOS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STARRED IN "BEVERLY HILLS C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UTHOR WHOSE BOOKS TAUGHT 5 GENERATIONS OF U.S. CHILDREN HOW TO SPELL AND REA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76280" y="761760"/>
            <a:ext cx="8191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A LARGE SAILING SHIP, WHAT ARE "FORE", "MAIN", AND "MIZZEN" TYPES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76200" y="761760"/>
            <a:ext cx="6591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ERVED AS U.S. PRESIDENT JUST BEFORE LINCOL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ACTOR WHO PLAYED ANDY HARDY IN NO LESS THAN 16 FILMS 1937-195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14:07:52Z</dcterms:created>
  <dc:creator>Jennifer Budzinski</dc:creator>
  <dc:description/>
  <dc:language>en-US</dc:language>
  <cp:lastModifiedBy>Erich Friedman</cp:lastModifiedBy>
  <dcterms:modified xsi:type="dcterms:W3CDTF">2020-08-27T21:53:15Z</dcterms:modified>
  <cp:revision>477</cp:revision>
  <dc:subject/>
  <dc:title>Slide 1</dc:title>
</cp:coreProperties>
</file>