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C21D-011B-4FE2-91DF-149B2949B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6AEC-9CD5-4954-AC02-56509F62F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CA3E5-3E8A-45AB-BE11-E02B4AC17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5A36-0691-4473-9C27-6D6B45818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CBA9-336A-4FA9-B8C0-655AAF443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5386-68CD-452D-B0A5-403DF6622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FFC70-D562-49E8-BA1E-D01AEC95D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53A2D-A91B-4596-8E97-0F75021C0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4681-09D9-4AFF-9AB9-F75DAEE97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E721-6E37-40ED-BC08-FCCB10B76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4215-4846-4E6C-9910-E41A9500A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C46C-F1FC-4DB7-9E5C-CCC041D7D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F3E9-3272-4BCB-8A8E-AFEEF98E9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67744-94CB-424C-A138-F24B97939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956E-B1A8-49D9-8118-3DCA0A3BC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4FB6-A78A-4169-8264-5EDEDA272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4A4A0-CE40-44C1-8BCD-B3330BF7B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6D05-66F2-4B0B-8168-A426E1AB3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B81E-A034-4350-9DA2-F92EBDD5C5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177F-51CF-47F8-833E-459C12FE8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68264-0C45-4633-8A73-74CCD476C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5AF8-EFA0-4819-8784-83DD8159E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2A8F-139D-41F5-9A23-E5BC279E4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COMPLETELY DIFFERENT THINGS IN POKER, HOCKEY, AND BANK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WN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AL INDIAN TRIBE HAS THE SAME NAME AS THE TOWN WHERE "PARKS AND RECREATION" IS S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EY  BISH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IN "THE RAT PACK" WITH FRANK SINATRA, DEAN MARTIN, SAMMY DAVIS JR., AND PETER LAWFORD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IGHT  RI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533520" y="762120"/>
            <a:ext cx="80769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DAVID HASSELHOFF AND HIS SENTIENT CAR FIGHT CR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EEN  LATIFA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RECORDED HIP-HOP MUSIC, HOSTED A TALK SHOW, STARRED ON A SITCOM, AND BEEN NOMINATED FOR AN OSCAR FOR "CHICAGO"?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N  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8588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ING PROMOTER IS ALSO FAMOUS FOR HIS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OKE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BREEDING COLONY OF BIRDS USUALLY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STARRED NATHAN FILLION AS A WRITER AND STANA KATIC AS A HOMICIDE DETEC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AL INDIAN TRIBE HAS THE SAME NAME AS THE TOWN WHERE "PARKS AND RECREATION" IS S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  OR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LE BY MICHAEL JACKSON ABOUT RACE RELATIONS TOPPED THE CHARTS IN 1991 AND 199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MEANS COMPLETELY DIFFERENT THINGS IN POKER, HOCKEY, AND BANK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619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ONTAIN  CHESS  TER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IN "THE RAT PACK" WITH FRANK SINATRA, DEAN MARTIN, SAMMY DAVIS JR., AND PETER LAWFORD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TV SHOW DID DAVID HASSELHOFF AND HIS SENTIENT CAR FIGHT CR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4272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RECORDED HIP-HOP MUSIC, HOSTED A TALK SHOW, STARRED ON A SITCOM, AND BEEN NOMINATED FOR AN OSCAR FOR "CHICAGO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OXING PROMOTER IS ALSO FAMOUS FOR HIS HAI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BREEDING COLONY OF BIRDS USUALLY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SHOW STARRED NATHAN FILLION AS A WRITER AND STANA KATIC AS A HOMICIDE DETEC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INGLE BY MICHAEL JACKSON ABOUT RACE RELATIONS TOPPED THE CHARTS IN 1991 AND 199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19:06:25Z</dcterms:created>
  <dc:creator>Jennifer Budzinski</dc:creator>
  <dc:description/>
  <dc:language>en-US</dc:language>
  <cp:lastModifiedBy>Erich Friedman</cp:lastModifiedBy>
  <dcterms:modified xsi:type="dcterms:W3CDTF">2020-08-27T21:54:52Z</dcterms:modified>
  <cp:revision>401</cp:revision>
  <dc:subject/>
  <dc:title>Slide 1</dc:title>
</cp:coreProperties>
</file>