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48D4-03BB-4AED-830F-D656FCD5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D0B-5CD2-4695-B00A-BBE2E0EF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2352-A104-4D40-8809-2C6251AB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9DBB-3326-45EE-9061-CB9FBE6A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F51B-3746-443B-90FA-8A3056F2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95B-EEAD-4386-B82F-5C0E44F1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963E-DE32-41EB-9C49-8D1A2A7D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F95-DF70-43C1-BBE0-7E9AFAFC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F736-7A2B-4211-9A56-B11FF49C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FCD-9DEB-4A69-885C-FE98F0371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2978-50E9-4905-A1E4-F0BCD6E2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D24-3090-4013-B3EC-5BDE1EFF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8830-A19C-4219-A9E2-8924A4A72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8535-5391-48A0-842D-18BAF704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AF3-C5F4-45DD-B86E-02C806B4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65D8-F4CF-46B4-8E07-3FFBF576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B0E5-A9E2-43F4-8998-85955FFF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0F6-E982-4F3C-9E3B-CA459D9B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30A-3019-453C-8C53-C0600F9A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F87-B180-449C-93D5-10648E6F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132-FEF9-4129-8508-85D1894E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2371-C1C8-49AD-B020-E9A6E4AD8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D8A-980F-4F51-9C78-9F890131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POKER, HOCKEY, AND BAN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WN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 INDIAN TRIBE HAS THE SAME NAME AS THE TOWN WHERE "PARKS AND RECREATION" IS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BI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"THE RAT PACK" WITH FRANK SINATRA, DEAN MARTIN, SAMMY DAVIS JR., AND PETER LAWFO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DAVID HASSELHOFF AND HIS SENTIENT CAR FIGHT CR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LATIF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RECORDED HIP-HOP MUSIC, HOSTED A TALK SHOW, STARRED ON A SITCOM, AND BEEN NOMINATED FOR AN OSCAR FOR "CHICAGO"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8588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IS ALSO FAMOUS FOR HI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K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REEDING COLONY OF BIRD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NATHAN FILLION AS A WRITER AND STANA KATIC AS A HOMICID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 INDIAN TRIBE HAS THE SAME NAME AS THE TOWN WHERE "PARKS AND RECREATION" IS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O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 BY MICHAEL JACKSON ABOUT RACE RELATIONS TOPPED THE CHARTS IN 1991 AND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POKER, HOCKEY, AND BA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HESS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"THE RAT PACK" WITH FRANK SINATRA, DEAN MARTIN, SAMMY DAVIS JR., AND PETER LAWFOR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DAVID HASSELHOFF AND HIS SENTIENT CAR FIGHT CR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RECORDED HIP-HOP MUSIC, HOSTED A TALK SHOW, STARRED ON A SITCOM, AND BEEN NOMINATED FOR AN OSCAR FOR "CHICA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IS ALSO FAMOUS FOR HI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REEDING COLONY OF BIRD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NATHAN FILLION AS A WRITER AND STANA KATIC AS A HOMICID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 BY MICHAEL JACKSON ABOUT RACE RELATIONS TOPPED THE CHARTS IN 1991 AND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9:06:25Z</dcterms:created>
  <dc:creator>Jennifer Budzinski</dc:creator>
  <dc:description/>
  <dc:language>en-US</dc:language>
  <cp:lastModifiedBy>Erich Friedman</cp:lastModifiedBy>
  <dcterms:modified xsi:type="dcterms:W3CDTF">2020-08-27T21:54:52Z</dcterms:modified>
  <cp:revision>401</cp:revision>
  <dc:subject/>
  <dc:title>Slide 1</dc:title>
</cp:coreProperties>
</file>