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9A7D-CACE-4422-BCED-B910127F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072-B93F-404B-B097-52F2CF95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415-854A-49CB-BCD8-F84AD441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4153-20B4-4973-B3E7-16048102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09F6-BB4C-48E5-BC6A-C80630D2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F88-927B-4B2B-8FD0-3CFA6AEF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CA27-D27F-4008-B343-84BAA591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383C-DB2E-4226-8824-2632723E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151C-BA1C-4CEF-85EB-9FD7FBC2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1BF-D95A-4ED5-BE85-FB3A3F5F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130-459C-4681-B171-CC13DE01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09A-A91B-4443-95F8-21941EA8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67CA-A585-4821-A87C-A312699C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F0E2-7B58-463D-8B58-F732050E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B70-3483-47DB-8F6E-F7450E61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560-57AD-4D96-924A-ABCF129C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985-0B66-40CB-B1DF-D0F82958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D1D-C796-49D7-B380-D88FFF3B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B34-CA26-4C77-84F1-9EC4DC7F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9991-3895-4511-B132-EFD33023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275-8139-4028-B0F1-1B3F3258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B6D5-FC86-4FC6-A109-067AC480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2FF9-717A-49A6-9D3B-F7D6DB63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8588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HES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9:06:25Z</dcterms:created>
  <dc:creator>Jennifer Budzinski</dc:creator>
  <dc:description/>
  <dc:language>en-US</dc:language>
  <cp:lastModifiedBy>Erich Friedman</cp:lastModifiedBy>
  <dcterms:modified xsi:type="dcterms:W3CDTF">2020-08-27T21:54:52Z</dcterms:modified>
  <cp:revision>401</cp:revision>
  <dc:subject/>
  <dc:title>Slide 1</dc:title>
</cp:coreProperties>
</file>