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8958-E794-4513-B55D-D64346BE3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A4F2-43FF-4A73-A522-EFADB008A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E082-333C-4C9A-8F6F-2E3D7910C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BFB0-C3DE-4F74-A3BC-533A9B1FA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301E-0FAE-4485-B879-A5B950278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633D-DD5B-4F96-917A-748CFEDC7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991D-9A8B-4A04-8F98-5DF2B7431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EDB5-7389-4276-9614-30D7B689B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2518-BE60-4695-9CF9-2A25B664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4737-4BA3-46A2-A676-981F06FDB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61D5-ED82-4C85-9305-5DC8C99A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9BFB-85EB-4D41-B8A6-16F7C6166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E884-F1DA-4623-B5F5-428584C74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A54C-A9DB-47E3-9537-880E41476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E95F-D6C5-4519-9C1F-8938C511A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3862-880E-415F-819A-132BC00C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CB7F-D1C2-44B5-9C9C-284B21641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AD9C-E5E4-4993-B787-02F9B9FBF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9962-3841-4046-953A-E374D70D6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5AF7-539B-4FD2-8C30-C8763323B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0A4C-396A-4B28-B02E-930B5B063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DFD5-EF55-40C1-A5FB-526D34ABF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7328-93B0-42C2-9AF8-C42252966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ANIMAL'S BEDDING, TOILET, OR MULTIPLE SIBL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 IS NAMED FOR THE ROMAN QUEEN OF THE GO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KSWA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ATLAS, AMEO, ARTEON, AND AMAR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EVICE ON A CAMERA THAT ALLOWS LIGHT IN FOR A CERTAIN PERIOD OF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SAS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OM CRUISE'S CHARACTER'S JOB IN THE FILM "COLLATER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HING WILLIAM SHAKEPEARE LEFT TO HIS WIFE IN HIS W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UBSTANCE ON EARTH THAT OCCURS NATURALLY IN SOLID, LIQUID, AND GASEOUS FO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OMB IS DESIGNED TO CREATE A FOUL SM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ANIMAL'S BEDDING, TOILET, OR MULTIPLE SIBL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U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 IS NAMED FOR THE ROMAN QUEEN OF THE GO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ATLAS, AMEO, ARTEON, AND AMAR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EVICE ON A CAMERA THAT ALLOWS LIGHT IN FOR A CERTAIN PERIOD OF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OM CRUISE'S CHARACTER'S JOB IN THE FILM "COLLATER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HING WILLIAM SHAKEPEARE LEFT TO HIS WIFE IN HIS W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UBSTANCE ON EARTH THAT OCCURS NATURALLY IN SOLID, LIQUID, AND GASEOUS FO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OMB IS DESIGNED TO CREATE A FOUL SM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6:06:33Z</dcterms:created>
  <dc:creator>Jennifer Budzinski</dc:creator>
  <dc:description/>
  <dc:language>en-US</dc:language>
  <cp:lastModifiedBy>Erich Friedman</cp:lastModifiedBy>
  <dcterms:modified xsi:type="dcterms:W3CDTF">2020-08-27T21:56:07Z</dcterms:modified>
  <cp:revision>423</cp:revision>
  <dc:subject/>
  <dc:title>Slide 1</dc:title>
</cp:coreProperties>
</file>