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386E-29D4-4108-94EF-2836107D6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5E74-8267-454A-BB57-395D76807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B42D-607D-4ADE-958A-35223608C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9974-67FF-4814-BBD9-A94849576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21A7-A52C-4FC3-94E9-45A8603CE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30E5-A340-43EA-B87B-8653FFA05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9F1B-BF5C-4533-82AB-3EFE3AFC6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3646-5E1A-406E-A244-578EE8B17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056F-CCAB-49D1-A8C5-AC363CB36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7555-410D-4846-A99F-D826EA065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C418-6240-4FAE-A99E-AC6A6D5F7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C8BA-3566-45B5-A15F-AC8BA87C1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3FBB-EC3B-4568-AB73-0073DEEB3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9D96-2F63-4DF4-B772-8BAE0613C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4F91-6CAC-4ABD-A518-ECC4C09B0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D257-BA8D-4E31-B450-C103F5E94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2E87-9156-444F-8270-754CF1C4D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9768-2F7A-43ED-ABBD-76674BF90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51F3-6B74-4D45-9B70-C74E425CA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573D-ED0F-419F-AE8B-4E99B5C88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4686-40E9-45AD-9198-6E214758B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2B0E-3B0A-42CD-81C7-87C5F90AF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338F-324A-4573-B449-5183E5EEC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N ANIMAL'S BEDDING, TOILET, OR MULTIPLE SIBL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KENNY ROGERS #1 SONG WITH THE SHORTE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NTH IS NAMED FOR THE ROMAN QUEEN OF THE GO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OLKSWA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MAKES THE ATLAS, AMEO, ARTEON, AND AMAR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EVICE ON A CAMERA THAT ALLOWS LIGHT IN FOR A CERTAIN PERIOD OF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SAS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OM CRUISE'S CHARACTER'S JOB IN THE FILM "COLLATER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THING WILLIAM SHAKEPEARE LEFT TO HIS WIFE IN HIS W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UBSTANCE ON EARTH THAT OCCURS NATURALLY IN SOLID, LIQUID, AND GASEOUS FOR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KENNY ROGERS #1 SONG WITH THE SHORTE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2120"/>
            <a:ext cx="6400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BOMB IS DESIGNED TO CREATE A FOUL SM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N ANIMAL'S BEDDING, TOILET, OR MULTIPLE SIBL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BUG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NTH IS NAMED FOR THE ROMAN QUEEN OF THE GO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MAKES THE ATLAS, AMEO, ARTEON, AND AMAR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EVICE ON A CAMERA THAT ALLOWS LIGHT IN FOR A CERTAIN PERIOD OF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OM CRUISE'S CHARACTER'S JOB IN THE FILM "COLLATER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THING WILLIAM SHAKEPEARE LEFT TO HIS WIFE IN HIS WI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UBSTANCE ON EARTH THAT OCCURS NATURALLY IN SOLID, LIQUID, AND GASEOUS FOR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BOMB IS DESIGNED TO CREATE A FOUL SM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6T16:06:33Z</dcterms:created>
  <dc:creator>Jennifer Budzinski</dc:creator>
  <dc:description/>
  <dc:language>en-US</dc:language>
  <cp:lastModifiedBy>Erich Friedman</cp:lastModifiedBy>
  <dcterms:modified xsi:type="dcterms:W3CDTF">2020-08-27T21:56:07Z</dcterms:modified>
  <cp:revision>423</cp:revision>
  <dc:subject/>
  <dc:title>Slide 1</dc:title>
</cp:coreProperties>
</file>