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2ED4-303D-47DC-BF56-1EE94BE89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889B-8BDF-49E1-80A7-30E12AE5A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5868-30FB-4C4A-8B66-08A67A6B6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3CAA-BE36-442C-AE70-9377FBC62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179E-1F21-44EC-95E0-BA4F2F9E6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5801-6A52-4ED3-A889-51240B5A7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BBF6-8C79-4342-A00A-75CECF6D5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32EE-C7C2-454C-8574-5872F14F4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557C-54A0-43DA-A67D-3B016E8D6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A120-0112-48B1-945A-D9424AEE7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9F4D-1F4A-46B5-BD87-ABA521337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5EB5-526E-487E-94A6-FC7C7475D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EDFC-120A-4F63-A760-F5D478259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C201-7863-4750-B69C-5D6DBFA8F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DF5C-AB3E-4DA6-8B13-E599DB895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6382-8057-4A2B-8685-D7707E068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718F-01E8-459E-B61E-263747597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3616-D0E7-4164-B424-D73698C81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ECBD-BA42-4DFA-AA3B-69FAC34FC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01BB-9E52-47C0-982E-8279832CB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8EA2-87C1-4934-A25A-C265CFBEA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62EA-334E-41E8-AA95-C73EAEC5E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94B3-A6D0-4013-B930-77D130E61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N ANIMAL'S BEDDING, TOILET, OR MULTIPLE SIBL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KENNY ROGERS #1 SONG WITH THE SHORTE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NTH IS NAMED FOR THE ROMAN QUEEN OF THE GO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OLKSWA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MAKES THE ATLAS, AMEO, ARTEON, AND AMAR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EVICE ON A CAMERA THAT ALLOWS LIGHT IN FOR A CERTAIN PERIOD OF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SAS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OM CRUISE'S CHARACTER'S JOB IN THE FILM "COLLATER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THING WILLIAM SHAKEPEARE LEFT TO HIS WIFE IN HIS W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UBSTANCE ON EARTH THAT OCCURS NATURALLY IN SOLID, LIQUID, AND GASEOUS FOR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KENNY ROGERS #1 SONG WITH THE SHORTE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2120"/>
            <a:ext cx="6400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BOMB IS DESIGNED TO CREATE A FOUL SM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N ANIMAL'S BEDDING, TOILET, OR MULTIPLE SIBL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BUG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NTH IS NAMED FOR THE ROMAN QUEEN OF THE GO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MAKES THE ATLAS, AMEO, ARTEON, AND AMAR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EVICE ON A CAMERA THAT ALLOWS LIGHT IN FOR A CERTAIN PERIOD OF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OM CRUISE'S CHARACTER'S JOB IN THE FILM "COLLATER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THING WILLIAM SHAKEPEARE LEFT TO HIS WIFE IN HIS WI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UBSTANCE ON EARTH THAT OCCURS NATURALLY IN SOLID, LIQUID, AND GASEOUS FOR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BOMB IS DESIGNED TO CREATE A FOUL SM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16:06:33Z</dcterms:created>
  <dc:creator>Jennifer Budzinski</dc:creator>
  <dc:description/>
  <dc:language>en-US</dc:language>
  <cp:lastModifiedBy>Erich Friedman</cp:lastModifiedBy>
  <dcterms:modified xsi:type="dcterms:W3CDTF">2020-08-27T21:56:07Z</dcterms:modified>
  <cp:revision>423</cp:revision>
  <dc:subject/>
  <dc:title>Slide 1</dc:title>
</cp:coreProperties>
</file>