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0599-EC93-4965-8025-C9699A514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AD78-F366-4D5C-830D-4C3459EF8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CF95-ED47-411B-A906-835AB864C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67BE-1016-4DE2-BC02-D228517AE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647F-456A-47B6-ABCF-648BEF558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E412-B7BA-49C0-A798-0C103F5FA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8B6E-378E-490E-A58A-C18E33E47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ABF9-E85D-4EAC-944F-384020311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F326-F3D7-4BAD-A948-CF2ACAD3D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2205-1837-4443-9F9D-44ABAE8B1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F9AE-35B3-430E-8019-E280344AA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5A3E-EE74-4A8C-806E-FCE47084E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00DD-C316-428B-A684-65BE63E2A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1B38-3D46-4635-BDA1-A44B35045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DA47-4420-489A-AAE1-A5DA90FA5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EAA3-FBBE-4AC6-AA93-29AC8866B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1705-5550-4B40-AAA7-9135DB6D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F509-CC57-40F4-BEBE-D3907E700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DAAD-F92E-42C4-8302-1AC262964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5D42-D188-4367-9556-91F2FB464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9A9A-ADEF-4DDC-BDAE-CFC1EF28B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94B7-2184-4401-8278-81E6AA83C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F09E-BDE7-4611-8B56-4809B948A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BEST-SELLING ALBUMS OF 1978 WERE "SATURDAY NIGHT FEVER" AND WHAT OTHER JOHN TRAVOLTA SOUNDTR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GING  C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2000 PRESIDENTIAL ELECTION, WHAT WAS AN INCOMPLETELY PUNCHED HOLE ON A PUNCH CARD BALLO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8588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BENJAMIN FRANKLIN WANT TO BE THE UNITED STATES NATIONAL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676520" y="735120"/>
            <a:ext cx="579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PRODUCES THE MOST PEANU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  P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CAST MEMBER ON MAD TV, AND STARRED WITH KEEGAN-MICHAEL KEY IN A COMEDY SERIES, BOTH FOR 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O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GIRL SCOUT COOKIES, AFTER THIN MIN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WAS CALLED KING'S COLLEGE BEFORE THE REVOLUTIONARY W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LI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2600280" y="1981080"/>
            <a:ext cx="394344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2000 PRESIDENTIAL ELECTION, WHAT WAS AN INCOMPLETELY PUNCHED HOLE ON A PUNCH CARD BALLO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91652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NEA  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849430-center-3.jpg"/>
          <p:cNvPicPr/>
          <p:nvPr/>
        </p:nvPicPr>
        <p:blipFill>
          <a:blip r:embed="rId1"/>
          <a:stretch/>
        </p:blipFill>
        <p:spPr>
          <a:xfrm>
            <a:off x="3152880" y="1965240"/>
            <a:ext cx="2838240" cy="28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876240" y="762120"/>
            <a:ext cx="73915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BEST-SELLING ALBUMS OF 1978 WERE "SATURDAY NIGHT FEVER" AND WHAT OTHER JOHN TRAVOLTA SOUNDTR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533520" y="434340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(OR HOMOPHONES)  OF 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BENJAMIN FRANKLIN WANT TO BE THE UNITED STATES NATIONAL B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638360" y="7621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PRODUCES THE MOST PEANU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CAST MEMBER ON MAD TV, AND STARRED WITH KEEGAN-MICHAEL KEY IN A COMEDY SERIES, BOTH FOR 5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GIRL SCOUT COOKIES, AFTER THIN MIN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WAS CALLED KING'S COLLEGE BEFORE THE REVOLUTIONARY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457360" y="2057400"/>
            <a:ext cx="4229280" cy="28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849430-center-3.jpg"/>
          <p:cNvPicPr/>
          <p:nvPr/>
        </p:nvPicPr>
        <p:blipFill>
          <a:blip r:embed="rId1"/>
          <a:stretch/>
        </p:blipFill>
        <p:spPr>
          <a:xfrm>
            <a:off x="2933640" y="20574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8T02:30:54Z</dcterms:created>
  <dc:creator>Jennifer Budzinski</dc:creator>
  <dc:description/>
  <dc:language>en-US</dc:language>
  <cp:lastModifiedBy>Erich Friedman</cp:lastModifiedBy>
  <dcterms:modified xsi:type="dcterms:W3CDTF">2020-08-27T22:00:40Z</dcterms:modified>
  <cp:revision>349</cp:revision>
  <dc:subject/>
  <dc:title>Slide 1</dc:title>
</cp:coreProperties>
</file>