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20B5-497A-4427-B5C9-9919401F0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7D3A-2DC7-46C3-8C37-96239CDD8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5FCF-2B8E-4801-A2EE-2F01B1505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69C6-7635-446F-BB8C-0A5332E3D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4DBE-B6A9-49A3-92C1-AA66F0521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7840-7CFB-42EA-ADAF-246AD92A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4B52-C23E-4EBD-9AF7-962628CD1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9233-E768-420D-A99D-983CC6227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B77F-E65C-4685-82F7-C1C10652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3590-F775-40CF-BD71-12A78EE5E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E947-A702-45F9-A844-F265015CD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F9D7-F2E3-49C6-AC5E-9C94970C1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C049-04BE-48D2-865A-13C49EE0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1624-2F75-43F7-B43C-C1E1CC41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EA94-882A-4F6E-8D66-BAA335C7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2E23-D2F6-491A-891B-E199E7F48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C977-73B1-441F-8FE8-8D2FB9611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C9FE-02AC-4F11-A627-0A4CDF49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84A-2C64-4FDE-AD78-3F234CC5F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9A18-B5B6-4D23-96A7-59DC76781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19B6-E488-41A7-9FF9-0E6D4E3EC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3C3F7-B0F4-41E0-A0A6-96DFBBCF1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7911-0487-480C-946B-8023A1E3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BEST-SELLING ALBUMS OF 1978 WERE "SATURDAY NIGHT FEVER" AND WHAT OTHER JOHN TRAVOLTA SOUND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GING  C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2000 PRESIDENTIAL ELECTION, WHAT WAS AN INCOMPLETELY PUNCHED HOLE ON A PUNCH CARD BALLO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8588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ENJAMIN FRANKLIN WANT TO BE THE UNITED STATES NATIONAL 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76520" y="735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PRODUCES THE MOST PEANU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  PE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CAST MEMBER ON MAD TV, AND STARRED WITH KEEGAN-MICHAEL KEY IN A COMEDY SERIES, BOTH FOR 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O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GIRL SCOUT COOKIES, AFTER THIN MIN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WAS CALLED KING'S COLLEGE BEFORE THE REVOLUTIONARY W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I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2600280" y="1981080"/>
            <a:ext cx="394344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2000 PRESIDENTIAL ELECTION, WHAT WAS AN INCOMPLETELY PUNCHED HOLE ON A PUNCH CARD BALLO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91652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NEA  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849430-center-3.jpg"/>
          <p:cNvPicPr/>
          <p:nvPr/>
        </p:nvPicPr>
        <p:blipFill>
          <a:blip r:embed="rId1"/>
          <a:stretch/>
        </p:blipFill>
        <p:spPr>
          <a:xfrm>
            <a:off x="3152880" y="1965240"/>
            <a:ext cx="2838240" cy="283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76240" y="762120"/>
            <a:ext cx="73915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BEST-SELLING ALBUMS OF 1978 WERE "SATURDAY NIGHT FEVER" AND WHAT OTHER JOHN TRAVOLTA SOUND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533520" y="4343400"/>
            <a:ext cx="8076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(OR HOMOPHONES)  OF  COUNT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ENJAMIN FRANKLIN WANT TO BE THE UNITED STATES NATIONAL 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PRODUCES THE MOST PEANU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CAST MEMBER ON MAD TV, AND STARRED WITH KEEGAN-MICHAEL KEY IN A COMEDY SERIES, BOTH FOR 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R GIRL SCOUT COOKIES, AFTER THIN MINT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WAS CALLED KING'S COLLEGE BEFORE THE REVOLUTIONARY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LOG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457360" y="2057400"/>
            <a:ext cx="4229280" cy="286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849430-center-3.jpg"/>
          <p:cNvPicPr/>
          <p:nvPr/>
        </p:nvPicPr>
        <p:blipFill>
          <a:blip r:embed="rId1"/>
          <a:stretch/>
        </p:blipFill>
        <p:spPr>
          <a:xfrm>
            <a:off x="2933640" y="2057400"/>
            <a:ext cx="32767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8T02:30:54Z</dcterms:created>
  <dc:creator>Jennifer Budzinski</dc:creator>
  <dc:description/>
  <dc:language>en-US</dc:language>
  <cp:lastModifiedBy>Erich Friedman</cp:lastModifiedBy>
  <dcterms:modified xsi:type="dcterms:W3CDTF">2020-08-27T22:00:40Z</dcterms:modified>
  <cp:revision>349</cp:revision>
  <dc:subject/>
  <dc:title>Slide 1</dc:title>
</cp:coreProperties>
</file>