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E2A-A0C0-4F4D-9DD4-4507FAE58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75F3-D10A-488E-A9B5-929F96D3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858A-80C0-41D3-A247-2BAD4BC70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A21-67F7-4C18-A836-920868F80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6405-7977-4823-8626-8BAD4DA34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77CB-A6FA-491F-AAB4-7FA2A85F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4C38-81D3-4EDE-8F2B-A6B613D91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4B14-3024-462C-83A6-F3E7103F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DCA5-26B8-492A-BF19-C131F79F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7CD-ED70-4EF3-A355-82C29F731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4FFA-8924-4BED-8FD7-1681D681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4DC3-9411-4894-93A3-3BF845BB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8535-AC44-4C67-B34C-7D9B9DC0B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52DB-7934-4876-A036-0DA175F8C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21F2-0C98-4A22-96F7-C4F9B13CC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17ED-188A-4CB3-AE60-C1951B84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12E0-85A7-4472-B81F-E70DEDF9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4F9-8D66-4DCE-89D8-13E7CC690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92D1-8EE1-4929-BFD4-DAFB0BB9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DBDA-92DB-4D88-919D-917A68357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DD28-83AB-4555-9D9E-9743D291F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6346-1895-42DD-8B08-ABA125541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FC3B-9E04-4F03-9FF1-973AF873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BEST-SELLING ALBUMS OF 1978 WERE "SATURDAY NIGHT FEVER" AND WHAT OTHER JOHN TRAVOLTA SOUND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GING  C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2000 PRESIDENTIAL ELECTION, WHAT WAS AN INCOMPLETELY PUNCHED HOLE ON A PUNCH CARD BALLO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8588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ENJAMIN FRANKLIN WANT TO BE THE UNITED STATES NATIONAL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76520" y="7351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PRODUCES THE MOST PEANU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  P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CAST MEMBER ON MAD TV, AND STARRED WITH KEEGAN-MICHAEL KEY IN A COMEDY SERIES, BOTH FOR 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O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GIRL SCOUT COOKIES, AFTER THIN MIN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WAS CALLED KING'S COLLEGE BEFORE THE REVOLUTIONARY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LI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2600280" y="1981080"/>
            <a:ext cx="394344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2000 PRESIDENTIAL ELECTION, WHAT WAS AN INCOMPLETELY PUNCHED HOLE ON A PUNCH CARD BALLO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91652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NEA  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849430-center-3.jpg"/>
          <p:cNvPicPr/>
          <p:nvPr/>
        </p:nvPicPr>
        <p:blipFill>
          <a:blip r:embed="rId1"/>
          <a:stretch/>
        </p:blipFill>
        <p:spPr>
          <a:xfrm>
            <a:off x="3152880" y="1965240"/>
            <a:ext cx="283824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76240" y="762120"/>
            <a:ext cx="73915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BEST-SELLING ALBUMS OF 1978 WERE "SATURDAY NIGHT FEVER" AND WHAT OTHER JOHN TRAVOLTA SOUND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533520" y="434340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(OR HOMOPHONES)  OF 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ENJAMIN FRANKLIN WANT TO BE THE UNITED STATES NATIONAL 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638360" y="7621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PRODUCES THE MOST PEANU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CAST MEMBER ON MAD TV, AND STARRED WITH KEEGAN-MICHAEL KEY IN A COMEDY SERIES, BOTH FOR 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GIRL SCOUT COOKIES, AFTER THIN MIN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WAS CALLED KING'S COLLEGE BEFORE THE REVOLUTIONARY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457360" y="2057400"/>
            <a:ext cx="4229280" cy="28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849430-center-3.jpg"/>
          <p:cNvPicPr/>
          <p:nvPr/>
        </p:nvPicPr>
        <p:blipFill>
          <a:blip r:embed="rId1"/>
          <a:stretch/>
        </p:blipFill>
        <p:spPr>
          <a:xfrm>
            <a:off x="2933640" y="2057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8T02:30:54Z</dcterms:created>
  <dc:creator>Jennifer Budzinski</dc:creator>
  <dc:description/>
  <dc:language>en-US</dc:language>
  <cp:lastModifiedBy>Erich Friedman</cp:lastModifiedBy>
  <dcterms:modified xsi:type="dcterms:W3CDTF">2020-08-27T22:00:40Z</dcterms:modified>
  <cp:revision>349</cp:revision>
  <dc:subject/>
  <dc:title>Slide 1</dc:title>
</cp:coreProperties>
</file>