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F169-1884-41F6-BE5D-660F14050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325E-9192-411B-97F6-9541BD4F1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A232-033F-4BCF-A004-AE6DE24E0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7B56-D33E-48D6-958F-595EDCC5B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CA60-D077-4936-81A6-EBB449984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AB79-D787-49C2-BF72-29AE53598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B644-671C-4231-BCA5-F22C376A0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9357-6498-408E-9043-243D35134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7EFB-5E53-4F3F-AA4E-E303358E3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8F89-B552-4949-89C6-9B93A6634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4B75-1CF5-4111-91EF-567D81234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8D3F-5740-4A9D-9C65-5F6041D07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DD8D-BD40-47B2-9FF7-12F23AFC3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2661-84F9-4009-9810-5AA7A447B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342D-7167-4371-946A-E5B8773AE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3B11-F90F-4B15-A439-190302F2F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C7A8-E966-4A63-847D-AA9A85637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8230-8EF7-47DD-81C4-9AA777906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018A-0DBE-4D55-993A-D4B0B4735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FA4A-CF64-4497-9949-E6AACB01C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FDB5-DBE0-499F-90DC-6EF69881C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8764-C6A7-417B-B5B7-C13455695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D875-2D2F-4023-B516-218971D5D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KETBALL, A BLOCKING MOVE IS KNOWN AS A "PICK" OR WHAT OTHER TER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EGETABLE DID GREGOR MENDEL STUDY TO DISCOVER THE LAWS OF HERED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RSON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YERS-BRIGGS TEST IS AN INVENTORY OF 16 BASIC TYPES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3080" y="762120"/>
            <a:ext cx="8458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RINKING SUPERHERO WITH A TEENY-TINY NAME IS THE ALTER EGO OF DR. RAY PALM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DIF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SUBTRACTION, A NUMBER CALLED THE SUBTRAHEND IS TAKEN AWAY FROM THE MINUEND.  WHAT IS THE RESUL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FINI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IC VERB FORMS ARE FORMED IN ENGLISH BY PUTTING THE WORD "TO" BEFORE THE VER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295280" y="4897440"/>
            <a:ext cx="6553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81160" y="76212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FEATURES THESE CHARAC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3" descr="film__16056-up--hi_res-f5b4368b.jpg"/>
          <p:cNvPicPr/>
          <p:nvPr/>
        </p:nvPicPr>
        <p:blipFill>
          <a:blip r:embed="rId1"/>
          <a:stretch/>
        </p:blipFill>
        <p:spPr>
          <a:xfrm>
            <a:off x="2409840" y="2590920"/>
            <a:ext cx="4324320" cy="21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37160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C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360 DEGREES IN A CIRCLE.  WHAT IS 1/360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A DEGREE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EGETABLE DID GREGOR MENDEL STUDY TO DISCOVER THE LAWS OF HERED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152280" y="1066680"/>
            <a:ext cx="53341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EY ON MOST KEYBOARDS IS RIGHT BELOW THE "HOME" K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300px-Insertpad.svg.png"/>
          <p:cNvPicPr/>
          <p:nvPr/>
        </p:nvPicPr>
        <p:blipFill>
          <a:blip r:embed="rId1"/>
          <a:stretch/>
        </p:blipFill>
        <p:spPr>
          <a:xfrm>
            <a:off x="5715000" y="1676520"/>
            <a:ext cx="321948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KETBALL, A BLOCKING MOVE IS KNOWN AS A "PICK" OR WHAT OTHER TER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914400" y="4876920"/>
            <a:ext cx="73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FOLLOW  "SPLIT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YERS-BRIGGS TEST IS AN INVENTORY OF 16 BASIC TYPES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4920" y="762120"/>
            <a:ext cx="8534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RINKING SUPERHERO WITH A TEENY-TINY NAME IS THE ALTER EGO OF DR. RAY PALM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SUBTRACTION, A NUMBER CALLED THE SUBTRAHEND IS TAKEN AWAY FROM THE MINUEND.  WHAT IS THE RESULT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IC VERB FORMS ARE FORMED IN ENGLISH BY PUTTING THE WORD "TO" BEFORE THE VER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FEATURES THESE CHARAC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2" descr="film__16056-up--hi_res-f5b4368b.jpg"/>
          <p:cNvPicPr/>
          <p:nvPr/>
        </p:nvPicPr>
        <p:blipFill>
          <a:blip r:embed="rId1"/>
          <a:stretch/>
        </p:blipFill>
        <p:spPr>
          <a:xfrm>
            <a:off x="1866960" y="2666880"/>
            <a:ext cx="54100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360 DEGREES IN A CIRCLE.  WHAT IS 1/360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A DEGREE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20600" y="990720"/>
            <a:ext cx="5562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EY ON MOST KEYBOARDS IS RIGHT BELOW THE "HOME" K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300px-Insertpad.svg.png"/>
          <p:cNvPicPr/>
          <p:nvPr/>
        </p:nvPicPr>
        <p:blipFill>
          <a:blip r:embed="rId1"/>
          <a:stretch/>
        </p:blipFill>
        <p:spPr>
          <a:xfrm>
            <a:off x="5715000" y="1676520"/>
            <a:ext cx="32194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9T12:57:43Z</dcterms:created>
  <dc:creator>Jennifer Budzinski</dc:creator>
  <dc:description/>
  <dc:language>en-US</dc:language>
  <cp:lastModifiedBy>Erich Friedman</cp:lastModifiedBy>
  <dcterms:modified xsi:type="dcterms:W3CDTF">2020-08-27T22:02:33Z</dcterms:modified>
  <cp:revision>433</cp:revision>
  <dc:subject/>
  <dc:title>Slide 1</dc:title>
</cp:coreProperties>
</file>