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4F9F-6633-4A8F-AAC9-17A476EB4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6F7F-4E38-43C8-A447-97D4475B5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0695-2B89-48DA-903A-1CA1F02A5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209B-3CF5-481B-BE1A-DA19D587A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5E58-18BD-44E2-A182-7303BE8B1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BC7B-1A7A-44F7-B211-08E95B2D6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5219-5CF8-423C-9EB7-DBD9B6E11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AD44-F0E6-4ECF-B9E7-19BB3C632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80D7-BF08-4D36-AF97-7FF0DD35A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74D2-6C5D-4AD1-9E6A-011F832B9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A86B-6602-4655-B4F0-EF353DAED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D66D-3621-44A2-8921-C4ED1EB76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9ACF-AE3C-43EA-B070-F7D5EAF76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1FC4-43D0-44A8-949D-5B6431F75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9A88-09D6-45BD-856B-F9AD5C221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688D-8395-4B84-91CE-B188C35FA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FFD1-54C8-4CA0-8CF0-A56CB352C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ED5C-7D58-4E87-BBC9-D770FBBCC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9D3C-CD2E-4654-84C3-9E4DC0AD5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5E5A-2E70-4B5A-9CEB-4FD6DE830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2C52-9080-4F7E-BB1D-67C52784A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3B71-B894-4C55-9DC6-00582C1F4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F5F7-F982-41BD-B023-A91D67806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KETBALL, A BLOCKING MOVE IS KNOWN AS A "PICK" OR WHAT OTHER TER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GETABLE DID GREGOR MENDEL STUDY TO DISCOVER THE LAWS OF HERED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SON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YERS-BRIGGS TEST IS AN INVENTORY OF 16 BASIC TYPE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RINKING SUPERHERO WITH A TEENY-TINY NAME IS THE ALTER EGO OF DR. RAY PALM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IF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UBTRACTION, A NUMBER CALLED THE SUBTRAHEND IS TAKEN AWAY FROM THE MINUEND.  WHAT IS THE RESUL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FINI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IC VERB FORMS ARE FORMED IN ENGLISH BY PUTTING THE WORD "TO" BEFORE THE VER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95280" y="489744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FEATURES THESE CHARAC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film__16056-up--hi_res-f5b4368b.jpg"/>
          <p:cNvPicPr/>
          <p:nvPr/>
        </p:nvPicPr>
        <p:blipFill>
          <a:blip r:embed="rId1"/>
          <a:stretch/>
        </p:blipFill>
        <p:spPr>
          <a:xfrm>
            <a:off x="2409840" y="2590920"/>
            <a:ext cx="4324320" cy="21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360 DEGREES IN A CIRCLE.  WHAT IS 1/360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DEGRE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GETABLE DID GREGOR MENDEL STUDY TO DISCOVER THE LAWS OF HERED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152280" y="1066680"/>
            <a:ext cx="53341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Y ON MOST KEYBOARDS IS RIGHT BELOW THE "HOME" 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300px-Insertpad.svg.png"/>
          <p:cNvPicPr/>
          <p:nvPr/>
        </p:nvPicPr>
        <p:blipFill>
          <a:blip r:embed="rId1"/>
          <a:stretch/>
        </p:blipFill>
        <p:spPr>
          <a:xfrm>
            <a:off x="5715000" y="1676520"/>
            <a:ext cx="32194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KETBALL, A BLOCKING MOVE IS KNOWN AS A "PICK" OR WHAT OTHER TE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914400" y="487692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FOLLOW  "SPLI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YERS-BRIGGS TEST IS AN INVENTORY OF 16 BASIC TYPES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RINKING SUPERHERO WITH A TEENY-TINY NAME IS THE ALTER EGO OF DR. RAY PALM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UBTRACTION, A NUMBER CALLED THE SUBTRAHEND IS TAKEN AWAY FROM THE MINUEND.  WHAT IS THE RESUL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IC VERB FORMS ARE FORMED IN ENGLISH BY PUTTING THE WORD "TO" BEFORE THE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FEATURES THESE CHARAC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film__16056-up--hi_res-f5b4368b.jpg"/>
          <p:cNvPicPr/>
          <p:nvPr/>
        </p:nvPicPr>
        <p:blipFill>
          <a:blip r:embed="rId1"/>
          <a:stretch/>
        </p:blipFill>
        <p:spPr>
          <a:xfrm>
            <a:off x="1866960" y="2666880"/>
            <a:ext cx="54100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360 DEGREES IN A CIRCLE.  WHAT IS 1/360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DEGRE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0600" y="990720"/>
            <a:ext cx="5562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Y ON MOST KEYBOARDS IS RIGHT BELOW THE "HOME" K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300px-Insertpad.svg.png"/>
          <p:cNvPicPr/>
          <p:nvPr/>
        </p:nvPicPr>
        <p:blipFill>
          <a:blip r:embed="rId1"/>
          <a:stretch/>
        </p:blipFill>
        <p:spPr>
          <a:xfrm>
            <a:off x="5715000" y="1676520"/>
            <a:ext cx="32194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9T12:57:43Z</dcterms:created>
  <dc:creator>Jennifer Budzinski</dc:creator>
  <dc:description/>
  <dc:language>en-US</dc:language>
  <cp:lastModifiedBy>Erich Friedman</cp:lastModifiedBy>
  <dcterms:modified xsi:type="dcterms:W3CDTF">2020-08-27T22:02:33Z</dcterms:modified>
  <cp:revision>433</cp:revision>
  <dc:subject/>
  <dc:title>Slide 1</dc:title>
</cp:coreProperties>
</file>