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8242-9AB1-4763-84D8-1ABC306BD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3B75-4276-4C56-8C23-CD46F723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6423-61CE-4471-AD61-EE6549B9C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C3F-9515-443A-B367-3B3F786B3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80A5-185B-4D8B-831C-B58486799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5839-50FC-4C6A-B7F8-FB6FEBEF9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CF99-688F-450B-B154-806BCE03B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0E1BE-A4CC-4188-8DD7-0208D0D7F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8D16-C1F9-4AD8-A7D3-AE8581C78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7A32-2AB3-4AE1-A83A-44D3A39D9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84E9-C4C9-473B-9B50-56E93CAF1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2A30-FE5D-46DB-A422-7292DEA23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074-B7CC-458C-A24A-02FA91ED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31C-D352-4B7D-B50C-8F5355A56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21EB-6A7D-478B-89D8-E2EDEFBF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A9389-896E-4507-816A-2009D534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9C81-78FD-4BFB-BBCF-435D107F5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7C3C-11B3-4710-BA31-3AC1B0BDE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713C-1BA4-4120-B87B-F16731018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E706-0CB9-45FA-A5B7-08CC6D57B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6DD3-9108-4A5D-9715-87F28BDD6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3572-BC67-4269-9BBC-6AF12FF55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E589-EE21-48AA-985A-ACC0586B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A BLOCKING MOVE IS KNOWN AS A "PICK" OR WHAT OTHER TER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DID GREGOR MENDEL STUDY TO DISCOVER THE LAWS OF HERED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YERS-BRIGGS TEST IS AN INVENTORY OF 16 BASIC TYP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RINKING SUPERHERO WITH A TEENY-TINY NAME IS THE ALTER EGO OF DR. RAY PAL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BTRACTION, A NUMBER CALLED THE SUBTRAHEND IS TAKEN AWAY FROM THE MINUEND.  WHAT IS THE RESUL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FINI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IC VERB FORMS ARE FORMED IN ENGLISH BY PUTTING THE WORD "TO" BEFORE THE VER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295280" y="4897440"/>
            <a:ext cx="6553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FEATURES THESE CHARAC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film__16056-up--hi_res-f5b4368b.jpg"/>
          <p:cNvPicPr/>
          <p:nvPr/>
        </p:nvPicPr>
        <p:blipFill>
          <a:blip r:embed="rId1"/>
          <a:stretch/>
        </p:blipFill>
        <p:spPr>
          <a:xfrm>
            <a:off x="2409840" y="2590920"/>
            <a:ext cx="4324320" cy="21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360 DEGREES IN A CIRCLE.  WHAT IS 1/36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GETABLE DID GREGOR MENDEL STUDY TO DISCOVER THE LAWS OF HERED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152280" y="1066680"/>
            <a:ext cx="53341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MOST KEYBOARDS IS RIGHT BELOW THE "HOME" K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4" descr="300px-Insertpad.svg.png"/>
          <p:cNvPicPr/>
          <p:nvPr/>
        </p:nvPicPr>
        <p:blipFill>
          <a:blip r:embed="rId1"/>
          <a:stretch/>
        </p:blipFill>
        <p:spPr>
          <a:xfrm>
            <a:off x="5715000" y="1676520"/>
            <a:ext cx="321948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ASKETBALL, A BLOCKING MOVE IS KNOWN AS A "PICK" OR WHAT OTHER TE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914400" y="4876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SPLI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YERS-BRIGGS TEST IS AN INVENTORY OF 16 BASIC TYP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HRINKING SUPERHERO WITH A TEENY-TINY NAME IS THE ALTER EGO OF DR. RAY PAL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BTRACTION, A NUMBER CALLED THE SUBTRAHEND IS TAKEN AWAY FROM THE MINUEND.  WHAT IS THE RESUL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IC VERB FORMS ARE FORMED IN ENGLISH BY PUTTING THE WORD "TO" BEFORE THE VER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 FEATURES THESE CHARAC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film__16056-up--hi_res-f5b4368b.jpg"/>
          <p:cNvPicPr/>
          <p:nvPr/>
        </p:nvPicPr>
        <p:blipFill>
          <a:blip r:embed="rId1"/>
          <a:stretch/>
        </p:blipFill>
        <p:spPr>
          <a:xfrm>
            <a:off x="1866960" y="2666880"/>
            <a:ext cx="5410080" cy="27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360 DEGREES IN A CIRCLE.  WHAT IS 1/360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DEGREE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0600" y="990720"/>
            <a:ext cx="556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Y ON MOST KEYBOARDS IS RIGHT BELOW THE "HOME" K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300px-Insertpad.svg.png"/>
          <p:cNvPicPr/>
          <p:nvPr/>
        </p:nvPicPr>
        <p:blipFill>
          <a:blip r:embed="rId1"/>
          <a:stretch/>
        </p:blipFill>
        <p:spPr>
          <a:xfrm>
            <a:off x="5715000" y="1676520"/>
            <a:ext cx="32194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9T12:57:43Z</dcterms:created>
  <dc:creator>Jennifer Budzinski</dc:creator>
  <dc:description/>
  <dc:language>en-US</dc:language>
  <cp:lastModifiedBy>Erich Friedman</cp:lastModifiedBy>
  <dcterms:modified xsi:type="dcterms:W3CDTF">2020-08-27T22:02:33Z</dcterms:modified>
  <cp:revision>433</cp:revision>
  <dc:subject/>
  <dc:title>Slide 1</dc:title>
</cp:coreProperties>
</file>