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BF94-0EFB-4DAA-AE7D-CE071E6D3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CF7E-4559-4E66-9213-A438B7C9A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7010-8F21-452D-962E-773BAA9F8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8830-F422-4556-9844-12A9F2408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C2E7-6146-437D-B7FE-044CE4373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AB9D-8539-4CAD-8882-C537577FF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BAB3-5E80-45E9-AF26-4F85974D5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BBC5-72B2-4393-8B0C-2254E541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E955-B7E1-4596-89F8-DD5083B58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B4E9-C12E-42A6-8B7F-AEABF0592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5A7B-87E3-4AAE-BDED-CC4D665B4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3486-DB42-4576-9FC8-064812628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A10E-B557-4BB7-BD53-1F95977DB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5499-7BA6-4B00-A2E8-BB15B54E5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4335-608E-4657-881B-0833B7930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03C7-67FF-4BE1-A955-1A238CA02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028C-BAFB-4A84-8130-AD90B0F0C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AD6F-8B09-4BE3-A85A-B18AB66E8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AB12-8365-4DEE-ABF8-BE45A195E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61EB-6B01-4732-ADD3-36A0E6288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9BAE-B093-48FD-AE02-1EE6939C5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6D86-042B-45CF-AB68-501870FF8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67DB-60B5-4347-B7A4-F5CAE8C0A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52520" y="1066680"/>
            <a:ext cx="64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RETRO" MUSICIAN WON THE GRAMMY AWARD FOR  BEST MALE ROCK VOCAL PERFORMANCE EVERY   YEAR FROM 1999 TO 200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RODRIGU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68580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 BASEBALL PLAYER HAS THE HIGHEST CAREER EARN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ZZ  ALD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68580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WALK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NOLD  SCHWARZENE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9640" y="685800"/>
            <a:ext cx="7524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MAN TO BECOME MR. UNIVERSE AND A STATE GOVER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RON  DI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2160" y="685800"/>
            <a:ext cx="8959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 GOLDEN GLOBE FOR BEST ACTRESS FOR "THERE'S SOMETHING ABOUT M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OOEY  DESCH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28560" y="685800"/>
            <a:ext cx="7886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HE 2011-2018 TV SERIES "NEW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90400" y="685800"/>
            <a:ext cx="7963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OSCARS FOR "WHO'S AFRAID OF VIRGINIA WOOLF?" AND "BUTTERFIELD 8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ON  MR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6680" y="68580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REMEDY" AND "I'M YOU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 BASEBALL PLAYER HAS THE HIGHEST CAREER EARN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CHARY  QU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19160" y="685800"/>
            <a:ext cx="7105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IN THE 2009, 2013, AND 2016 "STAR TREK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NY  KRAVI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RETRO" MUSICIAN WON THE GRAMMY AWARD FOR  BEST MALE ROCK VOCAL PERFORMANCE EVERY   YEAR FROM 1999 TO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28680" y="4876920"/>
            <a:ext cx="6686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HE  LETTER  "Z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WALK ON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MAN TO BECOME MR. UNIVERSE AND A STATE GOVER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 GOLDEN GLOBE FOR BEST ACTRESS FOR "THERE'S SOMETHING ABOUT M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HE 2011-2018 TV SERIES "NEW GIR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OSCARS FOR "WHO'S AFRAID OF VIRGINIA WOOLF?" AND "BUTTERFIELD 8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47600" y="761760"/>
            <a:ext cx="704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REMEDY" AND "I'M YOU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81000" y="762120"/>
            <a:ext cx="7182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IN THE 2009, 2013, AND 2016 "STAR TREK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27T22:03:25Z</dcterms:modified>
  <cp:revision>414</cp:revision>
  <dc:subject/>
  <dc:title>Slide 1</dc:title>
</cp:coreProperties>
</file>