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C7C0-C07F-4CFE-AC64-9FF6EA876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5420-3EA5-4467-BF94-A6EDC077E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A6C9-725D-42A4-89C5-C4E3FD27F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B5E3-861E-4E85-9E72-0BFE7C069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A767-34D7-4823-986F-D709EE2CE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B218-CE13-4FE6-80C4-74AADC0C3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97F5-4B27-4B5F-AB8D-58ABCAFF3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D99D-E776-40CA-8220-9C538B001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8573-64B3-40BC-BD0A-5C80E64D1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CE16-0396-405B-8C04-80DD9D0DB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84B6-6456-4B11-BED1-0289F50CD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5395-5602-4FBE-8D67-5A04CC441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83C9-C325-49CB-9967-2EE493ECD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74B5-AA57-4F88-8378-C9ADFDBE4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490D-238C-4705-BE81-03AB8430C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6AF9-1F5B-457D-BEF6-22E3D614F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D44A-5779-4DEB-B0B5-8FC5A537C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5C0B-3AD3-4999-BCC4-0FE627445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9548-6C9F-4340-A984-0E2693A4D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B1C0-CD9B-46DC-8B59-EC3DD3AE0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A679-916C-4C3E-BFDE-64F7E39EA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E9D4-496E-4511-AB2F-09A68B936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70AC-AF55-4AEB-995E-456B90BD0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52520" y="1066680"/>
            <a:ext cx="6438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94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RETRO" MUSICIAN WON THE GRAMMY AWARD FOR  BEST MALE ROCK VOCAL PERFORMANCE EVERY   YEAR FROM 1999 TO 200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RODRIGU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68580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 BASEBALL PLAYER HAS THE HIGHEST CAREER EARN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ZZ  ALD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68580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MAN TO WALK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NOLD  SCHWARZENE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9640" y="685800"/>
            <a:ext cx="75247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MAN TO BECOME MR. UNIVERSE AND A STATE GOVER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RON  DI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2160" y="685800"/>
            <a:ext cx="8959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 GOLDEN GLOBE FOR BEST ACTRESS FOR "THERE'S SOMETHING ABOUT M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OOEY  DESCHA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28560" y="685800"/>
            <a:ext cx="7886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THE 2011-2018 TV SERIES "NEW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90400" y="685800"/>
            <a:ext cx="7963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OSCARS FOR "WHO'S AFRAID OF VIRGINIA WOOLF?" AND "BUTTERFIELD 8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SON  MR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66680" y="68580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REMEDY" AND "I'M YOU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 BASEBALL PLAYER HAS THE HIGHEST CAREER EARN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ACHARY  QU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19160" y="685800"/>
            <a:ext cx="7105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OCK IN THE 2009, 2013, AND 2016 "STAR TREK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NNY  KRAVI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RETRO" MUSICIAN WON THE GRAMMY AWARD FOR  BEST MALE ROCK VOCAL PERFORMANCE EVERY   YEAR FROM 1999 TO 20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28680" y="4876920"/>
            <a:ext cx="6686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HE  LETTER  "Z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MAN TO WALK ON THE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MAN TO BECOME MR. UNIVERSE AND A STATE GOVER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 GOLDEN GLOBE FOR BEST ACTRESS FOR "THERE'S SOMETHING ABOUT M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THE 2011-2018 TV SERIES "NEW GIR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OSCARS FOR "WHO'S AFRAID OF VIRGINIA WOOLF?" AND "BUTTERFIELD 8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47600" y="761760"/>
            <a:ext cx="7048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REMEDY" AND "I'M YOU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81000" y="762120"/>
            <a:ext cx="7182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OCK IN THE 2009, 2013, AND 2016 "STAR TREK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27T22:03:25Z</dcterms:modified>
  <cp:revision>414</cp:revision>
  <dc:subject/>
  <dc:title>Slide 1</dc:title>
</cp:coreProperties>
</file>