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33D7-D806-45EC-B800-49DF42204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D88A-C501-4CEE-893C-3BF7C2EDB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7BDE-45DF-4572-B5BA-AD1548D6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3A20-F989-4FC0-A2BF-95D1F883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0D82-1EE6-4122-BCF8-EE6B6422F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8F2A-030D-4EE6-B747-52E87D338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511F-30F2-4052-A9BE-811CA68C7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9245-4308-4198-ABB7-617267326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3CE0-947B-4EF8-8553-16175AE6A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BBAA-9F0A-45F0-B4B7-578FE94D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54B9-9BF5-4648-B899-5215D49E0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7C71-4A79-4D31-9F38-F2267E72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E43E-7D36-48D4-A854-2F9F60653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CD90-13B5-4C69-AF6E-0671E088C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6055-5E57-4948-9232-5DED7AC0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2062-AB8E-49C0-A124-0817E23A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79BF-5232-4B5D-8FF6-ADF6B2F77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F3DD-C87A-4AF9-88A3-16B1BA890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A2EF-567E-43B7-A20A-4945FDB5F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2FDF-567E-4ED1-8090-DC3D354BE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1AEC-7509-4ACA-8053-D1F38807C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FDCA-5614-4E29-8A09-FC076EF6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E083-17C5-4C2B-A45F-35F69C4C2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52520" y="10666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TRO" MUSICIAN WON THE GRAMMY AWARD FOR  BEST MALE ROCK VOCAL PERFORMANCE EVERY   YEAR FROM 1999 TO 200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68580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 BASEBALL PLAYER HAS THE HIGHEST CAREER EARN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ZZ  ALD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68580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SCHWARZENE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9640" y="685800"/>
            <a:ext cx="7524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AN TO BECOME MR. UNIVERSE AND A STATE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2160" y="685800"/>
            <a:ext cx="8959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GOLDEN GLOBE FOR BEST ACTRESS FOR "THERE'S SOMETHING ABOUT M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OEY  DES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685800"/>
            <a:ext cx="7886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2011-2018 TV SERIES "NEW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685800"/>
            <a:ext cx="796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OSCARS FOR "WHO'S AFRAID OF VIRGINIA WOOLF?" AND "BUTTERFIELD 8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M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68580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EMEDY" AND "I'M Y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 BASEBALL PLAYER HAS THE HIGHEST CAREER EARN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ARY  QU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19160" y="685800"/>
            <a:ext cx="710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NY  KRAV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TRO" MUSICIAN WON THE GRAMMY AWARD FOR  BEST MALE ROCK VOCAL PERFORMANCE EVERY   YEAR FROM 1999 TO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28680" y="4876920"/>
            <a:ext cx="668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E  LETTER  "Z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AN TO BECOME MR. UNIVERSE AND A STATE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GOLDEN GLOBE FOR BEST ACTRESS FOR "THERE'S SOMETHING ABOUT M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2011-2018 TV SERIES "NEW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OSCARS FOR "WHO'S AFRAID OF VIRGINIA WOOLF?" AND "BUTTERFIELD 8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EMEDY" AND "I'M Y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7T22:03:25Z</dcterms:modified>
  <cp:revision>414</cp:revision>
  <dc:subject/>
  <dc:title>Slide 1</dc:title>
</cp:coreProperties>
</file>