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3488-DE76-4D2D-90F8-EAE03D961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3DCE-00FE-48B5-A89E-08267E03D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D4C0-CDB9-44B8-B1C9-24D884836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8E3A-B9CF-4690-B353-8FEA1BED6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DFEC-F0CB-4D68-A428-C689CBAAA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C17F-18E7-40F5-B98E-88E3CABE6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521F-2899-4DAB-806C-F71AB61FB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D5FF-CC31-4493-AB77-4FE3C8B18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36A1-DD06-4F09-BC4B-FD7BF7A6C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8021-F512-4154-A188-096F6F581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D293-FF5D-4EA2-AFEF-77F5BE662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0C12-D772-4351-A60A-28AB2EBC0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927B-2EF2-4C8A-947F-7B68CA25E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39D7-CA8D-486F-B92A-EB4C00FF6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4580-5697-4C98-AA2D-2B7B9D07B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3436-F734-44DF-A9A4-78630AC08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33E2-2AE8-4DF4-818F-FF05E2EA5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57F2-CD69-44EE-BEEC-568DC652F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5E59-D4F0-49E8-952D-35284B411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9694-C2DC-49E5-9B9B-C71313212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BF14-419A-4CE0-94B6-CFD106988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5681-0C7B-41E8-8740-E841B6846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BE75-8D9E-4A29-83E6-DC9AE1AB8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BASSADOR FOR ORANGE JUICE FOR 10 YEARS BECAME AN OUTSPOKEN OPPONENT OF GAY RIGH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  JOH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CAME PRESIDENT WHEN ABRAHAM LINCOLN WAS ASSASSIN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R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BORDERS ISRAEL AND SAUDI ARAB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43000" y="762120"/>
            <a:ext cx="6858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6 DIFFERENT U.S. PRESID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RT  RUSS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 "ESCAPE FROM NEW YORK", AND 15 YEARS LATER, "ESCAPE FROM L.A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D  ON  A  W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8120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FILM STARRED MEL GIBSON AS A MAN IN WITNESS PROTECTION, AND GOLDIE HAWN AS HIS EX WHO RECOGNIZES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VILLE  CHAMBERL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OF THE U.K. WHEN WWII STARTED, AND IS CHIEFLY REMEMBERED NOW FOR HIS POLICY OF APPEAS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NCAN  H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28600" y="762120"/>
            <a:ext cx="868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ONEER OF RATING RESTAURANTS FOR TRAVELERS LENDS HIS NAME TO A BRAND OF DESSERT MIXES, FILLINGS, AND FROST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CAME PRESIDENT WHEN ABRAHAM LINCOLN WAS ASSASSIN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YAN  O'N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A BEST ACTOR OSCAR FOR HIS ROLE IN "LOVE ST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ITA  BRY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BASSADOR FOR ORANGE JUICE FOR 10 YEARS BECAME AN OUTSPOKEN OPPONENT OF GAY RIGH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343400"/>
            <a:ext cx="6705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164520" indent="-164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BASKETBALL  GRE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BORDERS ISRAEL AND SAUDI ARAB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6 DIFFERENT U.S. PRESID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 "ESCAPE FROM NEW YORK", AND 15 YEARS LATER, "ESCAPE FROM L.A.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FILM STARRED MEL GIBSON AS A MAN IN WITNESS PROTECTION, AND GOLDIE HAWN AS HIS EX WHO RECOGNIZES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  OF THE U.K. WHEN WWII STARTED, AND IS CHIEFLY REMEMBERED NOW FOR HIS POLICY OF APPEAS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ONEER OF RATING RESTAURANTS FOR TRAVELERS LENDS HIS NAME TO A BRAND OF DESSERT MIXES, FILLINGS, AND FROST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A BEST ACTOR OSCAR FOR HIS ROLE IN "LOVE ST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22:50:46Z</dcterms:created>
  <dc:creator>Jennifer Budzinski</dc:creator>
  <dc:description/>
  <dc:language>en-US</dc:language>
  <cp:lastModifiedBy>Erich Friedman</cp:lastModifiedBy>
  <dcterms:modified xsi:type="dcterms:W3CDTF">2020-08-27T23:16:36Z</dcterms:modified>
  <cp:revision>419</cp:revision>
  <dc:subject/>
  <dc:title>Slide 1</dc:title>
</cp:coreProperties>
</file>