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A989-9BAB-4496-BF6B-53053F701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395-0C6B-49BB-B58F-F0D7770F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7BB0-F2FE-4B5E-875E-40BCD7C0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80A2-FD1F-49A5-A420-47E31304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985F-A5CD-4CB5-A673-B82029A7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B04A-26CA-4F4F-8B6A-55B68086A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1B25-CE43-4734-BA11-7C252F9D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365-A2F4-40CF-82F8-2E7AF7AF7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1BC4-79E7-4C18-9FB9-30381EA5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1306-732C-418E-81AF-78D26302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D779-BC7F-4787-96C0-442BA922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593-8133-4B86-8FE2-686C02DC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A21B-B45D-41BE-8C00-F62092F2F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BDA3-6C1C-4790-8BF6-F1D900F6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619B-109E-4679-A01C-8373018CE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A6B-F463-4065-B60E-D65C8289A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2BFD-CE30-4624-8F31-FE1647EB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1056-311F-4E34-820C-DDC8C103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4F25-A6F1-407C-A4F1-42BB89BA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CE9D-F3FF-48F3-8732-967D399D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6697-1B78-43A3-B40D-81ACD75D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F6D1-AA2E-4405-8407-E202B3D5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65C9-BA6B-40EA-B6C7-3AC4459D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BASSADOR FOR ORANGE JUICE FOR 10 YEARS BECAME AN OUTSPOKEN OPPONENT OF GAY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WHEN ABRAHAM LINCOLN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SRAEL AND SAUDI ARA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6 DIFFERENT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"ESCAPE FROM NEW YORK", AND 15 YEARS LATER, "ESCAPE FROM L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  ON  A  W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8120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STARRED MEL GIBSON AS A MAN IN WITNESS PROTECTION, AND GOLDIE HAWN AS HIS EX WHO RECOGNIZES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ILLE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WHEN WWII STARTED, AND IS CHIEFLY REMEMBERED NOW FOR HIS POLICY OF APPEAS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CAN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ONEER OF RATING RESTAURANTS FOR TRAVELERS LENDS HIS NAME TO A BRAND OF DESSERT MIXES, FILLINGS, AND FROS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WHEN ABRAHAM LINCOLN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O'N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BEST ACTOR OSCAR FOR HIS ROLE IN "LOVE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TA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BASSADOR FOR ORANGE JUICE FOR 10 YEARS BECAME AN OUTSPOKEN OPPONENT OF GAY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BASKETBALL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SRAEL AND SAUDI ARA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6 DIFFERENT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"ESCAPE FROM NEW YORK", AND 15 YEARS LATER, "ESCAPE FROM L.A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STARRED MEL GIBSON AS A MAN IN WITNESS PROTECTION, AND GOLDIE HAWN AS HIS EX WHO RECOGNIZES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THE U.K. WHEN WWII STARTED, AND IS CHIEFLY REMEMBERED NOW FOR HIS POLICY OF APPEAS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ONEER OF RATING RESTAURANTS FOR TRAVELERS LENDS HIS NAME TO A BRAND OF DESSERT MIXES, FILLINGS, AND FROS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BEST ACTOR OSCAR FOR HIS ROLE IN "LOVE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22:50:46Z</dcterms:created>
  <dc:creator>Jennifer Budzinski</dc:creator>
  <dc:description/>
  <dc:language>en-US</dc:language>
  <cp:lastModifiedBy>Erich Friedman</cp:lastModifiedBy>
  <dcterms:modified xsi:type="dcterms:W3CDTF">2020-08-27T23:16:36Z</dcterms:modified>
  <cp:revision>419</cp:revision>
  <dc:subject/>
  <dc:title>Slide 1</dc:title>
</cp:coreProperties>
</file>