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58C1-65BB-4FAF-B592-B6B780FD7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AB3-41B2-4C0F-B4C9-82CD2D5F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A2F-ABEB-4410-B57F-3D17BCF6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F23-463A-4357-831B-154A49EA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F457-C3F7-4845-88E9-B3CA11C9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A68D-520B-4F35-86D1-DB64651C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326-D9AB-4CAE-AEAB-733AE0E4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AD8-CF33-4C1E-BD19-66DEEF0D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DD6-8E21-4A47-9DFB-85C513C1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51D-1A38-4569-9DEA-89F300BE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57D-C543-403E-929E-1762A11F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8DD2-78AE-494D-80B5-C0FA4DF0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7944-D3B7-405C-B195-74131FF0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F5EA-ABF6-49A1-9CDC-085AA51C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62EF-A9FC-4391-9F93-0ECA7842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212F-8360-4F73-BCD2-51D61FBA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F25-D287-4719-9181-86867824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EA9-B29E-4684-8FAF-2B10E078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975-197C-49E0-9D72-C38F8E90E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51B-412A-42D5-B2A4-DCAE8F65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E71-77F2-4B80-98B5-30D8A8D2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096-7DA5-4397-9D0F-2F5C00B5B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E41-19AB-4124-8E4B-97FB6E7F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  ON  A 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8120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ILLE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WHEN WWII STARTED, AND IS CHIEFLY REMEMBERED NOW FOR HIS POLICY OF APPEAS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CAN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O'N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TA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ASKE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THE U.K. WHEN WWII STARTED, AND IS CHIEFLY REMEMBERED NOW FOR HIS POLICY OF APPEAS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22:50:46Z</dcterms:created>
  <dc:creator>Jennifer Budzinski</dc:creator>
  <dc:description/>
  <dc:language>en-US</dc:language>
  <cp:lastModifiedBy>Erich Friedman</cp:lastModifiedBy>
  <dcterms:modified xsi:type="dcterms:W3CDTF">2020-08-27T23:16:36Z</dcterms:modified>
  <cp:revision>419</cp:revision>
  <dc:subject/>
  <dc:title>Slide 1</dc:title>
</cp:coreProperties>
</file>