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DDD-5ABF-4850-93AB-DB8FF367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936-0446-43E5-81A4-9A9965CC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6F6E-C45B-403C-9994-9163541E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09A5-5C3B-4CBB-883A-FA3BC2F2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0311-80C9-4545-826C-A0BFC442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8F6-7C12-4E1D-90B4-F4B6183B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853D-DFA2-4AE9-93EB-E51A27F8C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75A-77A0-4D76-9389-1B99793E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BDD2-2738-4319-9477-0825B51F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06A-DF51-420C-B832-66127B01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052-677A-42B8-8364-D40394DD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32D-4DF7-4875-98C6-783C7E2E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980-AD27-48DC-9F0B-AA6F966C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844-CF17-41E2-9D44-76E7AFEE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93F4-BFBB-4E47-AE6E-9CF306F4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8A3-528B-44E1-A204-61D65030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E7D-5745-476D-A90E-CCC20A74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6EFC-0FDC-4045-AF64-25D097A8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A2DA-AE34-42E9-AC8A-35FAFE70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BDA-562F-44EB-82C1-8A2E12A3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03B5-43CF-4226-9585-068CF625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BBA-D120-4363-A0E2-315FB4E4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175-FD5C-49F2-B79F-20644D54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QU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.A.S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LIKE  A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AND  THE  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S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4:17:51Z</dcterms:created>
  <dc:creator>Jennifer Budzinski</dc:creator>
  <dc:description/>
  <dc:language>en-US</dc:language>
  <cp:lastModifiedBy>Erich Friedman</cp:lastModifiedBy>
  <dcterms:modified xsi:type="dcterms:W3CDTF">2020-08-27T23:19:58Z</dcterms:modified>
  <cp:revision>418</cp:revision>
  <dc:subject/>
  <dc:title>Slide 1</dc:title>
</cp:coreProperties>
</file>