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8E07-5C6C-427E-83DC-808BE359F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BDFC-05D5-461E-97A8-A55A1AF69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DECF-74B8-4C84-9966-77B626331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0F72-C762-4D64-AE4B-507CD54E5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B98A-EADD-485A-9127-612E946FE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B7EC-F591-4733-ADB6-E6976CE06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5A5B-61CE-4C3E-91F8-E2AF0B2FF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4431-B014-4C3D-B7B3-F499E3036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40CB-0422-4F07-9C81-8D7201F1D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EE35-FC37-4BB6-B2E4-03CAAB994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0390-95F1-4290-8EC8-66CFA51FD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1BDE-FE01-4EF3-89C1-F4F02B6BC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986D-4E94-4C29-BAD7-479B7C868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96DF-C645-4CF5-BBBF-13CE4657E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2F62-5F64-400A-9184-E303C4D4D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D385-7E6D-46ED-97BF-15DA746A6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F779-1F9C-4E0B-B999-D0D904B0E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1313-4289-4C1E-B9A6-B90B8F191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0513-33FC-44E4-9799-55B04C55C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37671-A985-409B-92F4-5AC678BC5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39AF-9D19-49E8-8BBD-A5A578E28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49D8-80C2-4FC4-A6ED-B57E3ECB6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0B0B-A5A0-4019-9CF8-4B953BD52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BAND SANG "GETTING AWAY WITH MURDER", "LAST RESORT", "BORN FOR GREAT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SQU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BOOMBOX", "RAIN SONG", AND "SUNSHINE BARAT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E  G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TAYIN' AL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OLD ALMOST A TRILLION REC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UGAR RAY'S FIR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.A.S.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BAND SANG "ANIMAL", "THE IDOL", AND "I WANNA BE SOMEBO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IS  LIKE  A  BUTTER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LLY PARTON SONG WAS HER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HIT, AFTER "JOSHUA", "JOLENE", AND "I WILL ALWAYS LOVE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RI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0'S GROUP CONSISTED OF BUDDY HOLLY, JERRY ALLISON, AND JOE B. MAULD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BOOMBOX", "RAIN SONG", AND "SUNSHINE BARAT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M  AND  THE  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ROCK GROUP SANG "STAND AND DELIVER", "PRINCE CHARMING", AND "GOODY TWO SHO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A  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BAND SANG "GETTING AWAY WITH MURDER", "LAST RESORT", "BORN FOR GREAT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INS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TAYIN' AL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OLD ALMOST A TRILLION REC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UGAR RAY'S FIRST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BAND SANG "ANIMAL", "THE IDOL", AND "I WANNA BE SOMEBO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LLY PARTON SONG WAS HER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#1 HIT, AFTER "JOSHUA", "JOLENE", AND "I WILL ALWAYS LOVE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50'S GROUP CONSISTED OF BUDDY HOLLY, JERRY ALLISON, AND JOE B. MAULD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ROCK GROUP SANG "STAND AND DELIVER", "PRINCE CHARMING", AND "GOODY TWO SHO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4:17:51Z</dcterms:created>
  <dc:creator>Jennifer Budzinski</dc:creator>
  <dc:description/>
  <dc:language>en-US</dc:language>
  <cp:lastModifiedBy>Erich Friedman</cp:lastModifiedBy>
  <dcterms:modified xsi:type="dcterms:W3CDTF">2020-08-27T23:19:58Z</dcterms:modified>
  <cp:revision>418</cp:revision>
  <dc:subject/>
  <dc:title>Slide 1</dc:title>
</cp:coreProperties>
</file>