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0DE8-8D6F-4286-83C0-BF22AB28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5751-926A-44F8-AB80-1EC5DE34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4E9A-D123-4EE3-8A29-AC03E2F9E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A3C3-9324-4A08-A8D8-B2A850B1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1A29-6C72-4014-8638-54A3B813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6E91-20A8-45A1-9AF8-284D48F6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43A2-DED2-4B17-B6DB-B4A342336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0A9-A0EA-4DFF-9763-8E67D396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B916-9E76-47FB-9248-9CF1B36F4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8DAE-DB9A-4348-8362-2FD7EA6B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1B0A-28D1-47EE-9B56-F2AC3E823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E58-CE3F-4373-A01B-9DA7C9A3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714A-3C40-4180-BA1D-FA721913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0F50-73EE-4574-972D-F86CD40D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9C77-3BA2-419C-B766-43E3FD50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318A-80BA-4499-9E6D-C4F688AE4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3911-F5FA-4A12-A404-D354F9D6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98EC-E00E-4748-B70F-7A2FBD7C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CA28-2F34-466E-ABAA-227A1CF22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3185-9F85-41F8-B1FE-AEF11A21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532C-CDFB-4C7D-A686-96CEEE05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0C08-7DBF-44C9-9B70-9F12F48D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AA0-1D33-4EC9-8F02-E46CD2C6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GETTING AWAY WITH MURDER", "LAST RESORT", "BORN FOR GREAT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QU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OOMBOX", "RAIN SONG", AND "SUNSHINE BARAT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TAYIN'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OLD ALMOST A TR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UGAR RAY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.A.S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ANIMAL", "THE IDOL", AND "I WANNA BE SOMEBO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LIKE  A 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LLY PARTON SONG WAS HER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, AFTER "JOSHUA", "JOLENE", AND "I WILL ALWAYS LOVE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GROUP CONSISTED OF BUDDY HOLLY, JERRY ALLISON, AND JOE B. MAUL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OOMBOX", "RAIN SONG", AND "SUNSHINE BARAT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AND  THE  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CK GROUP SANG "STAND AND DELIVER", "PRINCE CHARMING", AND "GOODY TWO SH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  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GETTING AWAY WITH MURDER", "LAST RESORT", "BORN FOR GREAT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INS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TAYIN'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OLD ALMOST A TR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UGAR RAY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ANIMAL", "THE IDOL", AND "I WANNA BE SOMEBO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LLY PARTON SONG WAS HER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, AFTER "JOSHUA", "JOLENE", AND "I WILL ALWAYS LOVE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GROUP CONSISTED OF BUDDY HOLLY, JERRY ALLISON, AND JOE B. MAULD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CK GROUP SANG "STAND AND DELIVER", "PRINCE CHARMING", AND "GOODY TWO SHO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4:17:51Z</dcterms:created>
  <dc:creator>Jennifer Budzinski</dc:creator>
  <dc:description/>
  <dc:language>en-US</dc:language>
  <cp:lastModifiedBy>Erich Friedman</cp:lastModifiedBy>
  <dcterms:modified xsi:type="dcterms:W3CDTF">2020-08-27T23:19:58Z</dcterms:modified>
  <cp:revision>418</cp:revision>
  <dc:subject/>
  <dc:title>Slide 1</dc:title>
</cp:coreProperties>
</file>