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2779-C8B0-4288-A515-273023F1E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A55B-331C-4A6C-B49B-BCBD58A81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B90B-99EB-4158-B3AC-E0DC5137B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55A3-F941-4197-A64D-ED05C67C5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E9AB-B13F-4F37-A3F4-C753A557E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3802-9FB2-4BE0-B957-BD766A287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6B1D-DA4F-4F12-9D0B-5CE00660C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F3DA-040D-4629-9FD9-FB42F0400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B217-8AD8-41C4-99A7-52F9A7DEC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4358-28BF-443B-8E74-46F1E31DC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423E-CF37-4E67-842A-151ABA258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B0E6-4561-4652-B7C8-AFA1912D1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1B3F-EF77-46C7-AF06-76578D7DC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FF69-681C-472A-AED3-328BB44DE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2110-2EA3-4C2A-B81D-D3CACF018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857C-CF28-4103-BE0B-1FC9E9CB7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8CCA-9A13-4FDE-9BEF-120C9C9D3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113F-6954-448C-8AFC-5F04A5ED3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D64B-0CB7-468C-A1AD-6EE475E7C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9E67-D119-4790-9E9F-534C4A244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5096-1290-4FD5-99FF-AE3598198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0F3F-9CB0-4468-A77E-EB76C736F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5480-AFE2-442A-8B1F-5D6E19A59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OUTFIELDER AND CURRENT THIRD BASE COACH FOR THE DETROIT TIGERS SHARES A NAME WITH A 60'S POP S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Y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WAS THE LARGEST IN THE WORLD 600-300 BC, AND CONTAINED THE HANGING GARDENS IN THE 7 ANCIENT WONDERS OF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NTRAL  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VISITED URBAN PARK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FO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00280" y="76212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AY TO NORMAL", "ANNIE WAITS", AND "STILL FIGHTING 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ONG WITH WHITE, WHAT IS THE OFFICIAL SCHOOL COLOR OF TEXAS A&amp;M, COLGATE, FORDHAM, AND THE UNIVERSITY OF CHIC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GH  (NOON)  (SOCIE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BOTH A 1952 GARY COOPER / GRACE KELLY FILM, AND A 1956 BING CROSBY / FRANK SINATRA / GRACE KELLY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295280" y="762120"/>
            <a:ext cx="65534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AND LARGEST CITY OF MISSISSIPP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AUGHTER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ITS NAME IMPLIES, LES ABATTOIRS ART MUSEUM IN TOULOUSE, FRANCE WAS ONCE WHAT TYPE OF FACI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WAS THE LARGEST IN THE WORLD 600-300 BC, AND CONTAINED THE HANGING GARDENS IN THE 7 ANCIENT WONDERS OF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288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MUSIC AND FILM INDUSTRY, A SINGLE CONTINUOUS RECORDED PERFORMANCE IS  CALL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E  CL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OUTFIELDER AND CURRENT THIRD BASE COACH FOR THE DETROIT TIGERS SHARES A NAME WITH A 60'S POP S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219320" y="4343400"/>
            <a:ext cx="6705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FIV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VISITED URBAN PARK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AY TO NORMAL", "ANNIE WAITS", AND "STILL FIGHTING 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ONG WITH WHITE, WHAT IS THE OFFICIAL SCHOOL COLOR OF TEXAS A&amp;M, COLGATE, FORDHAM, AND THE UNIVERSITY OF CHICA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BOTH A 1952 GARY COOPER / GRACE KELLY FILM, AND A 1956 BING CROSBY / FRANK SINATRA / GRACE KELLY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AND LARGEST CITY OF MISSISSIPP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ITS NAME IMPLIES, LES ABATTOIRS ART MUSEUM IN TOULOUSE, FRANCE WAS ONCE WHAT TYPE OF FACIL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MUSIC AND FILM INDUSTRY, A SINGLE CONTINUOUS RECORDED PERFORMANCE IS   CALLED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4T18:02:59Z</dcterms:created>
  <dc:creator>Jennifer Budzinski</dc:creator>
  <dc:description/>
  <dc:language>en-US</dc:language>
  <cp:lastModifiedBy>Erich Friedman</cp:lastModifiedBy>
  <dcterms:modified xsi:type="dcterms:W3CDTF">2020-08-27T23:21:29Z</dcterms:modified>
  <cp:revision>424</cp:revision>
  <dc:subject/>
  <dc:title>Slide 1</dc:title>
</cp:coreProperties>
</file>