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9C2B-3EB9-4C81-8B28-CFEFEF3F1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0FC4-C5CB-4F10-896A-A2623C817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DF10-5402-4C80-AC25-F98C3267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7A56-9A7B-4A4B-B4CE-5197A19F9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8CFD-5BD5-4F7A-AB63-ED1ED01E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E7E0-16E0-441C-8D5C-DC088C826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732C-CBD8-419E-8068-2573796A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0C76-3059-4AAE-8E93-21A554733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BE7C-2A7F-4BB7-B114-655802D9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8C75-A5DB-48BE-926C-1D86F4EAE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E4C2-C1F6-49BF-ADFA-318FF67C6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AB1C-B1F2-419F-9171-5789A19EA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FC8D-A948-4347-8F2A-F7FCB228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E926-2F21-4E2E-AE51-F5BD5BBA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9C91-C30F-4A82-B6CC-1DE547A7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C205-ABAF-451F-B9AE-C2D9FF767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42FE-A07C-4EDD-8D04-5DFB32AB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998E-D49C-41CA-B109-577131FBF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D900-DFDC-455A-A7FD-B6D93047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1094-1682-46D4-A4B6-719063159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8EC9-ACF4-4865-BEC2-AE8C0FB7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A099-1235-4148-8C8B-B2409FEB3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1D61-7057-4C5E-A657-04051D74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OUTFIELDER AND CURRENT THIRD BASE COACH FOR THE DETROIT TIGERS SHARES A NAME WITH A 60'S POP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ARGEST IN THE WORLD 600-300 BC, AND CONTAINED THE HANGING GARDENS IN THE 7 ANCIENT WONDERS OF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URBAN PARK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F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Y TO NORMAL", "ANNIE WAITS", AND "STILL FIGHTING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WHITE, WHAT IS THE OFFICIAL SCHOOL COLOR OF TEXAS A&amp;M, COLGATE, FORDHAM, AND THE UNIVERSITY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(NOON)  (SOCIE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BOTH A 1952 GARY COOPER / GRACE KELLY FILM, AND A 1956 BING CROSBY / FRANK SINATRA / GRACE KELL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95280" y="762120"/>
            <a:ext cx="6553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UGHTER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LES ABATTOIRS ART MUSEUM IN TOULOUSE, FRANCE WAS ONCE WHAT TYPE OF FAC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ARGEST IN THE WORLD 600-300 BC, AND CONTAINED THE HANGING GARDENS IN THE 7 ANCIENT WONDERS OF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USIC AND FILM INDUSTRY, A SINGLE CONTINUOUS RECORDED PERFORMANCE IS 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OUTFIELDER AND CURRENT THIRD BASE COACH FOR THE DETROIT TIGERS SHARES A NAME WITH A 60'S POP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343400"/>
            <a:ext cx="6705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F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URBAN PARK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Y TO NORMAL", "ANNIE WAITS", AND "STILL FIGHTING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WHITE, WHAT IS THE OFFICIAL SCHOOL COLOR OF TEXAS A&amp;M, COLGATE, FORDHAM, AND THE UNIVERSITY OF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BOTH A 1952 GARY COOPER / GRACE KELLY FILM, AND A 1956 BING CROSBY / FRANK SINATRA / GRACE KELL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LES ABATTOIRS ART MUSEUM IN TOULOUSE, FRANCE WAS ONCE WHAT TYPE OF FACI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USIC AND FILM INDUSTRY, A SINGLE CONTINUOUS RECORDED PERFORMANCE IS  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18:02:59Z</dcterms:created>
  <dc:creator>Jennifer Budzinski</dc:creator>
  <dc:description/>
  <dc:language>en-US</dc:language>
  <cp:lastModifiedBy>Erich Friedman</cp:lastModifiedBy>
  <dcterms:modified xsi:type="dcterms:W3CDTF">2020-08-27T23:21:29Z</dcterms:modified>
  <cp:revision>424</cp:revision>
  <dc:subject/>
  <dc:title>Slide 1</dc:title>
</cp:coreProperties>
</file>