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A929-5954-4734-811A-B2298A0D0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D4DD-41D6-4B78-8C11-93BC6FD81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CD3C-590B-4E20-93E7-3056EE9C2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B40C-F2B0-4572-B33C-3A96742F6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31FA-D98C-4588-BBB4-8F181C173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D42F-BA08-46D0-8C08-9E778CCBA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F5F0-41E7-4B60-9A4D-3B6403FCE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C907-EE65-4528-B38F-27EA81FD2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7B09-7157-4284-B65B-F0CB2B908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4BFA-D104-44B0-A665-435B6567B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E415-FEFD-4EC4-9DBC-C22CE6F21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F1AE-12BA-4E47-A7C9-B21C98337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107E-AB6A-4902-A90E-6D47E1F97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5932-7BBE-4A6D-B91A-C853886CB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ECA3-1694-40B4-8AB6-C29760373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817C-A28D-4DA8-991F-5BDAF3350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8AE7-0168-4CF1-B918-DE45FC979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3660-EC4B-4DA7-8F5F-1F8E49818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1231-90C6-49A4-9954-8DE043121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8B98-7D63-4D14-A328-EFE62EC2F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3DE8-DDDD-4D05-9639-BF2C3EFB3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226E-EEED-481D-A782-93E0EECA8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BE1E-BF08-427E-A5A6-858C6C965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OUTFIELDER AND CURRENT THIRD BASE COACH FOR THE DETROIT TIGERS SHARES A NAME WITH A 60'S POP 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LARGEST IN THE WORLD 600-300 BC, AND CONTAINED THE HANGING GARDENS IN THE 7 ANCIENT WONDERS OF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RAL 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ISITED URBAN PARK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F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Y TO NORMAL", "ANNIE WAITS", AND "STILL FIGHTING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WHITE, WHAT IS THE OFFICIAL SCHOOL COLOR OF TEXAS A&amp;M, COLGATE, FORDHAM, AND THE UNIVERSITY OF CHIC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  (NOON)  (SOCIE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BOTH A 1952 GARY COOPER / GRACE KELLY FILM, AND A 1956 BING CROSBY / FRANK SINATRA / GRACE KELL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295280" y="762120"/>
            <a:ext cx="65534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LARGEST CITY OF MISSISSIPP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AUGHTER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ITS NAME IMPLIES, LES ABATTOIRS ART MUSEUM IN TOULOUSE, FRANCE WAS ONCE WHAT TYPE OF FACI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LARGEST IN THE WORLD 600-300 BC, AND CONTAINED THE HANGING GARDENS IN THE 7 ANCIENT WONDERS OF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288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USIC AND FILM INDUSTRY, A SINGLE CONTINUOUS RECORDED PERFORMANCE IS 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E  CL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OUTFIELDER AND CURRENT THIRD BASE COACH FOR THE DETROIT TIGERS SHARES A NAME WITH A 60'S POP 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19320" y="4343400"/>
            <a:ext cx="6705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FIV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ISITED URBAN PARK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Y TO NORMAL", "ANNIE WAITS", AND "STILL FIGHTING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WHITE, WHAT IS THE OFFICIAL SCHOOL COLOR OF TEXAS A&amp;M, COLGATE, FORDHAM, AND THE UNIVERSITY OF CHIC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BOTH A 1952 GARY COOPER / GRACE KELLY FILM, AND A 1956 BING CROSBY / FRANK SINATRA / GRACE KELLY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LARGEST CITY OF MISSISSIPP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ITS NAME IMPLIES, LES ABATTOIRS ART MUSEUM IN TOULOUSE, FRANCE WAS ONCE WHAT TYPE OF FACIL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USIC AND FILM INDUSTRY, A SINGLE CONTINUOUS RECORDED PERFORMANCE IS   CALLED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4T18:02:59Z</dcterms:created>
  <dc:creator>Jennifer Budzinski</dc:creator>
  <dc:description/>
  <dc:language>en-US</dc:language>
  <cp:lastModifiedBy>Erich Friedman</cp:lastModifiedBy>
  <dcterms:modified xsi:type="dcterms:W3CDTF">2020-08-27T23:21:29Z</dcterms:modified>
  <cp:revision>424</cp:revision>
  <dc:subject/>
  <dc:title>Slide 1</dc:title>
</cp:coreProperties>
</file>