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B047-84AF-46E4-8EAB-4A00157A1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8544-E514-4393-931B-7698753BE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B1D6-CD9D-4998-A536-09B72C3D2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F675-032B-4117-BF57-AC784867C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F05B-D3FC-4ADC-A5AF-859D2FBD6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89BA-7BED-4E61-87BF-8D2DF8751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5487-7F07-4B56-A700-922E4FD27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D51B-3894-4D7C-93CB-501935849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D82C-40CD-41AD-86BA-3AD4D7346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1D3E-5851-406E-A670-6718C4D58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E7A2-6626-43A5-9157-B166FEBEA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0326-9275-4D0C-B198-F075331CE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1111-157B-40CA-BC4E-69073854F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9D53-82A9-450D-B206-25EBD6DF1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F7CE-88C7-493E-802E-52C39946B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2BFE-1311-421B-BC5E-8D1BF6F23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A9B8-240A-4451-B26E-BAB870C86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637E-9002-4DEC-BF34-4A00A767C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1CC0-9329-4CC1-8857-458B62507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6266-EF64-4108-9753-931AA7170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9BD8-6F0D-432B-82FE-A19C3112C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5F82-9FCC-4ABA-B835-18D4EC6D7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8E15-A3E7-4E79-8F50-4244A8386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FOREST PRESERVE IN THE U.S., NAMED AFTER ITS UPSTATE NY MOUNTAIN RAN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7 COMMODORES  HIT SONG BEGINS WITH THE LYRICS "KNOW IT SOUNDS FUNNY BUT I JUST CAN'T STAND THE P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PART OF THE HUMAN BODY IS THE RADIUS BONE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BOARD GAME CLUE, THERE IS A SECRET PASSAGE FROM THE CONSERVATORY TO WHAT OTHER 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 AIRCRAFT WITHOUT AN ENGIN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28560" y="768240"/>
            <a:ext cx="7886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SANDWICH CONTAINS POULTRY AND THE INGREDIENTS OF A B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IS YOUR TURN IN POKER, IF YOU ARE NOT CHECKING, CALLING, OR RAISING, WHAT ARE YOU DO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R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43000" y="762120"/>
            <a:ext cx="6858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"SPOKES CAT" FOR 9LIVES CAT FOO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7 COMMODORES  HIT SONG BEGINS WITH THE LYRICS "KNOW IT SOUNDS FUNNY BUT I JUST CAN'T STAND THE P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CELO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ERE THE 1992 SUMMER OLYMPICS HE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IROND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FOREST PRESERVE IN THE U.S., NAMED AFTER ITS UPSTATE NY MOUNTAIN RAN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C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PART OF THE HUMAN BODY IS THE RADIUS BONE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BOARD GAME CLUE, THERE IS A SECRET PASSAGE FROM THE CONSERVATORY TO WHAT OTHER 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 AIRCRAFT WITHOUT AN ENGIN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SANDWICH CONTAINS POULTRY AND THE INGREDIENTS OF A BL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IS YOUR TURN IN POKER, IF YOU ARE NOT CHECKING, CALLING, OR RAISING, WHAT ARE YOU DO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"SPOKES CAT" FOR 9LIVES CAT FOO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ERE THE 1992 SUMMER OLYMPICS HE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0:45:05Z</dcterms:created>
  <dc:creator>Jennifer Budzinski</dc:creator>
  <dc:description/>
  <dc:language>en-US</dc:language>
  <cp:lastModifiedBy>Erich Friedman</cp:lastModifiedBy>
  <dcterms:modified xsi:type="dcterms:W3CDTF">2020-08-27T23:22:27Z</dcterms:modified>
  <cp:revision>424</cp:revision>
  <dc:subject/>
  <dc:title>Slide 1</dc:title>
</cp:coreProperties>
</file>