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33E0-31E4-4F83-9DC7-20D60DAE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04E0-4D08-4C96-8A75-E1037908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D9D2-1C84-4024-ADDD-F2535993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A57-A308-4090-819D-A729A7F9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305B-3870-4B32-991A-9BB2BFCB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758F-2BD0-4249-B062-EBB22989C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108-5D6F-4E27-8A3C-6F57435B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DA70-52B1-4B61-98E9-9CDC262F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D263-59F7-4702-A330-F92BF5C8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915-79D3-4B8C-9242-94DA650B0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6383-8FC7-4354-B6CC-146CE674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2998-7074-47EF-AA62-439B8C28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78A-2B2C-4E9E-B4A2-4F294341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6C3B-98B3-4F77-8D59-AD950025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749-80F5-42D5-A69F-C48B620A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A04-3025-41DB-A867-A688725C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0D8-5652-4A25-BBD0-939FA093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539-9DCC-44AB-B86A-548F496E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F66-E07F-4E95-B4D3-B06546BE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4821-A77B-45D7-9980-DCEAA0A2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39C-B7E8-42FE-9C8C-DECC74D6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8E70-5A5A-48D8-8012-90098E1F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B5E-6516-4891-AF71-4198B30B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OREST PRESERVE IN THE U.S., NAMED AFTER ITS UPSTATE NY MOUNTAIN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MODORES  HIT SONG BEGINS WITH THE LYRICS "KNOW IT SOUNDS FUNNY BUT I JUST CAN'T STAND THE P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HUMAN BODY IS THE RADIUS BON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ARD GAME CLUE, THERE IS A SECRET PASSAGE FROM THE CONSERVATORY TO WHAT OTH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IRCRAFT WITHOUT AN ENGIN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8240"/>
            <a:ext cx="7886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ANDWICH CONTAINS POULTRY AND THE INGREDIENTS OF A B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YOUR TURN IN POKER, IF YOU ARE NOT CHECKING, CALLING, OR RAISING, WHAT ARE YOU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SPOKES CAT" FOR 9LIVES CAT FO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MODORES  HIT SONG BEGINS WITH THE LYRICS "KNOW IT SOUNDS FUNNY BUT I JUST CAN'T STAND THE P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92 SUMMER OLYMPICS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ROND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OREST PRESERVE IN THE U.S., NAMED AFTER ITS UPSTATE NY MOUNTAIN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HUMAN BODY IS THE RADIUS BON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ARD GAME CLUE, THERE IS A SECRET PASSAGE FROM THE CONSERVATORY TO WHAT OTH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IRCRAFT WITHOUT AN ENGIN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ANDWICH CONTAINS POULTRY AND THE INGREDIENTS OF A B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YOUR TURN IN POKER, IF YOU ARE NOT CHECKING, CALLING, OR RAISING, WHAT ARE YOU DO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SPOKES CAT" FOR 9LIVES CAT FOO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92 SUMMER OLYMPICS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0:45:05Z</dcterms:created>
  <dc:creator>Jennifer Budzinski</dc:creator>
  <dc:description/>
  <dc:language>en-US</dc:language>
  <cp:lastModifiedBy>Erich Friedman</cp:lastModifiedBy>
  <dcterms:modified xsi:type="dcterms:W3CDTF">2020-08-27T23:22:27Z</dcterms:modified>
  <cp:revision>424</cp:revision>
  <dc:subject/>
  <dc:title>Slide 1</dc:title>
</cp:coreProperties>
</file>