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9944-E03A-4C88-BD38-BFB81B0B1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18C0-4298-4AEF-BF68-07917139C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310F-46E8-425F-9F02-0AC82DCBA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2270-1A76-4F54-B7C2-75F9A4352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14D7-2B0E-44B4-8D73-FEA9F545A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2FAD-7E58-45E4-9394-673736EC6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E3D3-8D80-486A-B6FC-AE358123C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4921-484C-4920-82EF-4828396EE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2388-42A4-4C22-AC25-F23FCDFBC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7CAA-DD18-4D08-B533-AA36C033A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CC1F-D75C-4250-9C5F-82A6DD9C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A8E8-70FB-43CD-B4A8-0BD3879E0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C606-8734-49F6-8B85-3DCE05C3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83DC-D4F9-4BB0-9B86-3F219A6F6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CADA-F2DB-4EEF-9ECC-9EA57B4CC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A3B8-8B90-4155-9026-C09CA31F6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4315-2AC1-465B-9DB9-3D8C0C729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8B7C-6AE7-4C5A-9802-5B0BA541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5DEC-EE6A-4FAD-B09F-06D22104C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E109-E87C-48D1-9EAD-599A381A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3960-273A-4A02-A121-54F65AAB6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E94C-276F-42DA-B05E-0EB2EB90D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1FE1-3F74-46A6-82FC-D064B868E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OREST PRESERVE IN THE U.S., NAMED AFTER ITS UPSTATE NY MOUNTAIN 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MODORES  HIT SONG BEGINS WITH THE LYRICS "KNOW IT SOUNDS FUNNY BUT I JUST CAN'T STAND THE P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THE HUMAN BODY IS THE RADIUS BON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ARD GAME CLUE, THERE IS A SECRET PASSAGE FROM THE CONSERVATORY TO WHAT OTHER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IRCRAFT WITHOUT AN ENGIN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768240"/>
            <a:ext cx="7886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ANDWICH CONTAINS POULTRY AND THE INGREDIENTS OF A B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YOUR TURN IN POKER, IF YOU ARE NOT CHECKING, CALLING, OR RAISING, WHAT ARE YOU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SPOKES CAT" FOR 9LIVES CAT FOO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MODORES  HIT SONG BEGINS WITH THE LYRICS "KNOW IT SOUNDS FUNNY BUT I JUST CAN'T STAND THE P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CEL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92 SUMMER OLYMPICS H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IROND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OREST PRESERVE IN THE U.S., NAMED AFTER ITS UPSTATE NY MOUNTAIN 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THE HUMAN BODY IS THE RADIUS BONE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BOARD GAME CLUE, THERE IS A SECRET PASSAGE FROM THE CONSERVATORY TO WHAT OTHER R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IRCRAFT WITHOUT AN ENGIN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ANDWICH CONTAINS POULTRY AND THE INGREDIENTS OF A B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T IS YOUR TURN IN POKER, IF YOU ARE NOT CHECKING, CALLING, OR RAISING, WHAT ARE YOU DO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SPOKES CAT" FOR 9LIVES CAT FOO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1992 SUMMER OLYMPICS H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0:45:05Z</dcterms:created>
  <dc:creator>Jennifer Budzinski</dc:creator>
  <dc:description/>
  <dc:language>en-US</dc:language>
  <cp:lastModifiedBy>Erich Friedman</cp:lastModifiedBy>
  <dcterms:modified xsi:type="dcterms:W3CDTF">2020-08-27T23:22:27Z</dcterms:modified>
  <cp:revision>424</cp:revision>
  <dc:subject/>
  <dc:title>Slide 1</dc:title>
</cp:coreProperties>
</file>