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07EE-ECE0-4DB2-B311-35DFC9816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BB58-F56A-4755-BE82-87A00F2FE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A800-5862-49DE-B32D-F8F39614D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BC46-DA25-4B31-A481-12800896A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6434-F46F-41CC-847A-D0AD0383F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E4EA-20A8-4B2A-92EB-ADA2C9B2F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BF64-FC26-4BE6-9AFA-1281CD616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3A4C-4B44-44DF-8661-C535978BA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5B05-85C7-4B64-AEEF-F53A29173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8B6F-D4C8-4F87-9A14-E3A207CAE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AED9-366D-4ADE-AFD3-1E4FADA9D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4145-31BC-4287-893E-1B759688E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32A3-42D3-4298-9529-52A8709D2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3009-5BAC-4D7F-96DB-096127FAD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1998-42F2-4FA1-907E-3F02F378E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3DE1-D306-4552-8445-43573C8A9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DA23-9B52-4FEF-A354-E57854689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03C3-4164-4B28-A86F-71C8A8431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3F6E-4963-45B4-8ADA-6C5B7FFB4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245C-A97C-4279-9A0B-76DB3288E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9AF4-C986-44DC-B7FF-5A736D51B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31D5-B5D2-44C5-9E46-94AFD219E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0671-5BC4-4230-A777-B67A66D30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L IN THE BLANK SONGS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IKE A ROLLING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B DYLA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URN TO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ECTRIC LIGHT ORCHESTR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JUST DIED IN YOUR ___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UTTING CRE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ROTHERS IN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DIRE STRAI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OTHER BRICK IN TH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PINK FLOY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LY ON TH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C/D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 OF LOV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HUEY LEWI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TO THE PEOPL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LENN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ME TO THE MOO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FRANK SINAT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ARNING TO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OM PETT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9528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 OF THE RISING SU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ANIMA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URNING DOWN THE ___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ALKING HEA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0440" y="4952880"/>
            <a:ext cx="8763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R. TAMBOURIN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B DYLA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IANO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ILLY JOE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AVEN IS A ___ ON EARTH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ELINDA CARLIS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 PARTICULAR ___ TO GO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UCK BERR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JUST DIED IN YOUR ___"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UTTING CREW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ROTHERS IN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DIRE STRAIT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IME IS ON MY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ON THE WILD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OU RE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IKE A ROLLING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B DYLA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URN TO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ECTRIC LIGHT ORCHEST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76520" y="4419720"/>
            <a:ext cx="5790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FOLLOW  THE  WORD  "FIR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OTHER BRICK IN THE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PINK FLOY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LY ON THE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C/DC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 OF LOV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HUEY LEWI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TO THE PEOPL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LENN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47920" y="761760"/>
            <a:ext cx="6248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ME TO THE MOON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FRANK SINATR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ARNING TO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OM PETT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 OF THE RISING SUN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ANIMAL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URNING DOWN THE ___"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ALKING HEAD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R. TAMBOURINE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B DYLA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IANO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ILLY JOEL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AVEN IS A ___ ON EARTH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ELINDA CARLISL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 PARTICULAR ___ TO GO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UCK BERR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IME IS ON MY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ON THE WILD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OU RE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6T16:41:19Z</dcterms:created>
  <dc:creator>Jennifer Budzinski</dc:creator>
  <dc:description/>
  <dc:language>en-US</dc:language>
  <cp:lastModifiedBy>Erich Friedman</cp:lastModifiedBy>
  <dcterms:modified xsi:type="dcterms:W3CDTF">2020-08-24T01:46:39Z</dcterms:modified>
  <cp:revision>392</cp:revision>
  <dc:subject/>
  <dc:title>Slide 1</dc:title>
</cp:coreProperties>
</file>