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3ADE-80BB-4584-B8E6-88D7930D0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30C-1999-46C4-9394-A52D00A2C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ABAE-0F25-4706-8677-9CADB31F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9B38-42D8-40FD-BBDF-31BF1D160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9ABD-F5E7-4279-9E07-169400228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7DEF-0959-49A6-A398-CA480BFC2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059E-780B-4D63-AFE6-3D966C7B7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52F8-4B9B-496A-9083-6B0753B6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161F-A335-45EC-9F9C-E34EC6BAD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724B-1A59-441A-8FB6-2A90B6B3A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95A1-EF2D-438D-AA51-6C12A9BCD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52B-AED4-4F87-A28A-72922600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3EC3-3F0C-4C75-9B0A-DABBA2D74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638B-2AD2-4BC7-93E3-A1ED670E3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42AB-E42B-41B1-8A9F-F662530B4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00A8-C330-4D0F-8D35-DC41A4B6A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BF53-A071-4749-841C-4BBB86975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B83E-BFEF-45D7-B5E0-4183ECCF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B3C0-A14C-4E4E-8976-A63369F04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70A4-93C6-4511-9E5D-9F169057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498-797F-4104-9A39-DFA90BB2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377-E699-48D5-A670-0BDBDA4BB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D30-2856-4820-8206-2A47A37E6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ROLLING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RN T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JUST DIED IN YOUR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UTTING CRE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OTHERS IN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RE STRAI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BRICK IN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INK FLOY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ON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/D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LO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UEY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O THE PEOPL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LENN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 TO THE MOO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FRANK SINA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RNING T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THE RISING SU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NIMA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G DOWN THE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952880"/>
            <a:ext cx="8763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R. TAMBOURIN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IAN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A ___ ON EARTH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ELINDA CARLIS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PARTICULAR ___ TO G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UCK BER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JUST DIED IN YOUR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UTTING CREW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ROTHERS IN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DIRE STRAIT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ME IS ON MY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U RE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ROLLING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RN TO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ECTRIC LIGHT ORCHEST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41972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BRICK IN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PINK FLOY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ON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C/DC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LOV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UEY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TO THE PEOPL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LENN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E TO THE MOO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FRANK SINATR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ARNING T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M PETT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_ OF THE RISING SU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ANIMA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RNING DOWN THE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R. TAMBOURIN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IANO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ILLY JOE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VEN IS A ___ ON EARTH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ELINDA CARLIS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PARTICULAR ___ TO GO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UCK BERR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ME IS ON MY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OU REE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6:41:19Z</dcterms:created>
  <dc:creator>Jennifer Budzinski</dc:creator>
  <dc:description/>
  <dc:language>en-US</dc:language>
  <cp:lastModifiedBy>Erich Friedman</cp:lastModifiedBy>
  <dcterms:modified xsi:type="dcterms:W3CDTF">2020-08-24T01:46:39Z</dcterms:modified>
  <cp:revision>392</cp:revision>
  <dc:subject/>
  <dc:title>Slide 1</dc:title>
</cp:coreProperties>
</file>