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6B0C-9696-4568-A7D1-15C5EA580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827-004E-42E2-A3EE-0AB5ABE3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B85-7232-40F1-9D96-7040D1CC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7D2-6DB7-4489-B87A-0485E0A2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7DA3-0C4F-4A8B-AD77-47C45BE4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2DB-FA80-4D46-88E9-77FF71B8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068-282B-4F45-9451-AB942C11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5BB-66A7-4F77-996A-D1F5A260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BF3-6AF1-4388-9451-F1AC5F0E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540-984A-430F-BAF8-59AE6347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8136-785A-4450-9651-1AD2C6B8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4B5-C3A6-49A1-8D3A-6CEADEF2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517-629B-40F4-9120-6F7549CF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855B-21DA-446E-9519-FF5EF2FE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5E1E-88A9-4AF1-8155-C8AA4315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4A3-FFF5-4549-B90B-A0FBAFA9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CC95-5046-41E2-9993-844C3E84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0CDB-F452-44FD-AA06-9CBB5F3FC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F32-8A08-4A9E-94C2-DEEC3173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DE33-382A-4CCA-9D68-08FD4E77B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D612-6135-49CE-8757-A142B593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F01-5AC2-4023-986A-A6F90369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8B8-DF43-4DEF-9AC8-09A1CC90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9528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41972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41:19Z</dcterms:created>
  <dc:creator>Jennifer Budzinski</dc:creator>
  <dc:description/>
  <dc:language>en-US</dc:language>
  <cp:lastModifiedBy>Erich Friedman</cp:lastModifiedBy>
  <dcterms:modified xsi:type="dcterms:W3CDTF">2020-08-24T01:46:39Z</dcterms:modified>
  <cp:revision>392</cp:revision>
  <dc:subject/>
  <dc:title>Slide 1</dc:title>
</cp:coreProperties>
</file>