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2B4-2910-4731-B93E-2230D2D67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05C-ACDB-48D6-8E67-6EBC3C07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0DC-E02E-44E4-8146-3ED66DC5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2C93-D857-47C5-B4DC-59582B47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0C7-3C06-448E-8E19-6A2FF5B4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9F0-3CC8-4180-BD53-EB27E9DC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9330-168D-4C94-8968-8F361093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C01-8996-4029-B763-1AF0A736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FA9-5C35-4E20-B21A-E3F969CB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FC98-1C7A-4833-A006-92855EF1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51F-509D-4255-82D4-5B0EF95F1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9E9-539E-4AB7-8DDD-CC227D24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80D-79BC-4D61-8C2B-9490B98A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446-A6F0-470F-9B8C-4449120D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3AB-B04B-4A5F-B439-578EFC57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36FD-09FA-4635-B082-6FFD69EF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4B7-BD02-4870-9872-1B179D73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D7C-D7AA-4853-A0F9-E954471E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199E-B3BA-4D74-91C6-453C65CF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29B-AAC4-4936-AC57-34CD4F3B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BBE-99B1-4DDF-8ED1-EE66D476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BDB-2990-4D13-A094-C08A1D2F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FC58-676A-4D86-B14E-D0F443A4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  OF  THE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48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RAD  PIT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59:15Z</dcterms:created>
  <dc:creator>Jennifer Budzinski</dc:creator>
  <dc:description/>
  <dc:language>en-US</dc:language>
  <cp:lastModifiedBy>Erich Friedman</cp:lastModifiedBy>
  <dcterms:modified xsi:type="dcterms:W3CDTF">2020-08-27T23:24:38Z</dcterms:modified>
  <cp:revision>425</cp:revision>
  <dc:subject/>
  <dc:title>Slide 1</dc:title>
</cp:coreProperties>
</file>