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578-77DA-4162-B19B-9C156DAC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EB38-CA19-4370-B7DD-96B9FB68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31D-C47E-4A89-9B06-3169C29E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B00-F1B3-4769-B6B2-07AB8F88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C959-E67C-4160-A51C-41B90469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BFF2-4D3A-4986-A1AB-0B8225B0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1504-AF24-4C92-A904-31C3EE79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63EF-1A03-4470-8C88-0E6C14ED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E7C-F13B-45A7-8C5E-CEE66681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CE84-9A6D-485D-B317-337E9D1F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FE7-9728-452B-870E-4343CC9C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033-771A-4CB9-A64F-6E113FA5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117-63F6-49A5-8813-EE9FD89B8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AD99-D3CA-4995-94AE-E9806683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EC8A-B058-4D82-AEED-A270EB2A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F83-FD62-4F68-848B-FB752437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489-2748-4082-AE8C-50492DB0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032E-F0FA-4AF3-B1E1-2C01B919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702-5726-4270-86AF-3051FF2E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29D-43F5-43C3-97A2-00EFF028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1601-C119-478C-BE5E-ACC96928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644-B76D-44A9-AE84-46241CC6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C08F-8877-422F-B81D-A9F59528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  OF  THE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48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RAD  PIT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59:15Z</dcterms:created>
  <dc:creator>Jennifer Budzinski</dc:creator>
  <dc:description/>
  <dc:language>en-US</dc:language>
  <cp:lastModifiedBy>Erich Friedman</cp:lastModifiedBy>
  <dcterms:modified xsi:type="dcterms:W3CDTF">2020-08-27T23:24:38Z</dcterms:modified>
  <cp:revision>425</cp:revision>
  <dc:subject/>
  <dc:title>Slide 1</dc:title>
</cp:coreProperties>
</file>