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84D2-D0BD-4460-966D-D264FCAC2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8A95-E0EF-4FC1-AC74-6F2C1FCA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A520-7269-43C5-9909-09E596A1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9764-1BFB-4692-B75A-65DF3D238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BC01-3C63-4589-B6CA-2B602D00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4424-0351-453B-B910-34CF95D29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E6FB-F60C-42D9-BB0B-44A3AAF4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5241-DBFE-47F0-A547-A1C96AAB3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FE2D-4794-4A9F-82DE-118AF9722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7284-222C-4CCB-9172-137A055B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DCD5-E64E-4368-89A1-609B4776A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627-3C5C-4A21-89CC-D966922A9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290D-570E-43AF-A002-6720434A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3B2E-FACA-4881-9CC3-2D5D3A31D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8E10-D450-4F7A-9136-B11A37330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4CF9-7D12-40F4-B327-48D68EF4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F2F8-18B6-419E-B38F-680C092CA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11FF-09E0-4246-9506-41F45211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B183-B943-4281-99BD-439912297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ACA-198B-4102-926B-3FEF23972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9FEA-4673-4994-BAC7-A7ACC7C0E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4C3D-D86D-492E-9D60-B1D137AA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B45F-CA07-443A-886F-B8B33CEAF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  OF  THE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  THE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CARL SAGAN'S ONLY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480" y="762120"/>
            <a:ext cx="8915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305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RAD  PITT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NESE ZODIAC, WHAT WAS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ERE IN ALABAMA DID THE "BLOODY SUNDAY" MARCH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ETHOVEN'S SONATA NO.14 IN C# MINOR IS BETTER KNOWN AS WHAT SONA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T MUMFORD &amp; SONS ALBUM OF 2012 WAS INSPIRED BY A MYTHICAL MESOPOTAMIAN T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LIKE AVOIRDUPOIS, WHAT SYSTEM OF WEIGHTS IS COMMONLY USED FOR GOLD AND GEM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DID MANCHESTER, MA  ADD TO ITS NAME IN 1989, TO PREVENT CONFUSION WITH A NEW HAMPSHIRE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400" y="762120"/>
            <a:ext cx="895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:24, GOD PLACES ANGELS WITH FLAMING SWORDS IN EDEN TO KEEP ADAM AND EVE AWAY FROM WHAT SYMBOL OF IMMORTA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18:59:15Z</dcterms:created>
  <dc:creator>Jennifer Budzinski</dc:creator>
  <dc:description/>
  <dc:language>en-US</dc:language>
  <cp:lastModifiedBy>Erich Friedman</cp:lastModifiedBy>
  <dcterms:modified xsi:type="dcterms:W3CDTF">2020-08-27T23:24:38Z</dcterms:modified>
  <cp:revision>425</cp:revision>
  <dc:subject/>
  <dc:title>Slide 1</dc:title>
</cp:coreProperties>
</file>