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E84-92CB-4F0F-ABE6-CD0C18B4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230-819F-473C-A8CD-E8BD394D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F18-9485-45AA-A71E-64B7B379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EAD-D990-4E5C-A5C1-7B87F45F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863-4BFA-435B-8D2F-C1FECBE3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7077-E5A3-4A75-9777-30AE8DE4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339-B11F-4BB9-8555-46B28F7B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466F-B073-4C1F-B93A-117443CB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9FF0-178B-41C8-A8CA-FBD4C44B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550-E219-43EB-AB05-3DDA4A04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3035-3811-4EBB-9252-720B47FD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CCA-14B1-4659-A8EE-05A06108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1BAD-EA08-4C2E-9E22-5A6E89DC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9CC-BBB9-4579-8CBD-5C06B2AC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8784-FE07-46D8-BA31-2E57F3C0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7CF-564D-49F2-93BC-AF38FCBB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5A13-2B2A-48DA-9A3C-3B92B557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E05-0C73-44FF-972D-1ADE07ADA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4CDB-BBDE-4D9C-9653-84E60392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646F-E7B9-4002-8D00-7950DCA4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388B-F3AA-4023-92E9-DAE775EB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56C0-C70E-4D5E-B85F-2BADE01B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241-8F07-433C-99BC-23C11010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   IN THE CONSTITUTIONAL CAPITAL SUC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80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AND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IN THE CONSTITUTIONAL CAPITAL SUC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5:00:29Z</dcterms:created>
  <dc:creator>Jennifer Budzinski</dc:creator>
  <dc:description/>
  <dc:language>en-US</dc:language>
  <cp:lastModifiedBy>Erich Friedman</cp:lastModifiedBy>
  <dcterms:modified xsi:type="dcterms:W3CDTF">2020-08-27T23:25:38Z</dcterms:modified>
  <cp:revision>430</cp:revision>
  <dc:subject/>
  <dc:title>Slide 1</dc:title>
</cp:coreProperties>
</file>