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118-42C2-43A7-A283-440E15AB1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BC12-C3B0-401A-BDAD-645BF2F2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AB5-DFFC-4C69-AF6C-26CE88DE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BFDA-C2D0-453C-96A1-85758077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C20-0ED3-4C0B-ACA6-9FBC2B22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6F4-71F3-4F75-AE33-6F1EB65F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D1B-A1E9-47F1-AA64-FD8FDB79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3F4-3BA7-4914-82B5-147F2296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547-704C-4947-9CD7-1B3CE525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019-7AEB-4CA5-BD05-C0B90C7E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E949-948A-4CE3-BAB9-10ACFC90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A52-B382-42DD-8A13-59799DE76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5D4-2B01-4183-B73F-F4F81DDD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080-1A04-4EB4-9617-D523314C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3BE-1C08-4968-ABB5-E1CFB417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D36-DD7E-41A3-B333-B6E3D3B7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623-FF02-47F9-9AAF-DBEE6A56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06C-643F-4D3C-ACBD-84BCA5E9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2441-852D-4CEC-A939-4E5E35E7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7AC-205D-4584-9629-0B16B52A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2B5-1BAD-4510-8D67-FF48FA53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8623-31FE-4F53-9513-CF0937A8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6F5-E76A-427E-BDEB-CC23ED26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   IN THE CONSTITUTIONAL CAPITAL SUC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80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AND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IN THE CONSTITUTIONAL CAPITAL SUC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5:00:29Z</dcterms:created>
  <dc:creator>Jennifer Budzinski</dc:creator>
  <dc:description/>
  <dc:language>en-US</dc:language>
  <cp:lastModifiedBy>Erich Friedman</cp:lastModifiedBy>
  <dcterms:modified xsi:type="dcterms:W3CDTF">2020-08-27T23:25:38Z</dcterms:modified>
  <cp:revision>430</cp:revision>
  <dc:subject/>
  <dc:title>Slide 1</dc:title>
</cp:coreProperties>
</file>