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25A0-ACBB-4E99-A747-BE1AD9867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1481-4F85-435C-B535-DB00FB8A1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6BD0-8FE5-49E6-9BBE-00D960FA8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AEFA-8DBB-45C5-8858-F85D8C71E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FAD7-C6C4-4F53-AE5A-FBEFAF7ED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3E52-AC56-4861-8D05-A5967626D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97E2-8004-4458-BF9C-DB04ED4B9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11E3-379E-4C90-A4E2-71A172BE2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49BB-8CBC-4ED3-AFBA-57EA82F8A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8B53-BF39-43BF-94BC-B8C4AD86B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9F0A-F40B-4B89-8970-B993A904B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9423-D945-4879-A3F4-A2320FBA8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F5C6-7861-4A44-BE09-9EEB3E71E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40BC-D0F3-4F34-B601-423A52CD5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EB7B-E4FF-478D-AA6A-602AC182B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0D22-A2E0-492B-8671-605C3D6AA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384A-14B1-4D50-930B-5F5B0203E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DF5A-A13E-4352-991A-29EBC4DE2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1E24-D1BA-4CBA-8D85-385667807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2A32-3067-47F3-AABA-45A8FAC5F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0F08-BE21-46EC-80C0-6301CBFFE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0710-B591-4811-B91E-3F474A528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F1F5-F9EF-4145-B469-2FB57B248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990360"/>
            <a:ext cx="647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GRAPHY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984 BAND AID HIT "DO THEY KNOW IT'S CHRISTMAS?" WAS RECORDED FOR RELIEF OF THE FAMINE IN WHAT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COUNTRI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RB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E NOVAK DJOKOVIC, NIKOLA TESLA, AND KARL MALDEN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E CARL JUNG, JEAN PIAGET, AND ROGER FEDERER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E FRANZ SCHUBERT, ARNOLD SCHWARZENEGGER, AND  JOHANN STRAUSS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NG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E HARRY HOUDINI, JOSEPH PULITZER, AND ZSA ZSA GABOR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ME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E CHER, KIM KARDASHIAN, AND ANDRE AGASSI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ZECH  REPUBL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43080" y="762120"/>
            <a:ext cx="8458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E MARTINA NAVRATILOVA, VÁCLAV HAVEL, AND IVANA TRUMP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LI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DE FACTO CAPITAL LA PAZ, BUT HAS ITS JUDICIAL BRANCH LOCATED    IN THE CONSTITUTIONAL CAPITAL SUC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E NOVAK DJOKOVIC, NIKOLA TESLA, AND KARL MALDEN FR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FGHANIST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THE SETTING FOR THE FILMS "LONE SURVIVOR", "WAR MACHINE", AND "12 STRO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880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THIOP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984 BAND AID HIT "DO THEY KNOW IT'S CHRISTMAS?" WAS RECORDED FOR RELIEF OF THE FAMINE IN WHAT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371600" y="48769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LANDLOCK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COUNTRI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E CARL JUNG, JEAN PIAGET, AND ROGER FEDERER FR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E FRANZ SCHUBERT, ARNOLD SCHWARZENEGGER, AND  JOHANN STRAUSS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E HARRY HOUDINI, JOSEPH PULITZER, AND ZSA ZSA GABOR FR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E CHER, KIM KARDASHIAN, AND ANDRE AGASSI FR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E MARTINA NAVRATILOVA, VÁCLAV HAVEL, AND IVANA TRUMP FR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DE FACTO CAPITAL LA PAZ, BUT HAS ITS JUDICIAL BRANCH LOCATED IN THE CONSTITUTIONAL CAPITAL SUC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THE SETTING FOR THE FILMS "LONE SURVIVOR", "WAR MACHINE", AND "12 STRO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5T15:00:29Z</dcterms:created>
  <dc:creator>Jennifer Budzinski</dc:creator>
  <dc:description/>
  <dc:language>en-US</dc:language>
  <cp:lastModifiedBy>Erich Friedman</cp:lastModifiedBy>
  <dcterms:modified xsi:type="dcterms:W3CDTF">2020-08-27T23:25:38Z</dcterms:modified>
  <cp:revision>430</cp:revision>
  <dc:subject/>
  <dc:title>Slide 1</dc:title>
</cp:coreProperties>
</file>