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EA0-3ECF-458C-8D1F-2D366BA4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FED2-FC25-4E9E-9165-CF928420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1E5-2922-445A-ACC7-C1B1F94C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D661-967D-4ABF-848A-8DB63A16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C71F-4C4F-4254-A96B-A59BCFB2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78A-5C71-41E5-A639-5282B4FB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0EA7-F91C-4F45-91F4-5D57B4E7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2B0-06B8-48C7-A1BE-AC291BED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BEA1-60C6-4F3A-9D6D-76068FCD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CD5-70BB-40DF-8E6A-FC7A2309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B681-5E92-43E7-ACE7-9DEB0E55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5CC9-A268-44E4-95AC-26A07CB2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59E-46F7-4A65-95F3-52A1F426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2C5-F18A-4A2E-8928-09E86923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7EDC-FB57-4A15-8C99-E5925E2E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26B4-89B7-4EA2-994B-E67892AA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8D3-97AB-4938-8CCB-7017447D3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E61-64F8-41D8-847D-E9461AC6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F666-230D-4156-A48B-14D9CA9F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9412-16A3-4F52-AD55-677314364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70D6-F458-4A0D-83EA-5C9FAC92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4A0-A641-47D6-9063-389154E64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4A7-4667-49FA-BB75-7CDFF3EC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VI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DROPH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I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AL 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DENT  G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IP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ROMAN PREFIXES  FOR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22:58:04Z</dcterms:created>
  <dc:creator>Jennifer Budzinski</dc:creator>
  <dc:description/>
  <dc:language>en-US</dc:language>
  <cp:lastModifiedBy>Erich Friedman</cp:lastModifiedBy>
  <dcterms:modified xsi:type="dcterms:W3CDTF">2020-08-27T23:26:37Z</dcterms:modified>
  <cp:revision>428</cp:revision>
  <dc:subject/>
  <dc:title>Slide 1</dc:title>
</cp:coreProperties>
</file>