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3F83-0005-4963-925F-A22315BC7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A899-CB9B-4C9C-B306-FD5E36290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849E-323A-438E-AC5B-9D953C65C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FDEC-61E4-4D74-A287-AD5AE58F6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50E2-D1A0-42A3-9A6F-7142DEDE8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F3C0-A586-48BA-A682-B6F9C7E5D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EEC9-C605-49CE-94A5-7884D887B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9A39-A466-41A4-A36E-EF5294A39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0911-44B5-49DE-8C16-04FC19401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6FB6-83CE-42BC-A50E-206264DF1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81EC-292D-4EE8-88C3-976AE77F3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01CC-D480-4D08-BB98-71B97A8E2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DBC6-65F3-4BE7-BDEB-6C03AC82B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4E22-5B84-4070-B62B-2DA5EFB7E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2F70-66D3-4D17-AA56-599A3C6BF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85C4-882C-4826-A299-B882F7E7A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0A5A-0A44-4626-B3EF-683A5067D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BE93-56A4-4665-8891-945FB3FAB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4A21-E9C5-43DD-BF56-C4FA48350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5067-E3BA-41D4-91F5-B7B1E994A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75FD-0C79-458E-9BD7-A1F9F6FC9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AACA-B900-4BEE-83FF-4B8CD4364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3968-67B2-4177-B925-6A657DE5A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PITE THE NAME, WHAT ARTHROPODS HAVE BETWEEN 30 AND 354 LE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TAVIA  SPE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OSCARS 3 TIMES FOR PLAYING 60'S WOMEN, IN "THE HELP", "HIDDEN FIGURES", AND "THE SHAPE OF WA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VEHICLE TYP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P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ARTILAGE WALL BETWEEN YOUR NOSTR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DROPH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HO RELEASED TWO ROCK OPERA  ALBUMS: "TOMMY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CI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GARITHMIC SCALE IS USED TO MEASURE SOUND INTEN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VEMBER  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57480" y="7621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DAY IN 1963 WAS PRESIDENT JOHN F. KENNEDY KI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VERSAL  PI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IDIARY OF COMCAST IS THE OLDEST SURVIVING FILM STUDIO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OSCARS 3 TIMES FOR PLAYING 60'S WOMEN, IN "THE HELP", "HIDDEN FIGURES", AND "THE SHAPE OF WA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DENT  G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COMMERCIALS SAID "FOUR OUT OF FIVE DENTISTS SURVEYED RECOMMEND SUGARLESS GUM FOR THEIR PATIENTS WHO CHEW G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IP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PITE THE NAME, WHAT ARTHROPODS HAVE BETWEEN 30 AND 354 LE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BEGIN  WITH  ROMAN PREFIXES  FOR 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VEHICLE TYP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ARTILAGE WALL BETWEEN YOUR NOSTR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HO RELEASED TWO ROCK OPERA  ALBUMS: "TOMMY"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GARITHMIC SCALE IS USED TO MEASURE SOUND INTEN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DAY IN 1963 WAS PRESIDENT JOHN F. KENNEDY KI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IDIARY OF COMCAST IS THE OLDEST SURVIVING FILM STUDIO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COMMERCIALS SAID "FOUR OUT OF FIVE DENTISTS SURVEYED RECOMMEND SUGARLESS GUM FOR THEIR PATIENTS WHO CHEW GU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4T22:58:04Z</dcterms:created>
  <dc:creator>Jennifer Budzinski</dc:creator>
  <dc:description/>
  <dc:language>en-US</dc:language>
  <cp:lastModifiedBy>Erich Friedman</cp:lastModifiedBy>
  <dcterms:modified xsi:type="dcterms:W3CDTF">2020-08-27T23:26:37Z</dcterms:modified>
  <cp:revision>428</cp:revision>
  <dc:subject/>
  <dc:title>Slide 1</dc:title>
</cp:coreProperties>
</file>