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B51A-DE22-43E9-866F-12B6FA0E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6F4A-5E3C-4BB0-9846-AE482DE8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3CB6-3B54-4D12-B088-7623EF08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FA8C-299A-4CAC-8BCF-BBD967A3A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677-2B4C-4518-851C-657A56BAA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AF95-AC2A-43C5-A3B2-371AC2B93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0CC1-82DD-4E2D-8924-3FDB082A5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0DB3-D3B4-4A70-B027-04D17A0B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3DB76-CA55-47B9-85CE-931BF1AA2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BF54-E30B-441F-AEF7-04AAF8189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62EC-8A12-4B77-ADDE-7F01EC699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0858-B8FB-4F5A-9886-517ACD5EB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317C-F5DC-4720-A917-8E9084700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3E03-E694-454D-9139-B656824C0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4777-5C82-4C56-BC4C-D17F172C6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7534-F355-4F10-BEF1-FAE0D2A61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CA5E-6222-4EC3-BF81-B6FECC601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B2C5-71C6-47D7-9CB6-194683871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B77C-F639-4223-B27B-CE54CF3DD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0560-3E71-4A0A-98C1-28F95E8DD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763F-A56A-47E0-92F7-55DB58CC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0E23-FF12-4D1A-AA84-79F549EF5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F83A-6F57-4BB6-81FB-699A3578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THE NAME, WHAT ARTHROPODS HAVE BETWEEN 30 AND 354 LE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AVIA  SPE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OSCARS 3 TIMES FOR PLAYING 60'S WOMEN, IN "THE HELP", "HIDDEN FIGURES", AND "THE SHAPE OF WA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VEHICLE TYP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P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RTILAGE WALL BETWEEN YOUR NOSTR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DROPH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O RELEASED TWO ROCK OPERA  ALBUMS: "TOMMY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IB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GARITHMIC SCALE IS USED TO MEASURE SOUND INTEN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MBER  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963 WAS PRESIDENT JOHN F. KENNEDY KI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AL  PI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IDIARY OF COMCAST IS THE OLDEST SURVIVING FILM STUDIO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NOMINATED FOR OSCARS 3 TIMES FOR PLAYING 60'S WOMEN, IN "THE HELP", "HIDDEN FIGURES", AND "THE SHAPE OF WA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DENT  G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MMERCIALS SAID "FOUR OUT OF FIVE DENTISTS SURVEYED RECOMMEND SUGARLESS GUM FOR THEIR PATIENTS WHO CHEW G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IPE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PITE THE NAME, WHAT ARTHROPODS HAVE BETWEEN 30 AND 354 LE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BEGIN  WITH  ROMAN PREFIXES  FOR 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VEHICLE TYP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RTILAGE WALL BETWEEN YOUR NOSTR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O RELEASED TWO ROCK OPERA  ALBUMS: "TOMMY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GARITHMIC SCALE IS USED TO MEASURE SOUND INTEN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DAY IN 1963 WAS PRESIDENT JOHN F. KENNEDY KI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IDIARY OF COMCAST IS THE OLDEST SURVIVING FILM STUDIO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MMERCIALS SAID "FOUR OUT OF FIVE DENTISTS SURVEYED RECOMMEND SUGARLESS GUM FOR THEIR PATIENTS WHO CHEW G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4T22:58:04Z</dcterms:created>
  <dc:creator>Jennifer Budzinski</dc:creator>
  <dc:description/>
  <dc:language>en-US</dc:language>
  <cp:lastModifiedBy>Erich Friedman</cp:lastModifiedBy>
  <dcterms:modified xsi:type="dcterms:W3CDTF">2020-08-27T23:26:37Z</dcterms:modified>
  <cp:revision>428</cp:revision>
  <dc:subject/>
  <dc:title>Slide 1</dc:title>
</cp:coreProperties>
</file>