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B1B-8CB2-4EF7-9793-32ACEDF47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AE9-075E-47E6-BD50-ABCCEC4A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F212-910E-4C37-8D55-B356CF97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3C3-2573-4140-B026-E11AE87E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C3B-E77D-467B-B6CD-1A2EDB2A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9C54-6A56-417B-9DA0-EBBFA0B7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386-E7B6-41AE-951F-ECC430E9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6314-0E28-4BF2-AC4F-D6037867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8E3-9449-4E49-B025-33110094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201-F3A1-401D-A449-AA1F8769A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73B-88B4-4B8B-AC7C-38760007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6174-042F-4650-81F9-B9F0FC98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6D6-9B0B-47B7-B1C5-B0867B97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74A-9FE9-4FFF-A27F-64589904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A0C-3DE8-4ADD-B21C-FA6DF632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860-DE80-419A-9F5D-840A2AFB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FD4-81CB-422A-9A57-80D91671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8DB-0D08-4005-ABD7-D44E6048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1B89-8FDD-4F6B-AEBB-C82F7E09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4354-47C0-43CA-AE01-D1AE43A1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5FF-16DD-47FF-8E0C-D0115315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C7C8-337E-4121-B4D5-3186322F9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2C5-065A-4F0F-BB93-76DA16B5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(BYE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(CH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1604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S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AMERICAN  PI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4:22:02Z</dcterms:created>
  <dc:creator>Jennifer Budzinski</dc:creator>
  <dc:description/>
  <dc:language>en-US</dc:language>
  <cp:lastModifiedBy>Erich Friedman</cp:lastModifiedBy>
  <dcterms:modified xsi:type="dcterms:W3CDTF">2020-08-27T23:27:41Z</dcterms:modified>
  <cp:revision>432</cp:revision>
  <dc:subject/>
  <dc:title>Slide 1</dc:title>
</cp:coreProperties>
</file>