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C35C-641E-48AD-8147-77F6EB28B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AB69-0CAF-4A61-A9E0-1DD3D920B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7537-B41E-4FF1-84D4-DF1D79625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273D-A531-4E0E-ACB2-BA7AC0671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0360-AC15-4B00-9B46-9A00553B3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3056-A251-41D6-A39B-24868951D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2F31-B7AD-47E5-829C-FBCE0B4FD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0745-6758-4776-ADD4-E3AE2BCBB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C472-226D-46BF-9515-029DC6373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2C25-3340-45F4-937D-00BBC6F65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420C-B2C6-49D7-A147-18A36AA32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E358-11CA-4BE0-A4C0-69BFB19EA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65B6-7987-4CD3-8828-CADC87995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928F-0466-4594-AAED-A9836A392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5532-46A6-4356-8309-B0E0A14CE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C4B7-A90F-4646-A1A9-C28BD6628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6F00-3245-4247-A0BA-CA736E879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0162-48AA-4665-AC4F-A791D8310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B00F-D884-4018-9369-D2309E3DD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BF43-BED4-47B8-80BB-8C2E55EC9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7FBE-551A-4397-A28B-918BF02A9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8E91-39BA-4BEF-B277-F044472BC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C525-3A4F-4D53-A456-1BC379EFE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ORSE IN THE BOOK AND FILM "NATIONAL VELV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-LETTER ABBREVIATION OF THE POOREST U.S.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E  (BYE  LO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24000" y="762120"/>
            <a:ext cx="849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PEATED WORD IN THE TITLE OF THE 1959 SINGLE BY THE EVERLY BROTHERS THAT ALSO TOPPED THE COUNTRY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Y  (CH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1604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 OF THE ACTOR WHO PLAYED CLARK GRISWOLD IN 5 "NATIONAL LAMPOON VACATION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S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VOLUME, THE MOST POPULAR LIQUOR IN THE U.S. IS VODKA.  WHAT IS THE MOST POPULAR BY S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00200" y="762120"/>
            <a:ext cx="5943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AD GETS ITS FLAVOR FROM CARAWAY SEE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RE SLIGHTLY MORE COMMON AT BIRTH, BOYS OR GIR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ST GRADE OF A COIN, IF ONLY AROUND 10% OF THE MAJOR DESIGN DETAILS ARE REMAI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-LETTER ABBREVIATION OF THE POOREST U.S.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EAGUE ARE THE NEW YORK YANKEES AND THE BOSTON RED SOX IN, NATIONAL OR AMERIC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ORSE IN THE BOOK AND FILM "NATIONAL VELV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09760" y="434340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THE  CHORUS  OF  "AMERICAN  PI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PEATED WORD IN THE TITLE OF THE 1959 SINGLE BY THE EVERLY BROTHERS THAT ALSO TOPPED THE COUNTRY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 OF THE ACTOR WHO PLAYED CLARK GRISWOLD IN 5 "NATIONAL LAMPOON VACATION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VOLUME, THE MOST POPULAR LIQUOR IN THE U.S. IS VODKA.  WHAT IS THE MOST POPULAR BY S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81120" y="762120"/>
            <a:ext cx="5981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AD GETS ITS FLAVOR FROM CARAWAY SEE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RE SLIGHTLY MORE COMMON AT BIRTH, BOYS OR GIR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ST GRADE OF A COIN, IF ONLY AROUND 10% OF THE MAJOR DESIGN DETAILS ARE REMAI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EAGUE ARE THE NEW YORK YANKEES AND THE BOSTON RED SOX IN, NATIONAL OR AMERIC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5T14:22:02Z</dcterms:created>
  <dc:creator>Jennifer Budzinski</dc:creator>
  <dc:description/>
  <dc:language>en-US</dc:language>
  <cp:lastModifiedBy>Erich Friedman</cp:lastModifiedBy>
  <dcterms:modified xsi:type="dcterms:W3CDTF">2020-08-27T23:27:41Z</dcterms:modified>
  <cp:revision>432</cp:revision>
  <dc:subject/>
  <dc:title>Slide 1</dc:title>
</cp:coreProperties>
</file>