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2C6E-5845-431C-9F2E-7A5AACD8C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BF29-E39D-4AF7-ABA5-E795A866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23EE-0390-41BF-8D0E-852FACCC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1CBF-582B-4A18-85AF-F9F00C921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4D4-10D6-49AE-AF9B-D09952EAA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D11-1BA6-4325-B59D-9000D258C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9F23-D5A0-4412-BD28-6450D14B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0F35-D5A6-4BAB-A651-BF3014E74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67C0-5881-4B29-B39F-FDF5A45F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EEDA-698E-443F-895E-97BC18AA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C4B9-9E61-4954-806E-DBA49E62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2010-004E-4488-B0F5-EF57245A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091F-783D-41EE-826E-A70EBAC09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EA4-8AE8-4012-8290-C4CBF7B4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335-02ED-4349-8AAB-BBEDEFB6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319-F7FC-4649-8EA8-EA52C086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561-1718-45F6-A457-E2ED5026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1420-E576-488A-ADD3-ECA4D4D4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42C1-8432-4A76-A16F-72C8A21D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D427-410E-4736-8D2B-BD4C47DB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CE9-7486-4E8D-A5BA-FD72CF2F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AD63-DDA6-47C4-A39D-B89FF7D7F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2B7-E345-40F4-92C3-61F63CFC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IN THE BOOK AND FILM "NATIONAL VELV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ABBREVIATION OF THE POORES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(BYE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24000" y="762120"/>
            <a:ext cx="84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1959 SINGLE BY THE EVERLY BROTHERS THAT ALSO TOPPED THE COUNTRY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(CH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1604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ACTOR WHO PLAYED CLARK GRISWOLD IN 5 "NATIONAL LAMPOON VACATI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S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VOLUME, THE MOST POPULAR LIQUOR IN THE U.S. IS VODKA.  WHAT IS THE MOST POPULAR BY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00200" y="762120"/>
            <a:ext cx="59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GETS ITS FLAVOR FROM CARAWAY S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SLIGHTLY MORE COMMON AT BIRTH, BOYS 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ST GRADE OF A COIN, IF ONLY AROUND 10% OF THE MAJOR DESIGN DETAILS ARE REM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ABBREVIATION OF THE POOREST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AGUE ARE THE NEW YORK YANKEES AND THE BOSTON RED SOX IN, NATIONAL OR AMERIC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IN THE BOOK AND FILM "NATIONAL VELV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CHORUS  OF  "AMERICAN  PI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1959 SINGLE BY THE EVERLY BROTHERS THAT ALSO TOPPED THE COUNTRY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ACTOR WHO PLAYED CLARK GRISWOLD IN 5 "NATIONAL LAMPOON VACATI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VOLUME, THE MOST POPULAR LIQUOR IN THE U.S. IS VODKA.  WHAT IS THE MOST POPULAR BY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GETS ITS FLAVOR FROM CARAWAY SEE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SLIGHTLY MORE COMMON AT BIRTH, BOYS 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ST GRADE OF A COIN, IF ONLY AROUND 10% OF THE MAJOR DESIGN DETAILS ARE REMAI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AGUE ARE THE NEW YORK YANKEES AND THE BOSTON RED SOX IN, NATIONAL OR AMERIC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14:22:02Z</dcterms:created>
  <dc:creator>Jennifer Budzinski</dc:creator>
  <dc:description/>
  <dc:language>en-US</dc:language>
  <cp:lastModifiedBy>Erich Friedman</cp:lastModifiedBy>
  <dcterms:modified xsi:type="dcterms:W3CDTF">2020-08-27T23:27:41Z</dcterms:modified>
  <cp:revision>432</cp:revision>
  <dc:subject/>
  <dc:title>Slide 1</dc:title>
</cp:coreProperties>
</file>